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5880" y="2286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Click mouse to contin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593640"/>
            <a:ext cx="7696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ROWING 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FACTOR  TR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505320" y="2362320"/>
            <a:ext cx="20192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447920"/>
            <a:ext cx="1828800" cy="33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n we grow a tree of the factors of 180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343400" y="990720"/>
            <a:ext cx="533520" cy="99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3352680" y="990720"/>
            <a:ext cx="533520" cy="914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81280" y="3808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685800"/>
            <a:ext cx="2514600" cy="523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you think of on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ACTOR PAI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180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should be two numbers that multiply together to gi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t 18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457200"/>
            <a:ext cx="2514600" cy="59799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might see that 180 is a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VEN NUMB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that means that 2 is a factor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 x  = 18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380880"/>
            <a:ext cx="2590560" cy="6343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might notice that 180 has a ZERO in its ONES PLACE which means it is a multiple of 1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…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 x  = 1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304920"/>
            <a:ext cx="2590560" cy="6435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might notice that 180 has a ZERO in its ONES PLACE which means it is a multiple of 1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…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 x  = 1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0 x 18 = 1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2819520" y="1828800"/>
            <a:ext cx="2514600" cy="779760"/>
            <a:chOff x="2819520" y="1828800"/>
            <a:chExt cx="2514600" cy="779760"/>
          </a:xfrm>
        </p:grpSpPr>
        <p:sp>
          <p:nvSpPr>
            <p:cNvPr id="52" name=""/>
            <p:cNvSpPr/>
            <p:nvPr/>
          </p:nvSpPr>
          <p:spPr>
            <a:xfrm>
              <a:off x="2819520" y="1905120"/>
              <a:ext cx="76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182880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Times New Roman"/>
                </a:rPr>
                <a:t>18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flipH="1">
            <a:off x="4419720" y="2514600"/>
            <a:ext cx="304560" cy="9144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3400" y="990720"/>
            <a:ext cx="533520" cy="99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666520" y="2514600"/>
            <a:ext cx="304920" cy="9144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352680" y="990720"/>
            <a:ext cx="533520" cy="914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81280" y="3808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819520" y="1828800"/>
            <a:ext cx="2514600" cy="779760"/>
            <a:chOff x="2819520" y="1828800"/>
            <a:chExt cx="2514600" cy="779760"/>
          </a:xfrm>
        </p:grpSpPr>
        <p:sp>
          <p:nvSpPr>
            <p:cNvPr id="60" name=""/>
            <p:cNvSpPr/>
            <p:nvPr/>
          </p:nvSpPr>
          <p:spPr>
            <a:xfrm>
              <a:off x="2819520" y="1905120"/>
              <a:ext cx="76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572000" y="182880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Times New Roman"/>
                </a:rPr>
                <a:t>18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5029200" y="2438280"/>
            <a:ext cx="533520" cy="10670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2514600"/>
            <a:ext cx="304560" cy="9144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6380280" y="4267080"/>
            <a:ext cx="2458800" cy="2358720"/>
            <a:chOff x="6380280" y="4267080"/>
            <a:chExt cx="2458800" cy="2358720"/>
          </a:xfrm>
        </p:grpSpPr>
        <p:grpSp>
          <p:nvGrpSpPr>
            <p:cNvPr id="65" name=""/>
            <p:cNvGrpSpPr/>
            <p:nvPr/>
          </p:nvGrpSpPr>
          <p:grpSpPr>
            <a:xfrm>
              <a:off x="6399000" y="4281120"/>
              <a:ext cx="2439720" cy="2344680"/>
              <a:chOff x="6399000" y="4281120"/>
              <a:chExt cx="2439720" cy="2344680"/>
            </a:xfrm>
          </p:grpSpPr>
          <p:sp>
            <p:nvSpPr>
              <p:cNvPr id="66" name=""/>
              <p:cNvSpPr/>
              <p:nvPr/>
            </p:nvSpPr>
            <p:spPr>
              <a:xfrm flipV="1">
                <a:off x="6399000" y="4280760"/>
                <a:ext cx="2439720" cy="2344680"/>
              </a:xfrm>
              <a:custGeom>
                <a:avLst/>
                <a:gdLst/>
                <a:ahLst/>
                <a:rect l="l" t="t" r="r" b="b"/>
                <a:pathLst>
                  <a:path w="3072" h="2953">
                    <a:moveTo>
                      <a:pt x="999" y="2928"/>
                    </a:moveTo>
                    <a:lnTo>
                      <a:pt x="1133" y="2844"/>
                    </a:lnTo>
                    <a:lnTo>
                      <a:pt x="1192" y="2769"/>
                    </a:lnTo>
                    <a:lnTo>
                      <a:pt x="1226" y="2693"/>
                    </a:lnTo>
                    <a:lnTo>
                      <a:pt x="1242" y="2601"/>
                    </a:lnTo>
                    <a:lnTo>
                      <a:pt x="1259" y="2509"/>
                    </a:lnTo>
                    <a:lnTo>
                      <a:pt x="1268" y="2408"/>
                    </a:lnTo>
                    <a:lnTo>
                      <a:pt x="1276" y="2299"/>
                    </a:lnTo>
                    <a:lnTo>
                      <a:pt x="1293" y="2097"/>
                    </a:lnTo>
                    <a:lnTo>
                      <a:pt x="1301" y="1929"/>
                    </a:lnTo>
                    <a:lnTo>
                      <a:pt x="1301" y="1812"/>
                    </a:lnTo>
                    <a:lnTo>
                      <a:pt x="1293" y="1736"/>
                    </a:lnTo>
                    <a:lnTo>
                      <a:pt x="1242" y="1661"/>
                    </a:lnTo>
                    <a:lnTo>
                      <a:pt x="1192" y="1644"/>
                    </a:lnTo>
                    <a:lnTo>
                      <a:pt x="1117" y="1611"/>
                    </a:lnTo>
                    <a:lnTo>
                      <a:pt x="1016" y="1611"/>
                    </a:lnTo>
                    <a:lnTo>
                      <a:pt x="865" y="1577"/>
                    </a:lnTo>
                    <a:lnTo>
                      <a:pt x="848" y="1577"/>
                    </a:lnTo>
                    <a:lnTo>
                      <a:pt x="756" y="1544"/>
                    </a:lnTo>
                    <a:lnTo>
                      <a:pt x="587" y="1519"/>
                    </a:lnTo>
                    <a:lnTo>
                      <a:pt x="461" y="1502"/>
                    </a:lnTo>
                    <a:lnTo>
                      <a:pt x="327" y="1460"/>
                    </a:lnTo>
                    <a:lnTo>
                      <a:pt x="176" y="1460"/>
                    </a:lnTo>
                    <a:lnTo>
                      <a:pt x="0" y="1477"/>
                    </a:lnTo>
                    <a:lnTo>
                      <a:pt x="251" y="1447"/>
                    </a:lnTo>
                    <a:lnTo>
                      <a:pt x="293" y="1426"/>
                    </a:lnTo>
                    <a:lnTo>
                      <a:pt x="314" y="1397"/>
                    </a:lnTo>
                    <a:lnTo>
                      <a:pt x="327" y="1326"/>
                    </a:lnTo>
                    <a:lnTo>
                      <a:pt x="293" y="1175"/>
                    </a:lnTo>
                    <a:lnTo>
                      <a:pt x="285" y="1066"/>
                    </a:lnTo>
                    <a:lnTo>
                      <a:pt x="344" y="1317"/>
                    </a:lnTo>
                    <a:lnTo>
                      <a:pt x="352" y="1384"/>
                    </a:lnTo>
                    <a:lnTo>
                      <a:pt x="381" y="1414"/>
                    </a:lnTo>
                    <a:lnTo>
                      <a:pt x="419" y="1435"/>
                    </a:lnTo>
                    <a:lnTo>
                      <a:pt x="461" y="1451"/>
                    </a:lnTo>
                    <a:lnTo>
                      <a:pt x="595" y="1468"/>
                    </a:lnTo>
                    <a:lnTo>
                      <a:pt x="713" y="1468"/>
                    </a:lnTo>
                    <a:lnTo>
                      <a:pt x="654" y="1414"/>
                    </a:lnTo>
                    <a:lnTo>
                      <a:pt x="587" y="1317"/>
                    </a:lnTo>
                    <a:lnTo>
                      <a:pt x="537" y="1217"/>
                    </a:lnTo>
                    <a:lnTo>
                      <a:pt x="461" y="1041"/>
                    </a:lnTo>
                    <a:lnTo>
                      <a:pt x="578" y="1242"/>
                    </a:lnTo>
                    <a:lnTo>
                      <a:pt x="641" y="1326"/>
                    </a:lnTo>
                    <a:lnTo>
                      <a:pt x="704" y="1389"/>
                    </a:lnTo>
                    <a:lnTo>
                      <a:pt x="773" y="1443"/>
                    </a:lnTo>
                    <a:lnTo>
                      <a:pt x="882" y="1493"/>
                    </a:lnTo>
                    <a:lnTo>
                      <a:pt x="982" y="1502"/>
                    </a:lnTo>
                    <a:lnTo>
                      <a:pt x="1091" y="1510"/>
                    </a:lnTo>
                    <a:lnTo>
                      <a:pt x="1209" y="1493"/>
                    </a:lnTo>
                    <a:lnTo>
                      <a:pt x="1110" y="1468"/>
                    </a:lnTo>
                    <a:lnTo>
                      <a:pt x="1065" y="1447"/>
                    </a:lnTo>
                    <a:lnTo>
                      <a:pt x="1016" y="1411"/>
                    </a:lnTo>
                    <a:lnTo>
                      <a:pt x="968" y="1362"/>
                    </a:lnTo>
                    <a:lnTo>
                      <a:pt x="851" y="1330"/>
                    </a:lnTo>
                    <a:lnTo>
                      <a:pt x="770" y="1299"/>
                    </a:lnTo>
                    <a:lnTo>
                      <a:pt x="711" y="1275"/>
                    </a:lnTo>
                    <a:lnTo>
                      <a:pt x="672" y="1257"/>
                    </a:lnTo>
                    <a:lnTo>
                      <a:pt x="644" y="1241"/>
                    </a:lnTo>
                    <a:lnTo>
                      <a:pt x="619" y="1221"/>
                    </a:lnTo>
                    <a:lnTo>
                      <a:pt x="601" y="1203"/>
                    </a:lnTo>
                    <a:lnTo>
                      <a:pt x="632" y="1224"/>
                    </a:lnTo>
                    <a:lnTo>
                      <a:pt x="660" y="1241"/>
                    </a:lnTo>
                    <a:lnTo>
                      <a:pt x="690" y="1253"/>
                    </a:lnTo>
                    <a:lnTo>
                      <a:pt x="739" y="1267"/>
                    </a:lnTo>
                    <a:lnTo>
                      <a:pt x="787" y="1282"/>
                    </a:lnTo>
                    <a:lnTo>
                      <a:pt x="838" y="1295"/>
                    </a:lnTo>
                    <a:lnTo>
                      <a:pt x="879" y="1303"/>
                    </a:lnTo>
                    <a:lnTo>
                      <a:pt x="906" y="1305"/>
                    </a:lnTo>
                    <a:lnTo>
                      <a:pt x="927" y="1308"/>
                    </a:lnTo>
                    <a:lnTo>
                      <a:pt x="890" y="1259"/>
                    </a:lnTo>
                    <a:lnTo>
                      <a:pt x="864" y="1215"/>
                    </a:lnTo>
                    <a:lnTo>
                      <a:pt x="822" y="1146"/>
                    </a:lnTo>
                    <a:lnTo>
                      <a:pt x="790" y="1087"/>
                    </a:lnTo>
                    <a:lnTo>
                      <a:pt x="764" y="1024"/>
                    </a:lnTo>
                    <a:lnTo>
                      <a:pt x="729" y="982"/>
                    </a:lnTo>
                    <a:lnTo>
                      <a:pt x="629" y="915"/>
                    </a:lnTo>
                    <a:lnTo>
                      <a:pt x="545" y="873"/>
                    </a:lnTo>
                    <a:lnTo>
                      <a:pt x="713" y="932"/>
                    </a:lnTo>
                    <a:lnTo>
                      <a:pt x="662" y="785"/>
                    </a:lnTo>
                    <a:lnTo>
                      <a:pt x="595" y="629"/>
                    </a:lnTo>
                    <a:lnTo>
                      <a:pt x="679" y="789"/>
                    </a:lnTo>
                    <a:lnTo>
                      <a:pt x="700" y="840"/>
                    </a:lnTo>
                    <a:lnTo>
                      <a:pt x="721" y="873"/>
                    </a:lnTo>
                    <a:lnTo>
                      <a:pt x="764" y="936"/>
                    </a:lnTo>
                    <a:lnTo>
                      <a:pt x="823" y="1024"/>
                    </a:lnTo>
                    <a:lnTo>
                      <a:pt x="868" y="1105"/>
                    </a:lnTo>
                    <a:lnTo>
                      <a:pt x="893" y="1150"/>
                    </a:lnTo>
                    <a:lnTo>
                      <a:pt x="974" y="1259"/>
                    </a:lnTo>
                    <a:lnTo>
                      <a:pt x="941" y="974"/>
                    </a:lnTo>
                    <a:lnTo>
                      <a:pt x="907" y="865"/>
                    </a:lnTo>
                    <a:lnTo>
                      <a:pt x="865" y="781"/>
                    </a:lnTo>
                    <a:lnTo>
                      <a:pt x="806" y="679"/>
                    </a:lnTo>
                    <a:lnTo>
                      <a:pt x="882" y="764"/>
                    </a:lnTo>
                    <a:lnTo>
                      <a:pt x="848" y="369"/>
                    </a:lnTo>
                    <a:lnTo>
                      <a:pt x="865" y="251"/>
                    </a:lnTo>
                    <a:lnTo>
                      <a:pt x="873" y="419"/>
                    </a:lnTo>
                    <a:lnTo>
                      <a:pt x="924" y="331"/>
                    </a:lnTo>
                    <a:lnTo>
                      <a:pt x="1058" y="226"/>
                    </a:lnTo>
                    <a:lnTo>
                      <a:pt x="932" y="348"/>
                    </a:lnTo>
                    <a:lnTo>
                      <a:pt x="882" y="444"/>
                    </a:lnTo>
                    <a:lnTo>
                      <a:pt x="907" y="679"/>
                    </a:lnTo>
                    <a:lnTo>
                      <a:pt x="932" y="806"/>
                    </a:lnTo>
                    <a:lnTo>
                      <a:pt x="974" y="940"/>
                    </a:lnTo>
                    <a:lnTo>
                      <a:pt x="1008" y="1141"/>
                    </a:lnTo>
                    <a:lnTo>
                      <a:pt x="1024" y="1259"/>
                    </a:lnTo>
                    <a:lnTo>
                      <a:pt x="1050" y="1309"/>
                    </a:lnTo>
                    <a:lnTo>
                      <a:pt x="1089" y="1342"/>
                    </a:lnTo>
                    <a:lnTo>
                      <a:pt x="1132" y="1365"/>
                    </a:lnTo>
                    <a:lnTo>
                      <a:pt x="1173" y="1375"/>
                    </a:lnTo>
                    <a:lnTo>
                      <a:pt x="1217" y="1368"/>
                    </a:lnTo>
                    <a:lnTo>
                      <a:pt x="1150" y="1200"/>
                    </a:lnTo>
                    <a:lnTo>
                      <a:pt x="1104" y="1112"/>
                    </a:lnTo>
                    <a:lnTo>
                      <a:pt x="1087" y="1049"/>
                    </a:lnTo>
                    <a:lnTo>
                      <a:pt x="1079" y="995"/>
                    </a:lnTo>
                    <a:lnTo>
                      <a:pt x="1075" y="932"/>
                    </a:lnTo>
                    <a:lnTo>
                      <a:pt x="1033" y="831"/>
                    </a:lnTo>
                    <a:lnTo>
                      <a:pt x="1104" y="932"/>
                    </a:lnTo>
                    <a:lnTo>
                      <a:pt x="1108" y="890"/>
                    </a:lnTo>
                    <a:lnTo>
                      <a:pt x="1066" y="671"/>
                    </a:lnTo>
                    <a:lnTo>
                      <a:pt x="1062" y="599"/>
                    </a:lnTo>
                    <a:lnTo>
                      <a:pt x="1066" y="541"/>
                    </a:lnTo>
                    <a:lnTo>
                      <a:pt x="1087" y="453"/>
                    </a:lnTo>
                    <a:lnTo>
                      <a:pt x="1138" y="314"/>
                    </a:lnTo>
                    <a:lnTo>
                      <a:pt x="1192" y="176"/>
                    </a:lnTo>
                    <a:lnTo>
                      <a:pt x="1100" y="478"/>
                    </a:lnTo>
                    <a:lnTo>
                      <a:pt x="1284" y="184"/>
                    </a:lnTo>
                    <a:lnTo>
                      <a:pt x="1146" y="440"/>
                    </a:lnTo>
                    <a:lnTo>
                      <a:pt x="1112" y="541"/>
                    </a:lnTo>
                    <a:lnTo>
                      <a:pt x="1104" y="608"/>
                    </a:lnTo>
                    <a:lnTo>
                      <a:pt x="1142" y="823"/>
                    </a:lnTo>
                    <a:lnTo>
                      <a:pt x="1146" y="949"/>
                    </a:lnTo>
                    <a:lnTo>
                      <a:pt x="1150" y="1024"/>
                    </a:lnTo>
                    <a:lnTo>
                      <a:pt x="1175" y="1104"/>
                    </a:lnTo>
                    <a:lnTo>
                      <a:pt x="1209" y="1166"/>
                    </a:lnTo>
                    <a:lnTo>
                      <a:pt x="1247" y="1242"/>
                    </a:lnTo>
                    <a:lnTo>
                      <a:pt x="1272" y="1305"/>
                    </a:lnTo>
                    <a:lnTo>
                      <a:pt x="1312" y="1389"/>
                    </a:lnTo>
                    <a:lnTo>
                      <a:pt x="1303" y="1338"/>
                    </a:lnTo>
                    <a:lnTo>
                      <a:pt x="1294" y="1282"/>
                    </a:lnTo>
                    <a:lnTo>
                      <a:pt x="1301" y="1007"/>
                    </a:lnTo>
                    <a:lnTo>
                      <a:pt x="1276" y="969"/>
                    </a:lnTo>
                    <a:lnTo>
                      <a:pt x="1263" y="932"/>
                    </a:lnTo>
                    <a:lnTo>
                      <a:pt x="1247" y="873"/>
                    </a:lnTo>
                    <a:lnTo>
                      <a:pt x="1221" y="777"/>
                    </a:lnTo>
                    <a:lnTo>
                      <a:pt x="1184" y="675"/>
                    </a:lnTo>
                    <a:lnTo>
                      <a:pt x="1255" y="819"/>
                    </a:lnTo>
                    <a:lnTo>
                      <a:pt x="1276" y="881"/>
                    </a:lnTo>
                    <a:lnTo>
                      <a:pt x="1305" y="923"/>
                    </a:lnTo>
                    <a:lnTo>
                      <a:pt x="1305" y="641"/>
                    </a:lnTo>
                    <a:lnTo>
                      <a:pt x="1301" y="461"/>
                    </a:lnTo>
                    <a:lnTo>
                      <a:pt x="1280" y="302"/>
                    </a:lnTo>
                    <a:lnTo>
                      <a:pt x="1314" y="411"/>
                    </a:lnTo>
                    <a:lnTo>
                      <a:pt x="1351" y="293"/>
                    </a:lnTo>
                    <a:lnTo>
                      <a:pt x="1377" y="222"/>
                    </a:lnTo>
                    <a:lnTo>
                      <a:pt x="1465" y="29"/>
                    </a:lnTo>
                    <a:lnTo>
                      <a:pt x="1410" y="180"/>
                    </a:lnTo>
                    <a:lnTo>
                      <a:pt x="1377" y="277"/>
                    </a:lnTo>
                    <a:lnTo>
                      <a:pt x="1356" y="356"/>
                    </a:lnTo>
                    <a:lnTo>
                      <a:pt x="1339" y="423"/>
                    </a:lnTo>
                    <a:lnTo>
                      <a:pt x="1343" y="578"/>
                    </a:lnTo>
                    <a:lnTo>
                      <a:pt x="1406" y="461"/>
                    </a:lnTo>
                    <a:lnTo>
                      <a:pt x="1431" y="390"/>
                    </a:lnTo>
                    <a:lnTo>
                      <a:pt x="1456" y="306"/>
                    </a:lnTo>
                    <a:lnTo>
                      <a:pt x="1481" y="222"/>
                    </a:lnTo>
                    <a:lnTo>
                      <a:pt x="1498" y="138"/>
                    </a:lnTo>
                    <a:lnTo>
                      <a:pt x="1528" y="0"/>
                    </a:lnTo>
                    <a:lnTo>
                      <a:pt x="1507" y="168"/>
                    </a:lnTo>
                    <a:lnTo>
                      <a:pt x="1498" y="230"/>
                    </a:lnTo>
                    <a:lnTo>
                      <a:pt x="1473" y="323"/>
                    </a:lnTo>
                    <a:lnTo>
                      <a:pt x="1444" y="423"/>
                    </a:lnTo>
                    <a:lnTo>
                      <a:pt x="1414" y="507"/>
                    </a:lnTo>
                    <a:lnTo>
                      <a:pt x="1377" y="595"/>
                    </a:lnTo>
                    <a:lnTo>
                      <a:pt x="1368" y="781"/>
                    </a:lnTo>
                    <a:lnTo>
                      <a:pt x="1385" y="999"/>
                    </a:lnTo>
                    <a:lnTo>
                      <a:pt x="1385" y="1301"/>
                    </a:lnTo>
                    <a:lnTo>
                      <a:pt x="1419" y="1443"/>
                    </a:lnTo>
                    <a:lnTo>
                      <a:pt x="1435" y="1295"/>
                    </a:lnTo>
                    <a:lnTo>
                      <a:pt x="1448" y="1194"/>
                    </a:lnTo>
                    <a:lnTo>
                      <a:pt x="1461" y="1112"/>
                    </a:lnTo>
                    <a:lnTo>
                      <a:pt x="1481" y="993"/>
                    </a:lnTo>
                    <a:lnTo>
                      <a:pt x="1507" y="907"/>
                    </a:lnTo>
                    <a:lnTo>
                      <a:pt x="1544" y="805"/>
                    </a:lnTo>
                    <a:lnTo>
                      <a:pt x="1477" y="598"/>
                    </a:lnTo>
                    <a:lnTo>
                      <a:pt x="1511" y="661"/>
                    </a:lnTo>
                    <a:lnTo>
                      <a:pt x="1536" y="719"/>
                    </a:lnTo>
                    <a:lnTo>
                      <a:pt x="1561" y="767"/>
                    </a:lnTo>
                    <a:lnTo>
                      <a:pt x="1645" y="633"/>
                    </a:lnTo>
                    <a:lnTo>
                      <a:pt x="1674" y="564"/>
                    </a:lnTo>
                    <a:lnTo>
                      <a:pt x="1662" y="386"/>
                    </a:lnTo>
                    <a:lnTo>
                      <a:pt x="1704" y="553"/>
                    </a:lnTo>
                    <a:lnTo>
                      <a:pt x="1922" y="210"/>
                    </a:lnTo>
                    <a:lnTo>
                      <a:pt x="1989" y="84"/>
                    </a:lnTo>
                    <a:lnTo>
                      <a:pt x="1913" y="285"/>
                    </a:lnTo>
                    <a:lnTo>
                      <a:pt x="1737" y="603"/>
                    </a:lnTo>
                    <a:lnTo>
                      <a:pt x="2152" y="331"/>
                    </a:lnTo>
                    <a:lnTo>
                      <a:pt x="1737" y="637"/>
                    </a:lnTo>
                    <a:lnTo>
                      <a:pt x="1662" y="773"/>
                    </a:lnTo>
                    <a:lnTo>
                      <a:pt x="1603" y="881"/>
                    </a:lnTo>
                    <a:lnTo>
                      <a:pt x="1570" y="1024"/>
                    </a:lnTo>
                    <a:lnTo>
                      <a:pt x="1536" y="1234"/>
                    </a:lnTo>
                    <a:lnTo>
                      <a:pt x="1515" y="1426"/>
                    </a:lnTo>
                    <a:lnTo>
                      <a:pt x="1557" y="1278"/>
                    </a:lnTo>
                    <a:lnTo>
                      <a:pt x="1591" y="1215"/>
                    </a:lnTo>
                    <a:lnTo>
                      <a:pt x="1637" y="1150"/>
                    </a:lnTo>
                    <a:lnTo>
                      <a:pt x="1700" y="1073"/>
                    </a:lnTo>
                    <a:lnTo>
                      <a:pt x="1737" y="1027"/>
                    </a:lnTo>
                    <a:lnTo>
                      <a:pt x="1771" y="978"/>
                    </a:lnTo>
                    <a:lnTo>
                      <a:pt x="1775" y="918"/>
                    </a:lnTo>
                    <a:lnTo>
                      <a:pt x="1779" y="729"/>
                    </a:lnTo>
                    <a:lnTo>
                      <a:pt x="1792" y="863"/>
                    </a:lnTo>
                    <a:lnTo>
                      <a:pt x="1804" y="914"/>
                    </a:lnTo>
                    <a:lnTo>
                      <a:pt x="1830" y="932"/>
                    </a:lnTo>
                    <a:lnTo>
                      <a:pt x="1884" y="838"/>
                    </a:lnTo>
                    <a:lnTo>
                      <a:pt x="1934" y="759"/>
                    </a:lnTo>
                    <a:lnTo>
                      <a:pt x="1972" y="696"/>
                    </a:lnTo>
                    <a:lnTo>
                      <a:pt x="2022" y="623"/>
                    </a:lnTo>
                    <a:lnTo>
                      <a:pt x="2106" y="536"/>
                    </a:lnTo>
                    <a:lnTo>
                      <a:pt x="2194" y="461"/>
                    </a:lnTo>
                    <a:lnTo>
                      <a:pt x="2190" y="212"/>
                    </a:lnTo>
                    <a:lnTo>
                      <a:pt x="2215" y="443"/>
                    </a:lnTo>
                    <a:lnTo>
                      <a:pt x="2372" y="369"/>
                    </a:lnTo>
                    <a:lnTo>
                      <a:pt x="2531" y="298"/>
                    </a:lnTo>
                    <a:lnTo>
                      <a:pt x="2317" y="426"/>
                    </a:lnTo>
                    <a:lnTo>
                      <a:pt x="2456" y="514"/>
                    </a:lnTo>
                    <a:lnTo>
                      <a:pt x="2291" y="439"/>
                    </a:lnTo>
                    <a:lnTo>
                      <a:pt x="2232" y="481"/>
                    </a:lnTo>
                    <a:lnTo>
                      <a:pt x="2165" y="549"/>
                    </a:lnTo>
                    <a:lnTo>
                      <a:pt x="2102" y="616"/>
                    </a:lnTo>
                    <a:lnTo>
                      <a:pt x="2056" y="678"/>
                    </a:lnTo>
                    <a:lnTo>
                      <a:pt x="2018" y="738"/>
                    </a:lnTo>
                    <a:lnTo>
                      <a:pt x="1985" y="813"/>
                    </a:lnTo>
                    <a:lnTo>
                      <a:pt x="1968" y="869"/>
                    </a:lnTo>
                    <a:lnTo>
                      <a:pt x="2027" y="859"/>
                    </a:lnTo>
                    <a:lnTo>
                      <a:pt x="2094" y="838"/>
                    </a:lnTo>
                    <a:lnTo>
                      <a:pt x="2169" y="814"/>
                    </a:lnTo>
                    <a:lnTo>
                      <a:pt x="2257" y="775"/>
                    </a:lnTo>
                    <a:lnTo>
                      <a:pt x="2334" y="747"/>
                    </a:lnTo>
                    <a:lnTo>
                      <a:pt x="2389" y="724"/>
                    </a:lnTo>
                    <a:lnTo>
                      <a:pt x="2447" y="690"/>
                    </a:lnTo>
                    <a:lnTo>
                      <a:pt x="2481" y="648"/>
                    </a:lnTo>
                    <a:lnTo>
                      <a:pt x="2506" y="602"/>
                    </a:lnTo>
                    <a:lnTo>
                      <a:pt x="2498" y="648"/>
                    </a:lnTo>
                    <a:lnTo>
                      <a:pt x="2477" y="687"/>
                    </a:lnTo>
                    <a:lnTo>
                      <a:pt x="2439" y="719"/>
                    </a:lnTo>
                    <a:lnTo>
                      <a:pt x="2347" y="775"/>
                    </a:lnTo>
                    <a:lnTo>
                      <a:pt x="2261" y="821"/>
                    </a:lnTo>
                    <a:lnTo>
                      <a:pt x="2182" y="856"/>
                    </a:lnTo>
                    <a:lnTo>
                      <a:pt x="2123" y="880"/>
                    </a:lnTo>
                    <a:lnTo>
                      <a:pt x="2060" y="907"/>
                    </a:lnTo>
                    <a:lnTo>
                      <a:pt x="1981" y="932"/>
                    </a:lnTo>
                    <a:lnTo>
                      <a:pt x="1913" y="974"/>
                    </a:lnTo>
                    <a:lnTo>
                      <a:pt x="1855" y="1024"/>
                    </a:lnTo>
                    <a:lnTo>
                      <a:pt x="1788" y="1108"/>
                    </a:lnTo>
                    <a:lnTo>
                      <a:pt x="1708" y="1211"/>
                    </a:lnTo>
                    <a:lnTo>
                      <a:pt x="1670" y="1280"/>
                    </a:lnTo>
                    <a:lnTo>
                      <a:pt x="1645" y="1324"/>
                    </a:lnTo>
                    <a:lnTo>
                      <a:pt x="1628" y="1379"/>
                    </a:lnTo>
                    <a:lnTo>
                      <a:pt x="1616" y="1456"/>
                    </a:lnTo>
                    <a:lnTo>
                      <a:pt x="1708" y="1389"/>
                    </a:lnTo>
                    <a:lnTo>
                      <a:pt x="1754" y="1354"/>
                    </a:lnTo>
                    <a:lnTo>
                      <a:pt x="1779" y="1324"/>
                    </a:lnTo>
                    <a:lnTo>
                      <a:pt x="1800" y="1278"/>
                    </a:lnTo>
                    <a:lnTo>
                      <a:pt x="1825" y="1194"/>
                    </a:lnTo>
                    <a:lnTo>
                      <a:pt x="1846" y="1106"/>
                    </a:lnTo>
                    <a:lnTo>
                      <a:pt x="1884" y="1048"/>
                    </a:lnTo>
                    <a:lnTo>
                      <a:pt x="1863" y="1102"/>
                    </a:lnTo>
                    <a:lnTo>
                      <a:pt x="1846" y="1165"/>
                    </a:lnTo>
                    <a:lnTo>
                      <a:pt x="1838" y="1224"/>
                    </a:lnTo>
                    <a:lnTo>
                      <a:pt x="1830" y="1282"/>
                    </a:lnTo>
                    <a:lnTo>
                      <a:pt x="1830" y="1308"/>
                    </a:lnTo>
                    <a:lnTo>
                      <a:pt x="1838" y="1333"/>
                    </a:lnTo>
                    <a:lnTo>
                      <a:pt x="1888" y="1338"/>
                    </a:lnTo>
                    <a:lnTo>
                      <a:pt x="1997" y="1296"/>
                    </a:lnTo>
                    <a:lnTo>
                      <a:pt x="2115" y="1254"/>
                    </a:lnTo>
                    <a:lnTo>
                      <a:pt x="2299" y="1192"/>
                    </a:lnTo>
                    <a:lnTo>
                      <a:pt x="2347" y="1169"/>
                    </a:lnTo>
                    <a:lnTo>
                      <a:pt x="2397" y="1140"/>
                    </a:lnTo>
                    <a:lnTo>
                      <a:pt x="2426" y="1074"/>
                    </a:lnTo>
                    <a:lnTo>
                      <a:pt x="2473" y="861"/>
                    </a:lnTo>
                    <a:lnTo>
                      <a:pt x="2443" y="1133"/>
                    </a:lnTo>
                    <a:lnTo>
                      <a:pt x="2464" y="1140"/>
                    </a:lnTo>
                    <a:lnTo>
                      <a:pt x="2494" y="1123"/>
                    </a:lnTo>
                    <a:lnTo>
                      <a:pt x="2556" y="981"/>
                    </a:lnTo>
                    <a:lnTo>
                      <a:pt x="2540" y="1056"/>
                    </a:lnTo>
                    <a:lnTo>
                      <a:pt x="2527" y="1098"/>
                    </a:lnTo>
                    <a:lnTo>
                      <a:pt x="2552" y="1106"/>
                    </a:lnTo>
                    <a:lnTo>
                      <a:pt x="2590" y="1090"/>
                    </a:lnTo>
                    <a:lnTo>
                      <a:pt x="2619" y="1048"/>
                    </a:lnTo>
                    <a:lnTo>
                      <a:pt x="2712" y="961"/>
                    </a:lnTo>
                    <a:lnTo>
                      <a:pt x="2644" y="1035"/>
                    </a:lnTo>
                    <a:lnTo>
                      <a:pt x="2624" y="1077"/>
                    </a:lnTo>
                    <a:lnTo>
                      <a:pt x="2615" y="1115"/>
                    </a:lnTo>
                    <a:lnTo>
                      <a:pt x="2661" y="1152"/>
                    </a:lnTo>
                    <a:lnTo>
                      <a:pt x="2598" y="1136"/>
                    </a:lnTo>
                    <a:lnTo>
                      <a:pt x="2561" y="1146"/>
                    </a:lnTo>
                    <a:lnTo>
                      <a:pt x="2494" y="1165"/>
                    </a:lnTo>
                    <a:lnTo>
                      <a:pt x="2514" y="1186"/>
                    </a:lnTo>
                    <a:lnTo>
                      <a:pt x="2544" y="1232"/>
                    </a:lnTo>
                    <a:lnTo>
                      <a:pt x="2582" y="1341"/>
                    </a:lnTo>
                    <a:lnTo>
                      <a:pt x="2523" y="1241"/>
                    </a:lnTo>
                    <a:lnTo>
                      <a:pt x="2494" y="1207"/>
                    </a:lnTo>
                    <a:lnTo>
                      <a:pt x="2464" y="1190"/>
                    </a:lnTo>
                    <a:lnTo>
                      <a:pt x="2426" y="1192"/>
                    </a:lnTo>
                    <a:lnTo>
                      <a:pt x="2303" y="1234"/>
                    </a:lnTo>
                    <a:lnTo>
                      <a:pt x="2190" y="1275"/>
                    </a:lnTo>
                    <a:lnTo>
                      <a:pt x="2085" y="1308"/>
                    </a:lnTo>
                    <a:lnTo>
                      <a:pt x="1997" y="1342"/>
                    </a:lnTo>
                    <a:lnTo>
                      <a:pt x="1926" y="1379"/>
                    </a:lnTo>
                    <a:lnTo>
                      <a:pt x="1846" y="1422"/>
                    </a:lnTo>
                    <a:lnTo>
                      <a:pt x="1771" y="1471"/>
                    </a:lnTo>
                    <a:lnTo>
                      <a:pt x="1725" y="1510"/>
                    </a:lnTo>
                    <a:lnTo>
                      <a:pt x="1683" y="1552"/>
                    </a:lnTo>
                    <a:lnTo>
                      <a:pt x="1863" y="1560"/>
                    </a:lnTo>
                    <a:lnTo>
                      <a:pt x="2018" y="1548"/>
                    </a:lnTo>
                    <a:lnTo>
                      <a:pt x="2245" y="1519"/>
                    </a:lnTo>
                    <a:lnTo>
                      <a:pt x="2414" y="1493"/>
                    </a:lnTo>
                    <a:lnTo>
                      <a:pt x="2498" y="1479"/>
                    </a:lnTo>
                    <a:lnTo>
                      <a:pt x="2544" y="1463"/>
                    </a:lnTo>
                    <a:lnTo>
                      <a:pt x="2594" y="1443"/>
                    </a:lnTo>
                    <a:lnTo>
                      <a:pt x="2644" y="1417"/>
                    </a:lnTo>
                    <a:lnTo>
                      <a:pt x="2728" y="1349"/>
                    </a:lnTo>
                    <a:lnTo>
                      <a:pt x="2833" y="1242"/>
                    </a:lnTo>
                    <a:lnTo>
                      <a:pt x="2737" y="1362"/>
                    </a:lnTo>
                    <a:lnTo>
                      <a:pt x="2678" y="1417"/>
                    </a:lnTo>
                    <a:lnTo>
                      <a:pt x="2624" y="1460"/>
                    </a:lnTo>
                    <a:lnTo>
                      <a:pt x="2733" y="1454"/>
                    </a:lnTo>
                    <a:lnTo>
                      <a:pt x="2808" y="1433"/>
                    </a:lnTo>
                    <a:lnTo>
                      <a:pt x="2867" y="1404"/>
                    </a:lnTo>
                    <a:lnTo>
                      <a:pt x="2925" y="1379"/>
                    </a:lnTo>
                    <a:lnTo>
                      <a:pt x="3001" y="1345"/>
                    </a:lnTo>
                    <a:lnTo>
                      <a:pt x="3072" y="1329"/>
                    </a:lnTo>
                    <a:lnTo>
                      <a:pt x="3001" y="1362"/>
                    </a:lnTo>
                    <a:lnTo>
                      <a:pt x="2942" y="1396"/>
                    </a:lnTo>
                    <a:lnTo>
                      <a:pt x="2884" y="1425"/>
                    </a:lnTo>
                    <a:lnTo>
                      <a:pt x="2837" y="1450"/>
                    </a:lnTo>
                    <a:lnTo>
                      <a:pt x="2783" y="1471"/>
                    </a:lnTo>
                    <a:lnTo>
                      <a:pt x="2863" y="1479"/>
                    </a:lnTo>
                    <a:lnTo>
                      <a:pt x="2913" y="1471"/>
                    </a:lnTo>
                    <a:lnTo>
                      <a:pt x="2972" y="1458"/>
                    </a:lnTo>
                    <a:lnTo>
                      <a:pt x="3030" y="1442"/>
                    </a:lnTo>
                    <a:lnTo>
                      <a:pt x="2963" y="1485"/>
                    </a:lnTo>
                    <a:lnTo>
                      <a:pt x="2892" y="1496"/>
                    </a:lnTo>
                    <a:lnTo>
                      <a:pt x="2812" y="1496"/>
                    </a:lnTo>
                    <a:lnTo>
                      <a:pt x="2678" y="1506"/>
                    </a:lnTo>
                    <a:lnTo>
                      <a:pt x="2636" y="1513"/>
                    </a:lnTo>
                    <a:lnTo>
                      <a:pt x="2686" y="1534"/>
                    </a:lnTo>
                    <a:lnTo>
                      <a:pt x="2766" y="1546"/>
                    </a:lnTo>
                    <a:lnTo>
                      <a:pt x="2833" y="1551"/>
                    </a:lnTo>
                    <a:lnTo>
                      <a:pt x="2976" y="1556"/>
                    </a:lnTo>
                    <a:lnTo>
                      <a:pt x="2816" y="1567"/>
                    </a:lnTo>
                    <a:lnTo>
                      <a:pt x="2745" y="1567"/>
                    </a:lnTo>
                    <a:lnTo>
                      <a:pt x="2682" y="1559"/>
                    </a:lnTo>
                    <a:lnTo>
                      <a:pt x="2636" y="1546"/>
                    </a:lnTo>
                    <a:lnTo>
                      <a:pt x="2569" y="1527"/>
                    </a:lnTo>
                    <a:lnTo>
                      <a:pt x="2405" y="1560"/>
                    </a:lnTo>
                    <a:lnTo>
                      <a:pt x="2157" y="1611"/>
                    </a:lnTo>
                    <a:lnTo>
                      <a:pt x="2194" y="1655"/>
                    </a:lnTo>
                    <a:lnTo>
                      <a:pt x="2266" y="1753"/>
                    </a:lnTo>
                    <a:lnTo>
                      <a:pt x="2119" y="1623"/>
                    </a:lnTo>
                    <a:lnTo>
                      <a:pt x="2131" y="1685"/>
                    </a:lnTo>
                    <a:lnTo>
                      <a:pt x="2123" y="1743"/>
                    </a:lnTo>
                    <a:lnTo>
                      <a:pt x="2115" y="1785"/>
                    </a:lnTo>
                    <a:lnTo>
                      <a:pt x="2098" y="1844"/>
                    </a:lnTo>
                    <a:lnTo>
                      <a:pt x="2060" y="1928"/>
                    </a:lnTo>
                    <a:lnTo>
                      <a:pt x="1964" y="2080"/>
                    </a:lnTo>
                    <a:lnTo>
                      <a:pt x="2027" y="1949"/>
                    </a:lnTo>
                    <a:lnTo>
                      <a:pt x="2060" y="1865"/>
                    </a:lnTo>
                    <a:lnTo>
                      <a:pt x="2085" y="1785"/>
                    </a:lnTo>
                    <a:lnTo>
                      <a:pt x="2081" y="1743"/>
                    </a:lnTo>
                    <a:lnTo>
                      <a:pt x="2077" y="1676"/>
                    </a:lnTo>
                    <a:lnTo>
                      <a:pt x="2064" y="1647"/>
                    </a:lnTo>
                    <a:lnTo>
                      <a:pt x="2043" y="1627"/>
                    </a:lnTo>
                    <a:lnTo>
                      <a:pt x="1930" y="1636"/>
                    </a:lnTo>
                    <a:lnTo>
                      <a:pt x="1825" y="1664"/>
                    </a:lnTo>
                    <a:lnTo>
                      <a:pt x="1767" y="1695"/>
                    </a:lnTo>
                    <a:lnTo>
                      <a:pt x="1725" y="1722"/>
                    </a:lnTo>
                    <a:lnTo>
                      <a:pt x="1695" y="1757"/>
                    </a:lnTo>
                    <a:lnTo>
                      <a:pt x="1670" y="1812"/>
                    </a:lnTo>
                    <a:lnTo>
                      <a:pt x="1670" y="1904"/>
                    </a:lnTo>
                    <a:lnTo>
                      <a:pt x="1670" y="2038"/>
                    </a:lnTo>
                    <a:lnTo>
                      <a:pt x="1662" y="2156"/>
                    </a:lnTo>
                    <a:lnTo>
                      <a:pt x="1662" y="2266"/>
                    </a:lnTo>
                    <a:lnTo>
                      <a:pt x="1662" y="2392"/>
                    </a:lnTo>
                    <a:lnTo>
                      <a:pt x="1662" y="2492"/>
                    </a:lnTo>
                    <a:lnTo>
                      <a:pt x="1687" y="2593"/>
                    </a:lnTo>
                    <a:lnTo>
                      <a:pt x="1721" y="2685"/>
                    </a:lnTo>
                    <a:lnTo>
                      <a:pt x="1779" y="2802"/>
                    </a:lnTo>
                    <a:lnTo>
                      <a:pt x="1838" y="2869"/>
                    </a:lnTo>
                    <a:lnTo>
                      <a:pt x="1897" y="2903"/>
                    </a:lnTo>
                    <a:lnTo>
                      <a:pt x="1997" y="2945"/>
                    </a:lnTo>
                    <a:lnTo>
                      <a:pt x="1863" y="2928"/>
                    </a:lnTo>
                    <a:lnTo>
                      <a:pt x="1737" y="2886"/>
                    </a:lnTo>
                    <a:lnTo>
                      <a:pt x="1662" y="2869"/>
                    </a:lnTo>
                    <a:lnTo>
                      <a:pt x="1603" y="2869"/>
                    </a:lnTo>
                    <a:lnTo>
                      <a:pt x="1561" y="2911"/>
                    </a:lnTo>
                    <a:lnTo>
                      <a:pt x="1528" y="2895"/>
                    </a:lnTo>
                    <a:lnTo>
                      <a:pt x="1461" y="2886"/>
                    </a:lnTo>
                    <a:lnTo>
                      <a:pt x="1402" y="2903"/>
                    </a:lnTo>
                    <a:lnTo>
                      <a:pt x="1343" y="2936"/>
                    </a:lnTo>
                    <a:lnTo>
                      <a:pt x="1301" y="2953"/>
                    </a:lnTo>
                    <a:lnTo>
                      <a:pt x="1301" y="2911"/>
                    </a:lnTo>
                    <a:lnTo>
                      <a:pt x="1276" y="2895"/>
                    </a:lnTo>
                    <a:lnTo>
                      <a:pt x="1217" y="2895"/>
                    </a:lnTo>
                    <a:lnTo>
                      <a:pt x="1167" y="2911"/>
                    </a:lnTo>
                    <a:lnTo>
                      <a:pt x="1150" y="2911"/>
                    </a:lnTo>
                    <a:lnTo>
                      <a:pt x="999" y="2928"/>
                    </a:lnTo>
                    <a:close/>
                  </a:path>
                </a:pathLst>
              </a:custGeom>
              <a:solidFill>
                <a:srgbClr val="7f5f3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V="1">
                <a:off x="7352640" y="4341240"/>
                <a:ext cx="464760" cy="1212840"/>
              </a:xfrm>
              <a:custGeom>
                <a:avLst/>
                <a:gdLst/>
                <a:ahLst/>
                <a:rect l="l" t="t" r="r" b="b"/>
                <a:pathLst>
                  <a:path w="587" h="1527">
                    <a:moveTo>
                      <a:pt x="8" y="201"/>
                    </a:moveTo>
                    <a:lnTo>
                      <a:pt x="58" y="235"/>
                    </a:lnTo>
                    <a:lnTo>
                      <a:pt x="100" y="285"/>
                    </a:lnTo>
                    <a:lnTo>
                      <a:pt x="125" y="369"/>
                    </a:lnTo>
                    <a:lnTo>
                      <a:pt x="150" y="561"/>
                    </a:lnTo>
                    <a:lnTo>
                      <a:pt x="142" y="796"/>
                    </a:lnTo>
                    <a:lnTo>
                      <a:pt x="142" y="1015"/>
                    </a:lnTo>
                    <a:lnTo>
                      <a:pt x="142" y="1158"/>
                    </a:lnTo>
                    <a:lnTo>
                      <a:pt x="125" y="1275"/>
                    </a:lnTo>
                    <a:lnTo>
                      <a:pt x="83" y="1401"/>
                    </a:lnTo>
                    <a:lnTo>
                      <a:pt x="0" y="1510"/>
                    </a:lnTo>
                    <a:lnTo>
                      <a:pt x="100" y="1393"/>
                    </a:lnTo>
                    <a:lnTo>
                      <a:pt x="150" y="1275"/>
                    </a:lnTo>
                    <a:lnTo>
                      <a:pt x="167" y="1259"/>
                    </a:lnTo>
                    <a:lnTo>
                      <a:pt x="159" y="1393"/>
                    </a:lnTo>
                    <a:lnTo>
                      <a:pt x="142" y="1502"/>
                    </a:lnTo>
                    <a:lnTo>
                      <a:pt x="159" y="1443"/>
                    </a:lnTo>
                    <a:lnTo>
                      <a:pt x="184" y="1292"/>
                    </a:lnTo>
                    <a:lnTo>
                      <a:pt x="184" y="1183"/>
                    </a:lnTo>
                    <a:lnTo>
                      <a:pt x="184" y="1124"/>
                    </a:lnTo>
                    <a:lnTo>
                      <a:pt x="209" y="990"/>
                    </a:lnTo>
                    <a:lnTo>
                      <a:pt x="209" y="873"/>
                    </a:lnTo>
                    <a:lnTo>
                      <a:pt x="201" y="779"/>
                    </a:lnTo>
                    <a:lnTo>
                      <a:pt x="192" y="654"/>
                    </a:lnTo>
                    <a:lnTo>
                      <a:pt x="176" y="536"/>
                    </a:lnTo>
                    <a:lnTo>
                      <a:pt x="176" y="436"/>
                    </a:lnTo>
                    <a:lnTo>
                      <a:pt x="218" y="310"/>
                    </a:lnTo>
                    <a:lnTo>
                      <a:pt x="226" y="486"/>
                    </a:lnTo>
                    <a:lnTo>
                      <a:pt x="226" y="561"/>
                    </a:lnTo>
                    <a:lnTo>
                      <a:pt x="234" y="679"/>
                    </a:lnTo>
                    <a:lnTo>
                      <a:pt x="243" y="737"/>
                    </a:lnTo>
                    <a:lnTo>
                      <a:pt x="251" y="855"/>
                    </a:lnTo>
                    <a:lnTo>
                      <a:pt x="251" y="990"/>
                    </a:lnTo>
                    <a:lnTo>
                      <a:pt x="251" y="1116"/>
                    </a:lnTo>
                    <a:lnTo>
                      <a:pt x="243" y="1217"/>
                    </a:lnTo>
                    <a:lnTo>
                      <a:pt x="226" y="1326"/>
                    </a:lnTo>
                    <a:lnTo>
                      <a:pt x="226" y="1409"/>
                    </a:lnTo>
                    <a:lnTo>
                      <a:pt x="234" y="1477"/>
                    </a:lnTo>
                    <a:lnTo>
                      <a:pt x="251" y="1376"/>
                    </a:lnTo>
                    <a:lnTo>
                      <a:pt x="260" y="1443"/>
                    </a:lnTo>
                    <a:lnTo>
                      <a:pt x="293" y="1502"/>
                    </a:lnTo>
                    <a:lnTo>
                      <a:pt x="327" y="1527"/>
                    </a:lnTo>
                    <a:lnTo>
                      <a:pt x="318" y="1451"/>
                    </a:lnTo>
                    <a:lnTo>
                      <a:pt x="301" y="1317"/>
                    </a:lnTo>
                    <a:lnTo>
                      <a:pt x="293" y="1133"/>
                    </a:lnTo>
                    <a:lnTo>
                      <a:pt x="276" y="990"/>
                    </a:lnTo>
                    <a:lnTo>
                      <a:pt x="276" y="890"/>
                    </a:lnTo>
                    <a:lnTo>
                      <a:pt x="268" y="771"/>
                    </a:lnTo>
                    <a:lnTo>
                      <a:pt x="268" y="645"/>
                    </a:lnTo>
                    <a:lnTo>
                      <a:pt x="268" y="545"/>
                    </a:lnTo>
                    <a:lnTo>
                      <a:pt x="293" y="436"/>
                    </a:lnTo>
                    <a:lnTo>
                      <a:pt x="410" y="209"/>
                    </a:lnTo>
                    <a:lnTo>
                      <a:pt x="369" y="352"/>
                    </a:lnTo>
                    <a:lnTo>
                      <a:pt x="335" y="427"/>
                    </a:lnTo>
                    <a:lnTo>
                      <a:pt x="318" y="503"/>
                    </a:lnTo>
                    <a:lnTo>
                      <a:pt x="318" y="553"/>
                    </a:lnTo>
                    <a:lnTo>
                      <a:pt x="318" y="612"/>
                    </a:lnTo>
                    <a:lnTo>
                      <a:pt x="318" y="687"/>
                    </a:lnTo>
                    <a:lnTo>
                      <a:pt x="318" y="746"/>
                    </a:lnTo>
                    <a:lnTo>
                      <a:pt x="318" y="838"/>
                    </a:lnTo>
                    <a:lnTo>
                      <a:pt x="327" y="965"/>
                    </a:lnTo>
                    <a:lnTo>
                      <a:pt x="335" y="1057"/>
                    </a:lnTo>
                    <a:lnTo>
                      <a:pt x="352" y="1150"/>
                    </a:lnTo>
                    <a:lnTo>
                      <a:pt x="360" y="1242"/>
                    </a:lnTo>
                    <a:lnTo>
                      <a:pt x="369" y="1326"/>
                    </a:lnTo>
                    <a:lnTo>
                      <a:pt x="402" y="1384"/>
                    </a:lnTo>
                    <a:lnTo>
                      <a:pt x="444" y="1435"/>
                    </a:lnTo>
                    <a:lnTo>
                      <a:pt x="503" y="1468"/>
                    </a:lnTo>
                    <a:lnTo>
                      <a:pt x="587" y="1493"/>
                    </a:lnTo>
                    <a:lnTo>
                      <a:pt x="478" y="1418"/>
                    </a:lnTo>
                    <a:lnTo>
                      <a:pt x="427" y="1334"/>
                    </a:lnTo>
                    <a:lnTo>
                      <a:pt x="394" y="1259"/>
                    </a:lnTo>
                    <a:lnTo>
                      <a:pt x="385" y="1166"/>
                    </a:lnTo>
                    <a:lnTo>
                      <a:pt x="369" y="1032"/>
                    </a:lnTo>
                    <a:lnTo>
                      <a:pt x="360" y="907"/>
                    </a:lnTo>
                    <a:lnTo>
                      <a:pt x="352" y="779"/>
                    </a:lnTo>
                    <a:lnTo>
                      <a:pt x="369" y="654"/>
                    </a:lnTo>
                    <a:lnTo>
                      <a:pt x="369" y="561"/>
                    </a:lnTo>
                    <a:lnTo>
                      <a:pt x="394" y="478"/>
                    </a:lnTo>
                    <a:lnTo>
                      <a:pt x="427" y="385"/>
                    </a:lnTo>
                    <a:lnTo>
                      <a:pt x="452" y="302"/>
                    </a:lnTo>
                    <a:lnTo>
                      <a:pt x="528" y="243"/>
                    </a:lnTo>
                    <a:lnTo>
                      <a:pt x="419" y="293"/>
                    </a:lnTo>
                    <a:lnTo>
                      <a:pt x="478" y="134"/>
                    </a:lnTo>
                    <a:lnTo>
                      <a:pt x="385" y="201"/>
                    </a:lnTo>
                    <a:lnTo>
                      <a:pt x="327" y="268"/>
                    </a:lnTo>
                    <a:lnTo>
                      <a:pt x="293" y="360"/>
                    </a:lnTo>
                    <a:lnTo>
                      <a:pt x="268" y="402"/>
                    </a:lnTo>
                    <a:lnTo>
                      <a:pt x="251" y="293"/>
                    </a:lnTo>
                    <a:lnTo>
                      <a:pt x="285" y="159"/>
                    </a:lnTo>
                    <a:lnTo>
                      <a:pt x="285" y="75"/>
                    </a:lnTo>
                    <a:lnTo>
                      <a:pt x="285" y="0"/>
                    </a:lnTo>
                    <a:lnTo>
                      <a:pt x="251" y="176"/>
                    </a:lnTo>
                    <a:lnTo>
                      <a:pt x="234" y="251"/>
                    </a:lnTo>
                    <a:lnTo>
                      <a:pt x="209" y="293"/>
                    </a:lnTo>
                    <a:lnTo>
                      <a:pt x="167" y="327"/>
                    </a:lnTo>
                    <a:lnTo>
                      <a:pt x="142" y="268"/>
                    </a:lnTo>
                    <a:lnTo>
                      <a:pt x="8" y="201"/>
                    </a:lnTo>
                    <a:close/>
                  </a:path>
                </a:pathLst>
              </a:cu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 flipV="1">
              <a:off x="6380280" y="4267080"/>
              <a:ext cx="2458800" cy="241200"/>
            </a:xfrm>
            <a:custGeom>
              <a:avLst/>
              <a:gdLst/>
              <a:ahLst/>
              <a:rect l="l" t="t" r="r" b="b"/>
              <a:pathLst>
                <a:path w="3097" h="303">
                  <a:moveTo>
                    <a:pt x="167" y="252"/>
                  </a:moveTo>
                  <a:lnTo>
                    <a:pt x="318" y="227"/>
                  </a:lnTo>
                  <a:lnTo>
                    <a:pt x="452" y="227"/>
                  </a:lnTo>
                  <a:lnTo>
                    <a:pt x="603" y="227"/>
                  </a:lnTo>
                  <a:lnTo>
                    <a:pt x="721" y="193"/>
                  </a:lnTo>
                  <a:lnTo>
                    <a:pt x="798" y="185"/>
                  </a:lnTo>
                  <a:lnTo>
                    <a:pt x="890" y="168"/>
                  </a:lnTo>
                  <a:lnTo>
                    <a:pt x="957" y="126"/>
                  </a:lnTo>
                  <a:lnTo>
                    <a:pt x="1049" y="126"/>
                  </a:lnTo>
                  <a:lnTo>
                    <a:pt x="1111" y="122"/>
                  </a:lnTo>
                  <a:lnTo>
                    <a:pt x="1158" y="109"/>
                  </a:lnTo>
                  <a:lnTo>
                    <a:pt x="1185" y="108"/>
                  </a:lnTo>
                  <a:lnTo>
                    <a:pt x="1214" y="99"/>
                  </a:lnTo>
                  <a:lnTo>
                    <a:pt x="1244" y="88"/>
                  </a:lnTo>
                  <a:lnTo>
                    <a:pt x="1263" y="73"/>
                  </a:lnTo>
                  <a:lnTo>
                    <a:pt x="1301" y="34"/>
                  </a:lnTo>
                  <a:lnTo>
                    <a:pt x="1298" y="80"/>
                  </a:lnTo>
                  <a:lnTo>
                    <a:pt x="1309" y="109"/>
                  </a:lnTo>
                  <a:lnTo>
                    <a:pt x="1332" y="116"/>
                  </a:lnTo>
                  <a:lnTo>
                    <a:pt x="1349" y="97"/>
                  </a:lnTo>
                  <a:lnTo>
                    <a:pt x="1368" y="76"/>
                  </a:lnTo>
                  <a:lnTo>
                    <a:pt x="1396" y="99"/>
                  </a:lnTo>
                  <a:lnTo>
                    <a:pt x="1427" y="101"/>
                  </a:lnTo>
                  <a:lnTo>
                    <a:pt x="1451" y="92"/>
                  </a:lnTo>
                  <a:lnTo>
                    <a:pt x="1477" y="67"/>
                  </a:lnTo>
                  <a:lnTo>
                    <a:pt x="1488" y="38"/>
                  </a:lnTo>
                  <a:lnTo>
                    <a:pt x="1486" y="0"/>
                  </a:lnTo>
                  <a:lnTo>
                    <a:pt x="1544" y="42"/>
                  </a:lnTo>
                  <a:lnTo>
                    <a:pt x="1568" y="74"/>
                  </a:lnTo>
                  <a:lnTo>
                    <a:pt x="1592" y="92"/>
                  </a:lnTo>
                  <a:lnTo>
                    <a:pt x="1620" y="109"/>
                  </a:lnTo>
                  <a:lnTo>
                    <a:pt x="1656" y="122"/>
                  </a:lnTo>
                  <a:lnTo>
                    <a:pt x="1687" y="126"/>
                  </a:lnTo>
                  <a:lnTo>
                    <a:pt x="1694" y="105"/>
                  </a:lnTo>
                  <a:lnTo>
                    <a:pt x="1698" y="78"/>
                  </a:lnTo>
                  <a:lnTo>
                    <a:pt x="1697" y="46"/>
                  </a:lnTo>
                  <a:lnTo>
                    <a:pt x="1740" y="84"/>
                  </a:lnTo>
                  <a:lnTo>
                    <a:pt x="1748" y="63"/>
                  </a:lnTo>
                  <a:lnTo>
                    <a:pt x="1744" y="13"/>
                  </a:lnTo>
                  <a:lnTo>
                    <a:pt x="1782" y="53"/>
                  </a:lnTo>
                  <a:lnTo>
                    <a:pt x="1807" y="78"/>
                  </a:lnTo>
                  <a:lnTo>
                    <a:pt x="1832" y="95"/>
                  </a:lnTo>
                  <a:lnTo>
                    <a:pt x="1884" y="113"/>
                  </a:lnTo>
                  <a:lnTo>
                    <a:pt x="2022" y="151"/>
                  </a:lnTo>
                  <a:lnTo>
                    <a:pt x="2140" y="160"/>
                  </a:lnTo>
                  <a:lnTo>
                    <a:pt x="2274" y="185"/>
                  </a:lnTo>
                  <a:lnTo>
                    <a:pt x="2418" y="201"/>
                  </a:lnTo>
                  <a:lnTo>
                    <a:pt x="2535" y="210"/>
                  </a:lnTo>
                  <a:lnTo>
                    <a:pt x="2636" y="210"/>
                  </a:lnTo>
                  <a:lnTo>
                    <a:pt x="2795" y="227"/>
                  </a:lnTo>
                  <a:lnTo>
                    <a:pt x="2913" y="260"/>
                  </a:lnTo>
                  <a:lnTo>
                    <a:pt x="3022" y="268"/>
                  </a:lnTo>
                  <a:lnTo>
                    <a:pt x="3097" y="303"/>
                  </a:lnTo>
                  <a:lnTo>
                    <a:pt x="0" y="303"/>
                  </a:lnTo>
                  <a:lnTo>
                    <a:pt x="167" y="252"/>
                  </a:lnTo>
                  <a:close/>
                </a:path>
              </a:pathLst>
            </a:custGeom>
            <a:solidFill>
              <a:srgbClr val="b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7029360" y="5403600"/>
              <a:ext cx="382320" cy="85680"/>
            </a:xfrm>
            <a:custGeom>
              <a:avLst/>
              <a:gdLst/>
              <a:ahLst/>
              <a:rect l="l" t="t" r="r" b="b"/>
              <a:pathLst>
                <a:path w="482" h="109">
                  <a:moveTo>
                    <a:pt x="0" y="21"/>
                  </a:moveTo>
                  <a:lnTo>
                    <a:pt x="37" y="50"/>
                  </a:lnTo>
                  <a:lnTo>
                    <a:pt x="71" y="80"/>
                  </a:lnTo>
                  <a:lnTo>
                    <a:pt x="79" y="100"/>
                  </a:lnTo>
                  <a:lnTo>
                    <a:pt x="105" y="105"/>
                  </a:lnTo>
                  <a:lnTo>
                    <a:pt x="147" y="92"/>
                  </a:lnTo>
                  <a:lnTo>
                    <a:pt x="163" y="96"/>
                  </a:lnTo>
                  <a:lnTo>
                    <a:pt x="188" y="105"/>
                  </a:lnTo>
                  <a:lnTo>
                    <a:pt x="214" y="109"/>
                  </a:lnTo>
                  <a:lnTo>
                    <a:pt x="239" y="105"/>
                  </a:lnTo>
                  <a:lnTo>
                    <a:pt x="264" y="105"/>
                  </a:lnTo>
                  <a:lnTo>
                    <a:pt x="293" y="92"/>
                  </a:lnTo>
                  <a:lnTo>
                    <a:pt x="327" y="92"/>
                  </a:lnTo>
                  <a:lnTo>
                    <a:pt x="369" y="92"/>
                  </a:lnTo>
                  <a:lnTo>
                    <a:pt x="411" y="88"/>
                  </a:lnTo>
                  <a:lnTo>
                    <a:pt x="436" y="84"/>
                  </a:lnTo>
                  <a:lnTo>
                    <a:pt x="482" y="92"/>
                  </a:lnTo>
                  <a:lnTo>
                    <a:pt x="432" y="67"/>
                  </a:lnTo>
                  <a:lnTo>
                    <a:pt x="381" y="54"/>
                  </a:lnTo>
                  <a:lnTo>
                    <a:pt x="335" y="46"/>
                  </a:lnTo>
                  <a:lnTo>
                    <a:pt x="289" y="29"/>
                  </a:lnTo>
                  <a:lnTo>
                    <a:pt x="251" y="29"/>
                  </a:lnTo>
                  <a:lnTo>
                    <a:pt x="226" y="21"/>
                  </a:lnTo>
                  <a:lnTo>
                    <a:pt x="218" y="21"/>
                  </a:lnTo>
                  <a:lnTo>
                    <a:pt x="176" y="4"/>
                  </a:lnTo>
                  <a:lnTo>
                    <a:pt x="138" y="0"/>
                  </a:lnTo>
                  <a:lnTo>
                    <a:pt x="88" y="0"/>
                  </a:lnTo>
                  <a:lnTo>
                    <a:pt x="63" y="12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b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6672240" y="5443200"/>
              <a:ext cx="317160" cy="76320"/>
            </a:xfrm>
            <a:custGeom>
              <a:avLst/>
              <a:gdLst/>
              <a:ahLst/>
              <a:rect l="l" t="t" r="r" b="b"/>
              <a:pathLst>
                <a:path w="398" h="97">
                  <a:moveTo>
                    <a:pt x="323" y="38"/>
                  </a:moveTo>
                  <a:lnTo>
                    <a:pt x="260" y="25"/>
                  </a:lnTo>
                  <a:lnTo>
                    <a:pt x="205" y="13"/>
                  </a:lnTo>
                  <a:lnTo>
                    <a:pt x="167" y="13"/>
                  </a:lnTo>
                  <a:lnTo>
                    <a:pt x="134" y="17"/>
                  </a:lnTo>
                  <a:lnTo>
                    <a:pt x="104" y="13"/>
                  </a:lnTo>
                  <a:lnTo>
                    <a:pt x="83" y="4"/>
                  </a:lnTo>
                  <a:lnTo>
                    <a:pt x="63" y="0"/>
                  </a:lnTo>
                  <a:lnTo>
                    <a:pt x="33" y="0"/>
                  </a:lnTo>
                  <a:lnTo>
                    <a:pt x="0" y="4"/>
                  </a:lnTo>
                  <a:lnTo>
                    <a:pt x="46" y="34"/>
                  </a:lnTo>
                  <a:lnTo>
                    <a:pt x="79" y="59"/>
                  </a:lnTo>
                  <a:lnTo>
                    <a:pt x="96" y="88"/>
                  </a:lnTo>
                  <a:lnTo>
                    <a:pt x="113" y="67"/>
                  </a:lnTo>
                  <a:lnTo>
                    <a:pt x="134" y="67"/>
                  </a:lnTo>
                  <a:lnTo>
                    <a:pt x="163" y="84"/>
                  </a:lnTo>
                  <a:lnTo>
                    <a:pt x="184" y="97"/>
                  </a:lnTo>
                  <a:lnTo>
                    <a:pt x="213" y="92"/>
                  </a:lnTo>
                  <a:lnTo>
                    <a:pt x="251" y="84"/>
                  </a:lnTo>
                  <a:lnTo>
                    <a:pt x="293" y="84"/>
                  </a:lnTo>
                  <a:lnTo>
                    <a:pt x="398" y="88"/>
                  </a:lnTo>
                  <a:lnTo>
                    <a:pt x="377" y="55"/>
                  </a:lnTo>
                  <a:lnTo>
                    <a:pt x="323" y="38"/>
                  </a:lnTo>
                  <a:close/>
                </a:path>
              </a:pathLst>
            </a:custGeom>
            <a:solidFill>
              <a:srgbClr val="b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7696080" y="5337000"/>
              <a:ext cx="869400" cy="149040"/>
            </a:xfrm>
            <a:custGeom>
              <a:avLst/>
              <a:gdLst/>
              <a:ahLst/>
              <a:rect l="l" t="t" r="r" b="b"/>
              <a:pathLst>
                <a:path w="1096" h="189">
                  <a:moveTo>
                    <a:pt x="105" y="67"/>
                  </a:moveTo>
                  <a:lnTo>
                    <a:pt x="172" y="71"/>
                  </a:lnTo>
                  <a:lnTo>
                    <a:pt x="244" y="80"/>
                  </a:lnTo>
                  <a:lnTo>
                    <a:pt x="315" y="76"/>
                  </a:lnTo>
                  <a:lnTo>
                    <a:pt x="395" y="63"/>
                  </a:lnTo>
                  <a:lnTo>
                    <a:pt x="449" y="63"/>
                  </a:lnTo>
                  <a:lnTo>
                    <a:pt x="508" y="63"/>
                  </a:lnTo>
                  <a:lnTo>
                    <a:pt x="571" y="59"/>
                  </a:lnTo>
                  <a:lnTo>
                    <a:pt x="629" y="50"/>
                  </a:lnTo>
                  <a:lnTo>
                    <a:pt x="694" y="55"/>
                  </a:lnTo>
                  <a:lnTo>
                    <a:pt x="752" y="50"/>
                  </a:lnTo>
                  <a:lnTo>
                    <a:pt x="794" y="46"/>
                  </a:lnTo>
                  <a:lnTo>
                    <a:pt x="841" y="25"/>
                  </a:lnTo>
                  <a:lnTo>
                    <a:pt x="887" y="25"/>
                  </a:lnTo>
                  <a:lnTo>
                    <a:pt x="950" y="21"/>
                  </a:lnTo>
                  <a:lnTo>
                    <a:pt x="983" y="0"/>
                  </a:lnTo>
                  <a:lnTo>
                    <a:pt x="1012" y="17"/>
                  </a:lnTo>
                  <a:lnTo>
                    <a:pt x="1096" y="21"/>
                  </a:lnTo>
                  <a:lnTo>
                    <a:pt x="1029" y="42"/>
                  </a:lnTo>
                  <a:lnTo>
                    <a:pt x="1000" y="50"/>
                  </a:lnTo>
                  <a:lnTo>
                    <a:pt x="971" y="59"/>
                  </a:lnTo>
                  <a:lnTo>
                    <a:pt x="929" y="59"/>
                  </a:lnTo>
                  <a:lnTo>
                    <a:pt x="887" y="80"/>
                  </a:lnTo>
                  <a:lnTo>
                    <a:pt x="862" y="88"/>
                  </a:lnTo>
                  <a:lnTo>
                    <a:pt x="824" y="92"/>
                  </a:lnTo>
                  <a:lnTo>
                    <a:pt x="782" y="92"/>
                  </a:lnTo>
                  <a:lnTo>
                    <a:pt x="740" y="88"/>
                  </a:lnTo>
                  <a:lnTo>
                    <a:pt x="711" y="92"/>
                  </a:lnTo>
                  <a:lnTo>
                    <a:pt x="677" y="105"/>
                  </a:lnTo>
                  <a:lnTo>
                    <a:pt x="650" y="117"/>
                  </a:lnTo>
                  <a:lnTo>
                    <a:pt x="634" y="126"/>
                  </a:lnTo>
                  <a:lnTo>
                    <a:pt x="583" y="117"/>
                  </a:lnTo>
                  <a:lnTo>
                    <a:pt x="554" y="117"/>
                  </a:lnTo>
                  <a:lnTo>
                    <a:pt x="516" y="130"/>
                  </a:lnTo>
                  <a:lnTo>
                    <a:pt x="483" y="143"/>
                  </a:lnTo>
                  <a:lnTo>
                    <a:pt x="449" y="147"/>
                  </a:lnTo>
                  <a:lnTo>
                    <a:pt x="420" y="147"/>
                  </a:lnTo>
                  <a:lnTo>
                    <a:pt x="382" y="147"/>
                  </a:lnTo>
                  <a:lnTo>
                    <a:pt x="332" y="159"/>
                  </a:lnTo>
                  <a:lnTo>
                    <a:pt x="302" y="168"/>
                  </a:lnTo>
                  <a:lnTo>
                    <a:pt x="252" y="168"/>
                  </a:lnTo>
                  <a:lnTo>
                    <a:pt x="189" y="159"/>
                  </a:lnTo>
                  <a:lnTo>
                    <a:pt x="143" y="159"/>
                  </a:lnTo>
                  <a:lnTo>
                    <a:pt x="76" y="176"/>
                  </a:lnTo>
                  <a:lnTo>
                    <a:pt x="34" y="180"/>
                  </a:lnTo>
                  <a:lnTo>
                    <a:pt x="0" y="189"/>
                  </a:lnTo>
                  <a:lnTo>
                    <a:pt x="0" y="164"/>
                  </a:lnTo>
                  <a:lnTo>
                    <a:pt x="26" y="143"/>
                  </a:lnTo>
                  <a:lnTo>
                    <a:pt x="55" y="130"/>
                  </a:lnTo>
                  <a:lnTo>
                    <a:pt x="105" y="67"/>
                  </a:lnTo>
                  <a:close/>
                </a:path>
              </a:pathLst>
            </a:custGeom>
            <a:solidFill>
              <a:srgbClr val="b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6324480" y="1203480"/>
            <a:ext cx="2362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“grow” this “tree” downwards since that is how we write in English (and we can’t be sure how big it will be - we could run out of paper if we grew upward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533520"/>
            <a:ext cx="182880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have to find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ACTOR PAI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343400" y="1066680"/>
            <a:ext cx="457200" cy="838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19520" y="190512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2362320" y="3276720"/>
            <a:ext cx="1371600" cy="764280"/>
            <a:chOff x="2362320" y="3276720"/>
            <a:chExt cx="1371600" cy="764280"/>
          </a:xfrm>
        </p:grpSpPr>
        <p:sp>
          <p:nvSpPr>
            <p:cNvPr id="77" name=""/>
            <p:cNvSpPr/>
            <p:nvPr/>
          </p:nvSpPr>
          <p:spPr>
            <a:xfrm>
              <a:off x="3276720" y="3276720"/>
              <a:ext cx="457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cc"/>
                  </a:solidFill>
                  <a:latin typeface="Times New Roman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362320" y="327672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 flipH="1">
            <a:off x="3352680" y="990720"/>
            <a:ext cx="533520" cy="914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3808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0" y="18288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419720" y="2438280"/>
            <a:ext cx="1143000" cy="1067040"/>
            <a:chOff x="4419720" y="2438280"/>
            <a:chExt cx="1143000" cy="1067040"/>
          </a:xfrm>
        </p:grpSpPr>
        <p:sp>
          <p:nvSpPr>
            <p:cNvPr id="83" name=""/>
            <p:cNvSpPr/>
            <p:nvPr/>
          </p:nvSpPr>
          <p:spPr>
            <a:xfrm flipH="1">
              <a:off x="4419720" y="2514600"/>
              <a:ext cx="304560" cy="9144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029200" y="2438280"/>
              <a:ext cx="533520" cy="10670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2666520" y="2514600"/>
            <a:ext cx="914760" cy="914400"/>
            <a:chOff x="2666520" y="2514600"/>
            <a:chExt cx="914760" cy="914400"/>
          </a:xfrm>
        </p:grpSpPr>
        <p:sp>
          <p:nvSpPr>
            <p:cNvPr id="86" name=""/>
            <p:cNvSpPr/>
            <p:nvPr/>
          </p:nvSpPr>
          <p:spPr>
            <a:xfrm flipH="1">
              <a:off x="2666520" y="2514600"/>
              <a:ext cx="304920" cy="9144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276720" y="2514600"/>
              <a:ext cx="304560" cy="9144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4191120" y="3336840"/>
            <a:ext cx="1600200" cy="780120"/>
            <a:chOff x="4191120" y="3336840"/>
            <a:chExt cx="1600200" cy="780120"/>
          </a:xfrm>
        </p:grpSpPr>
        <p:sp>
          <p:nvSpPr>
            <p:cNvPr id="89" name=""/>
            <p:cNvSpPr/>
            <p:nvPr/>
          </p:nvSpPr>
          <p:spPr>
            <a:xfrm>
              <a:off x="4191120" y="333684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33cc"/>
                  </a:solidFill>
                  <a:latin typeface="Times New Roman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334120" y="3352680"/>
              <a:ext cx="457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533520" y="254484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2 x 5 =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867280" y="25588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6 x 3 = 1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6172200" y="4267080"/>
            <a:ext cx="2459160" cy="2358720"/>
            <a:chOff x="6172200" y="4267080"/>
            <a:chExt cx="2459160" cy="2358720"/>
          </a:xfrm>
        </p:grpSpPr>
        <p:grpSp>
          <p:nvGrpSpPr>
            <p:cNvPr id="94" name=""/>
            <p:cNvGrpSpPr/>
            <p:nvPr/>
          </p:nvGrpSpPr>
          <p:grpSpPr>
            <a:xfrm>
              <a:off x="6191280" y="4267080"/>
              <a:ext cx="2440080" cy="2344680"/>
              <a:chOff x="6191280" y="4267080"/>
              <a:chExt cx="2440080" cy="2344680"/>
            </a:xfrm>
          </p:grpSpPr>
          <p:sp>
            <p:nvSpPr>
              <p:cNvPr id="95" name=""/>
              <p:cNvSpPr/>
              <p:nvPr/>
            </p:nvSpPr>
            <p:spPr>
              <a:xfrm>
                <a:off x="6191280" y="4267080"/>
                <a:ext cx="2440080" cy="2344680"/>
              </a:xfrm>
              <a:custGeom>
                <a:avLst/>
                <a:gdLst/>
                <a:ahLst/>
                <a:rect l="l" t="t" r="r" b="b"/>
                <a:pathLst>
                  <a:path w="3072" h="2953">
                    <a:moveTo>
                      <a:pt x="999" y="2928"/>
                    </a:moveTo>
                    <a:lnTo>
                      <a:pt x="1133" y="2844"/>
                    </a:lnTo>
                    <a:lnTo>
                      <a:pt x="1192" y="2769"/>
                    </a:lnTo>
                    <a:lnTo>
                      <a:pt x="1226" y="2693"/>
                    </a:lnTo>
                    <a:lnTo>
                      <a:pt x="1242" y="2601"/>
                    </a:lnTo>
                    <a:lnTo>
                      <a:pt x="1259" y="2509"/>
                    </a:lnTo>
                    <a:lnTo>
                      <a:pt x="1268" y="2408"/>
                    </a:lnTo>
                    <a:lnTo>
                      <a:pt x="1276" y="2299"/>
                    </a:lnTo>
                    <a:lnTo>
                      <a:pt x="1293" y="2097"/>
                    </a:lnTo>
                    <a:lnTo>
                      <a:pt x="1301" y="1929"/>
                    </a:lnTo>
                    <a:lnTo>
                      <a:pt x="1301" y="1812"/>
                    </a:lnTo>
                    <a:lnTo>
                      <a:pt x="1293" y="1736"/>
                    </a:lnTo>
                    <a:lnTo>
                      <a:pt x="1242" y="1661"/>
                    </a:lnTo>
                    <a:lnTo>
                      <a:pt x="1192" y="1644"/>
                    </a:lnTo>
                    <a:lnTo>
                      <a:pt x="1117" y="1611"/>
                    </a:lnTo>
                    <a:lnTo>
                      <a:pt x="1016" y="1611"/>
                    </a:lnTo>
                    <a:lnTo>
                      <a:pt x="865" y="1577"/>
                    </a:lnTo>
                    <a:lnTo>
                      <a:pt x="848" y="1577"/>
                    </a:lnTo>
                    <a:lnTo>
                      <a:pt x="756" y="1544"/>
                    </a:lnTo>
                    <a:lnTo>
                      <a:pt x="587" y="1519"/>
                    </a:lnTo>
                    <a:lnTo>
                      <a:pt x="461" y="1502"/>
                    </a:lnTo>
                    <a:lnTo>
                      <a:pt x="327" y="1460"/>
                    </a:lnTo>
                    <a:lnTo>
                      <a:pt x="176" y="1460"/>
                    </a:lnTo>
                    <a:lnTo>
                      <a:pt x="0" y="1477"/>
                    </a:lnTo>
                    <a:lnTo>
                      <a:pt x="251" y="1447"/>
                    </a:lnTo>
                    <a:lnTo>
                      <a:pt x="293" y="1426"/>
                    </a:lnTo>
                    <a:lnTo>
                      <a:pt x="314" y="1397"/>
                    </a:lnTo>
                    <a:lnTo>
                      <a:pt x="327" y="1326"/>
                    </a:lnTo>
                    <a:lnTo>
                      <a:pt x="293" y="1175"/>
                    </a:lnTo>
                    <a:lnTo>
                      <a:pt x="285" y="1066"/>
                    </a:lnTo>
                    <a:lnTo>
                      <a:pt x="344" y="1317"/>
                    </a:lnTo>
                    <a:lnTo>
                      <a:pt x="352" y="1384"/>
                    </a:lnTo>
                    <a:lnTo>
                      <a:pt x="381" y="1414"/>
                    </a:lnTo>
                    <a:lnTo>
                      <a:pt x="419" y="1435"/>
                    </a:lnTo>
                    <a:lnTo>
                      <a:pt x="461" y="1451"/>
                    </a:lnTo>
                    <a:lnTo>
                      <a:pt x="595" y="1468"/>
                    </a:lnTo>
                    <a:lnTo>
                      <a:pt x="713" y="1468"/>
                    </a:lnTo>
                    <a:lnTo>
                      <a:pt x="654" y="1414"/>
                    </a:lnTo>
                    <a:lnTo>
                      <a:pt x="587" y="1317"/>
                    </a:lnTo>
                    <a:lnTo>
                      <a:pt x="537" y="1217"/>
                    </a:lnTo>
                    <a:lnTo>
                      <a:pt x="461" y="1041"/>
                    </a:lnTo>
                    <a:lnTo>
                      <a:pt x="578" y="1242"/>
                    </a:lnTo>
                    <a:lnTo>
                      <a:pt x="641" y="1326"/>
                    </a:lnTo>
                    <a:lnTo>
                      <a:pt x="704" y="1389"/>
                    </a:lnTo>
                    <a:lnTo>
                      <a:pt x="773" y="1443"/>
                    </a:lnTo>
                    <a:lnTo>
                      <a:pt x="882" y="1493"/>
                    </a:lnTo>
                    <a:lnTo>
                      <a:pt x="982" y="1502"/>
                    </a:lnTo>
                    <a:lnTo>
                      <a:pt x="1091" y="1510"/>
                    </a:lnTo>
                    <a:lnTo>
                      <a:pt x="1209" y="1493"/>
                    </a:lnTo>
                    <a:lnTo>
                      <a:pt x="1110" y="1468"/>
                    </a:lnTo>
                    <a:lnTo>
                      <a:pt x="1065" y="1447"/>
                    </a:lnTo>
                    <a:lnTo>
                      <a:pt x="1016" y="1411"/>
                    </a:lnTo>
                    <a:lnTo>
                      <a:pt x="968" y="1362"/>
                    </a:lnTo>
                    <a:lnTo>
                      <a:pt x="851" y="1330"/>
                    </a:lnTo>
                    <a:lnTo>
                      <a:pt x="770" y="1299"/>
                    </a:lnTo>
                    <a:lnTo>
                      <a:pt x="711" y="1275"/>
                    </a:lnTo>
                    <a:lnTo>
                      <a:pt x="672" y="1257"/>
                    </a:lnTo>
                    <a:lnTo>
                      <a:pt x="644" y="1241"/>
                    </a:lnTo>
                    <a:lnTo>
                      <a:pt x="619" y="1221"/>
                    </a:lnTo>
                    <a:lnTo>
                      <a:pt x="601" y="1203"/>
                    </a:lnTo>
                    <a:lnTo>
                      <a:pt x="632" y="1224"/>
                    </a:lnTo>
                    <a:lnTo>
                      <a:pt x="660" y="1241"/>
                    </a:lnTo>
                    <a:lnTo>
                      <a:pt x="690" y="1253"/>
                    </a:lnTo>
                    <a:lnTo>
                      <a:pt x="739" y="1267"/>
                    </a:lnTo>
                    <a:lnTo>
                      <a:pt x="787" y="1282"/>
                    </a:lnTo>
                    <a:lnTo>
                      <a:pt x="838" y="1295"/>
                    </a:lnTo>
                    <a:lnTo>
                      <a:pt x="879" y="1303"/>
                    </a:lnTo>
                    <a:lnTo>
                      <a:pt x="906" y="1305"/>
                    </a:lnTo>
                    <a:lnTo>
                      <a:pt x="927" y="1308"/>
                    </a:lnTo>
                    <a:lnTo>
                      <a:pt x="890" y="1259"/>
                    </a:lnTo>
                    <a:lnTo>
                      <a:pt x="864" y="1215"/>
                    </a:lnTo>
                    <a:lnTo>
                      <a:pt x="822" y="1146"/>
                    </a:lnTo>
                    <a:lnTo>
                      <a:pt x="790" y="1087"/>
                    </a:lnTo>
                    <a:lnTo>
                      <a:pt x="764" y="1024"/>
                    </a:lnTo>
                    <a:lnTo>
                      <a:pt x="729" y="982"/>
                    </a:lnTo>
                    <a:lnTo>
                      <a:pt x="629" y="915"/>
                    </a:lnTo>
                    <a:lnTo>
                      <a:pt x="545" y="873"/>
                    </a:lnTo>
                    <a:lnTo>
                      <a:pt x="713" y="932"/>
                    </a:lnTo>
                    <a:lnTo>
                      <a:pt x="662" y="785"/>
                    </a:lnTo>
                    <a:lnTo>
                      <a:pt x="595" y="629"/>
                    </a:lnTo>
                    <a:lnTo>
                      <a:pt x="679" y="789"/>
                    </a:lnTo>
                    <a:lnTo>
                      <a:pt x="700" y="840"/>
                    </a:lnTo>
                    <a:lnTo>
                      <a:pt x="721" y="873"/>
                    </a:lnTo>
                    <a:lnTo>
                      <a:pt x="764" y="936"/>
                    </a:lnTo>
                    <a:lnTo>
                      <a:pt x="823" y="1024"/>
                    </a:lnTo>
                    <a:lnTo>
                      <a:pt x="868" y="1105"/>
                    </a:lnTo>
                    <a:lnTo>
                      <a:pt x="893" y="1150"/>
                    </a:lnTo>
                    <a:lnTo>
                      <a:pt x="974" y="1259"/>
                    </a:lnTo>
                    <a:lnTo>
                      <a:pt x="941" y="974"/>
                    </a:lnTo>
                    <a:lnTo>
                      <a:pt x="907" y="865"/>
                    </a:lnTo>
                    <a:lnTo>
                      <a:pt x="865" y="781"/>
                    </a:lnTo>
                    <a:lnTo>
                      <a:pt x="806" y="679"/>
                    </a:lnTo>
                    <a:lnTo>
                      <a:pt x="882" y="764"/>
                    </a:lnTo>
                    <a:lnTo>
                      <a:pt x="848" y="369"/>
                    </a:lnTo>
                    <a:lnTo>
                      <a:pt x="865" y="251"/>
                    </a:lnTo>
                    <a:lnTo>
                      <a:pt x="873" y="419"/>
                    </a:lnTo>
                    <a:lnTo>
                      <a:pt x="924" y="331"/>
                    </a:lnTo>
                    <a:lnTo>
                      <a:pt x="1058" y="226"/>
                    </a:lnTo>
                    <a:lnTo>
                      <a:pt x="932" y="348"/>
                    </a:lnTo>
                    <a:lnTo>
                      <a:pt x="882" y="444"/>
                    </a:lnTo>
                    <a:lnTo>
                      <a:pt x="907" y="679"/>
                    </a:lnTo>
                    <a:lnTo>
                      <a:pt x="932" y="806"/>
                    </a:lnTo>
                    <a:lnTo>
                      <a:pt x="974" y="940"/>
                    </a:lnTo>
                    <a:lnTo>
                      <a:pt x="1008" y="1141"/>
                    </a:lnTo>
                    <a:lnTo>
                      <a:pt x="1024" y="1259"/>
                    </a:lnTo>
                    <a:lnTo>
                      <a:pt x="1050" y="1309"/>
                    </a:lnTo>
                    <a:lnTo>
                      <a:pt x="1089" y="1342"/>
                    </a:lnTo>
                    <a:lnTo>
                      <a:pt x="1132" y="1365"/>
                    </a:lnTo>
                    <a:lnTo>
                      <a:pt x="1173" y="1375"/>
                    </a:lnTo>
                    <a:lnTo>
                      <a:pt x="1217" y="1368"/>
                    </a:lnTo>
                    <a:lnTo>
                      <a:pt x="1150" y="1200"/>
                    </a:lnTo>
                    <a:lnTo>
                      <a:pt x="1104" y="1112"/>
                    </a:lnTo>
                    <a:lnTo>
                      <a:pt x="1087" y="1049"/>
                    </a:lnTo>
                    <a:lnTo>
                      <a:pt x="1079" y="995"/>
                    </a:lnTo>
                    <a:lnTo>
                      <a:pt x="1075" y="932"/>
                    </a:lnTo>
                    <a:lnTo>
                      <a:pt x="1033" y="831"/>
                    </a:lnTo>
                    <a:lnTo>
                      <a:pt x="1104" y="932"/>
                    </a:lnTo>
                    <a:lnTo>
                      <a:pt x="1108" y="890"/>
                    </a:lnTo>
                    <a:lnTo>
                      <a:pt x="1066" y="671"/>
                    </a:lnTo>
                    <a:lnTo>
                      <a:pt x="1062" y="599"/>
                    </a:lnTo>
                    <a:lnTo>
                      <a:pt x="1066" y="541"/>
                    </a:lnTo>
                    <a:lnTo>
                      <a:pt x="1087" y="453"/>
                    </a:lnTo>
                    <a:lnTo>
                      <a:pt x="1138" y="314"/>
                    </a:lnTo>
                    <a:lnTo>
                      <a:pt x="1192" y="176"/>
                    </a:lnTo>
                    <a:lnTo>
                      <a:pt x="1100" y="478"/>
                    </a:lnTo>
                    <a:lnTo>
                      <a:pt x="1284" y="184"/>
                    </a:lnTo>
                    <a:lnTo>
                      <a:pt x="1146" y="440"/>
                    </a:lnTo>
                    <a:lnTo>
                      <a:pt x="1112" y="541"/>
                    </a:lnTo>
                    <a:lnTo>
                      <a:pt x="1104" y="608"/>
                    </a:lnTo>
                    <a:lnTo>
                      <a:pt x="1142" y="823"/>
                    </a:lnTo>
                    <a:lnTo>
                      <a:pt x="1146" y="949"/>
                    </a:lnTo>
                    <a:lnTo>
                      <a:pt x="1150" y="1024"/>
                    </a:lnTo>
                    <a:lnTo>
                      <a:pt x="1175" y="1104"/>
                    </a:lnTo>
                    <a:lnTo>
                      <a:pt x="1209" y="1166"/>
                    </a:lnTo>
                    <a:lnTo>
                      <a:pt x="1247" y="1242"/>
                    </a:lnTo>
                    <a:lnTo>
                      <a:pt x="1272" y="1305"/>
                    </a:lnTo>
                    <a:lnTo>
                      <a:pt x="1312" y="1389"/>
                    </a:lnTo>
                    <a:lnTo>
                      <a:pt x="1303" y="1338"/>
                    </a:lnTo>
                    <a:lnTo>
                      <a:pt x="1294" y="1282"/>
                    </a:lnTo>
                    <a:lnTo>
                      <a:pt x="1301" y="1007"/>
                    </a:lnTo>
                    <a:lnTo>
                      <a:pt x="1276" y="969"/>
                    </a:lnTo>
                    <a:lnTo>
                      <a:pt x="1263" y="932"/>
                    </a:lnTo>
                    <a:lnTo>
                      <a:pt x="1247" y="873"/>
                    </a:lnTo>
                    <a:lnTo>
                      <a:pt x="1221" y="777"/>
                    </a:lnTo>
                    <a:lnTo>
                      <a:pt x="1184" y="675"/>
                    </a:lnTo>
                    <a:lnTo>
                      <a:pt x="1255" y="819"/>
                    </a:lnTo>
                    <a:lnTo>
                      <a:pt x="1276" y="881"/>
                    </a:lnTo>
                    <a:lnTo>
                      <a:pt x="1305" y="923"/>
                    </a:lnTo>
                    <a:lnTo>
                      <a:pt x="1305" y="641"/>
                    </a:lnTo>
                    <a:lnTo>
                      <a:pt x="1301" y="461"/>
                    </a:lnTo>
                    <a:lnTo>
                      <a:pt x="1280" y="302"/>
                    </a:lnTo>
                    <a:lnTo>
                      <a:pt x="1314" y="411"/>
                    </a:lnTo>
                    <a:lnTo>
                      <a:pt x="1351" y="293"/>
                    </a:lnTo>
                    <a:lnTo>
                      <a:pt x="1377" y="222"/>
                    </a:lnTo>
                    <a:lnTo>
                      <a:pt x="1465" y="29"/>
                    </a:lnTo>
                    <a:lnTo>
                      <a:pt x="1410" y="180"/>
                    </a:lnTo>
                    <a:lnTo>
                      <a:pt x="1377" y="277"/>
                    </a:lnTo>
                    <a:lnTo>
                      <a:pt x="1356" y="356"/>
                    </a:lnTo>
                    <a:lnTo>
                      <a:pt x="1339" y="423"/>
                    </a:lnTo>
                    <a:lnTo>
                      <a:pt x="1343" y="578"/>
                    </a:lnTo>
                    <a:lnTo>
                      <a:pt x="1406" y="461"/>
                    </a:lnTo>
                    <a:lnTo>
                      <a:pt x="1431" y="390"/>
                    </a:lnTo>
                    <a:lnTo>
                      <a:pt x="1456" y="306"/>
                    </a:lnTo>
                    <a:lnTo>
                      <a:pt x="1481" y="222"/>
                    </a:lnTo>
                    <a:lnTo>
                      <a:pt x="1498" y="138"/>
                    </a:lnTo>
                    <a:lnTo>
                      <a:pt x="1528" y="0"/>
                    </a:lnTo>
                    <a:lnTo>
                      <a:pt x="1507" y="168"/>
                    </a:lnTo>
                    <a:lnTo>
                      <a:pt x="1498" y="230"/>
                    </a:lnTo>
                    <a:lnTo>
                      <a:pt x="1473" y="323"/>
                    </a:lnTo>
                    <a:lnTo>
                      <a:pt x="1444" y="423"/>
                    </a:lnTo>
                    <a:lnTo>
                      <a:pt x="1414" y="507"/>
                    </a:lnTo>
                    <a:lnTo>
                      <a:pt x="1377" y="595"/>
                    </a:lnTo>
                    <a:lnTo>
                      <a:pt x="1368" y="781"/>
                    </a:lnTo>
                    <a:lnTo>
                      <a:pt x="1385" y="999"/>
                    </a:lnTo>
                    <a:lnTo>
                      <a:pt x="1385" y="1301"/>
                    </a:lnTo>
                    <a:lnTo>
                      <a:pt x="1419" y="1443"/>
                    </a:lnTo>
                    <a:lnTo>
                      <a:pt x="1435" y="1295"/>
                    </a:lnTo>
                    <a:lnTo>
                      <a:pt x="1448" y="1194"/>
                    </a:lnTo>
                    <a:lnTo>
                      <a:pt x="1461" y="1112"/>
                    </a:lnTo>
                    <a:lnTo>
                      <a:pt x="1481" y="993"/>
                    </a:lnTo>
                    <a:lnTo>
                      <a:pt x="1507" y="907"/>
                    </a:lnTo>
                    <a:lnTo>
                      <a:pt x="1544" y="805"/>
                    </a:lnTo>
                    <a:lnTo>
                      <a:pt x="1477" y="598"/>
                    </a:lnTo>
                    <a:lnTo>
                      <a:pt x="1511" y="661"/>
                    </a:lnTo>
                    <a:lnTo>
                      <a:pt x="1536" y="719"/>
                    </a:lnTo>
                    <a:lnTo>
                      <a:pt x="1561" y="767"/>
                    </a:lnTo>
                    <a:lnTo>
                      <a:pt x="1645" y="633"/>
                    </a:lnTo>
                    <a:lnTo>
                      <a:pt x="1674" y="564"/>
                    </a:lnTo>
                    <a:lnTo>
                      <a:pt x="1662" y="386"/>
                    </a:lnTo>
                    <a:lnTo>
                      <a:pt x="1704" y="553"/>
                    </a:lnTo>
                    <a:lnTo>
                      <a:pt x="1922" y="210"/>
                    </a:lnTo>
                    <a:lnTo>
                      <a:pt x="1989" y="84"/>
                    </a:lnTo>
                    <a:lnTo>
                      <a:pt x="1913" y="285"/>
                    </a:lnTo>
                    <a:lnTo>
                      <a:pt x="1737" y="603"/>
                    </a:lnTo>
                    <a:lnTo>
                      <a:pt x="2152" y="331"/>
                    </a:lnTo>
                    <a:lnTo>
                      <a:pt x="1737" y="637"/>
                    </a:lnTo>
                    <a:lnTo>
                      <a:pt x="1662" y="773"/>
                    </a:lnTo>
                    <a:lnTo>
                      <a:pt x="1603" y="881"/>
                    </a:lnTo>
                    <a:lnTo>
                      <a:pt x="1570" y="1024"/>
                    </a:lnTo>
                    <a:lnTo>
                      <a:pt x="1536" y="1234"/>
                    </a:lnTo>
                    <a:lnTo>
                      <a:pt x="1515" y="1426"/>
                    </a:lnTo>
                    <a:lnTo>
                      <a:pt x="1557" y="1278"/>
                    </a:lnTo>
                    <a:lnTo>
                      <a:pt x="1591" y="1215"/>
                    </a:lnTo>
                    <a:lnTo>
                      <a:pt x="1637" y="1150"/>
                    </a:lnTo>
                    <a:lnTo>
                      <a:pt x="1700" y="1073"/>
                    </a:lnTo>
                    <a:lnTo>
                      <a:pt x="1737" y="1027"/>
                    </a:lnTo>
                    <a:lnTo>
                      <a:pt x="1771" y="978"/>
                    </a:lnTo>
                    <a:lnTo>
                      <a:pt x="1775" y="918"/>
                    </a:lnTo>
                    <a:lnTo>
                      <a:pt x="1779" y="729"/>
                    </a:lnTo>
                    <a:lnTo>
                      <a:pt x="1792" y="863"/>
                    </a:lnTo>
                    <a:lnTo>
                      <a:pt x="1804" y="914"/>
                    </a:lnTo>
                    <a:lnTo>
                      <a:pt x="1830" y="932"/>
                    </a:lnTo>
                    <a:lnTo>
                      <a:pt x="1884" y="838"/>
                    </a:lnTo>
                    <a:lnTo>
                      <a:pt x="1934" y="759"/>
                    </a:lnTo>
                    <a:lnTo>
                      <a:pt x="1972" y="696"/>
                    </a:lnTo>
                    <a:lnTo>
                      <a:pt x="2022" y="623"/>
                    </a:lnTo>
                    <a:lnTo>
                      <a:pt x="2106" y="536"/>
                    </a:lnTo>
                    <a:lnTo>
                      <a:pt x="2194" y="461"/>
                    </a:lnTo>
                    <a:lnTo>
                      <a:pt x="2190" y="212"/>
                    </a:lnTo>
                    <a:lnTo>
                      <a:pt x="2215" y="443"/>
                    </a:lnTo>
                    <a:lnTo>
                      <a:pt x="2372" y="369"/>
                    </a:lnTo>
                    <a:lnTo>
                      <a:pt x="2531" y="298"/>
                    </a:lnTo>
                    <a:lnTo>
                      <a:pt x="2317" y="426"/>
                    </a:lnTo>
                    <a:lnTo>
                      <a:pt x="2456" y="514"/>
                    </a:lnTo>
                    <a:lnTo>
                      <a:pt x="2291" y="439"/>
                    </a:lnTo>
                    <a:lnTo>
                      <a:pt x="2232" y="481"/>
                    </a:lnTo>
                    <a:lnTo>
                      <a:pt x="2165" y="549"/>
                    </a:lnTo>
                    <a:lnTo>
                      <a:pt x="2102" y="616"/>
                    </a:lnTo>
                    <a:lnTo>
                      <a:pt x="2056" y="678"/>
                    </a:lnTo>
                    <a:lnTo>
                      <a:pt x="2018" y="738"/>
                    </a:lnTo>
                    <a:lnTo>
                      <a:pt x="1985" y="813"/>
                    </a:lnTo>
                    <a:lnTo>
                      <a:pt x="1968" y="869"/>
                    </a:lnTo>
                    <a:lnTo>
                      <a:pt x="2027" y="859"/>
                    </a:lnTo>
                    <a:lnTo>
                      <a:pt x="2094" y="838"/>
                    </a:lnTo>
                    <a:lnTo>
                      <a:pt x="2169" y="814"/>
                    </a:lnTo>
                    <a:lnTo>
                      <a:pt x="2257" y="775"/>
                    </a:lnTo>
                    <a:lnTo>
                      <a:pt x="2334" y="747"/>
                    </a:lnTo>
                    <a:lnTo>
                      <a:pt x="2389" y="724"/>
                    </a:lnTo>
                    <a:lnTo>
                      <a:pt x="2447" y="690"/>
                    </a:lnTo>
                    <a:lnTo>
                      <a:pt x="2481" y="648"/>
                    </a:lnTo>
                    <a:lnTo>
                      <a:pt x="2506" y="602"/>
                    </a:lnTo>
                    <a:lnTo>
                      <a:pt x="2498" y="648"/>
                    </a:lnTo>
                    <a:lnTo>
                      <a:pt x="2477" y="687"/>
                    </a:lnTo>
                    <a:lnTo>
                      <a:pt x="2439" y="719"/>
                    </a:lnTo>
                    <a:lnTo>
                      <a:pt x="2347" y="775"/>
                    </a:lnTo>
                    <a:lnTo>
                      <a:pt x="2261" y="821"/>
                    </a:lnTo>
                    <a:lnTo>
                      <a:pt x="2182" y="856"/>
                    </a:lnTo>
                    <a:lnTo>
                      <a:pt x="2123" y="880"/>
                    </a:lnTo>
                    <a:lnTo>
                      <a:pt x="2060" y="907"/>
                    </a:lnTo>
                    <a:lnTo>
                      <a:pt x="1981" y="932"/>
                    </a:lnTo>
                    <a:lnTo>
                      <a:pt x="1913" y="974"/>
                    </a:lnTo>
                    <a:lnTo>
                      <a:pt x="1855" y="1024"/>
                    </a:lnTo>
                    <a:lnTo>
                      <a:pt x="1788" y="1108"/>
                    </a:lnTo>
                    <a:lnTo>
                      <a:pt x="1708" y="1211"/>
                    </a:lnTo>
                    <a:lnTo>
                      <a:pt x="1670" y="1280"/>
                    </a:lnTo>
                    <a:lnTo>
                      <a:pt x="1645" y="1324"/>
                    </a:lnTo>
                    <a:lnTo>
                      <a:pt x="1628" y="1379"/>
                    </a:lnTo>
                    <a:lnTo>
                      <a:pt x="1616" y="1456"/>
                    </a:lnTo>
                    <a:lnTo>
                      <a:pt x="1708" y="1389"/>
                    </a:lnTo>
                    <a:lnTo>
                      <a:pt x="1754" y="1354"/>
                    </a:lnTo>
                    <a:lnTo>
                      <a:pt x="1779" y="1324"/>
                    </a:lnTo>
                    <a:lnTo>
                      <a:pt x="1800" y="1278"/>
                    </a:lnTo>
                    <a:lnTo>
                      <a:pt x="1825" y="1194"/>
                    </a:lnTo>
                    <a:lnTo>
                      <a:pt x="1846" y="1106"/>
                    </a:lnTo>
                    <a:lnTo>
                      <a:pt x="1884" y="1048"/>
                    </a:lnTo>
                    <a:lnTo>
                      <a:pt x="1863" y="1102"/>
                    </a:lnTo>
                    <a:lnTo>
                      <a:pt x="1846" y="1165"/>
                    </a:lnTo>
                    <a:lnTo>
                      <a:pt x="1838" y="1224"/>
                    </a:lnTo>
                    <a:lnTo>
                      <a:pt x="1830" y="1282"/>
                    </a:lnTo>
                    <a:lnTo>
                      <a:pt x="1830" y="1308"/>
                    </a:lnTo>
                    <a:lnTo>
                      <a:pt x="1838" y="1333"/>
                    </a:lnTo>
                    <a:lnTo>
                      <a:pt x="1888" y="1338"/>
                    </a:lnTo>
                    <a:lnTo>
                      <a:pt x="1997" y="1296"/>
                    </a:lnTo>
                    <a:lnTo>
                      <a:pt x="2115" y="1254"/>
                    </a:lnTo>
                    <a:lnTo>
                      <a:pt x="2299" y="1192"/>
                    </a:lnTo>
                    <a:lnTo>
                      <a:pt x="2347" y="1169"/>
                    </a:lnTo>
                    <a:lnTo>
                      <a:pt x="2397" y="1140"/>
                    </a:lnTo>
                    <a:lnTo>
                      <a:pt x="2426" y="1074"/>
                    </a:lnTo>
                    <a:lnTo>
                      <a:pt x="2473" y="861"/>
                    </a:lnTo>
                    <a:lnTo>
                      <a:pt x="2443" y="1133"/>
                    </a:lnTo>
                    <a:lnTo>
                      <a:pt x="2464" y="1140"/>
                    </a:lnTo>
                    <a:lnTo>
                      <a:pt x="2494" y="1123"/>
                    </a:lnTo>
                    <a:lnTo>
                      <a:pt x="2556" y="981"/>
                    </a:lnTo>
                    <a:lnTo>
                      <a:pt x="2540" y="1056"/>
                    </a:lnTo>
                    <a:lnTo>
                      <a:pt x="2527" y="1098"/>
                    </a:lnTo>
                    <a:lnTo>
                      <a:pt x="2552" y="1106"/>
                    </a:lnTo>
                    <a:lnTo>
                      <a:pt x="2590" y="1090"/>
                    </a:lnTo>
                    <a:lnTo>
                      <a:pt x="2619" y="1048"/>
                    </a:lnTo>
                    <a:lnTo>
                      <a:pt x="2712" y="961"/>
                    </a:lnTo>
                    <a:lnTo>
                      <a:pt x="2644" y="1035"/>
                    </a:lnTo>
                    <a:lnTo>
                      <a:pt x="2624" y="1077"/>
                    </a:lnTo>
                    <a:lnTo>
                      <a:pt x="2615" y="1115"/>
                    </a:lnTo>
                    <a:lnTo>
                      <a:pt x="2661" y="1152"/>
                    </a:lnTo>
                    <a:lnTo>
                      <a:pt x="2598" y="1136"/>
                    </a:lnTo>
                    <a:lnTo>
                      <a:pt x="2561" y="1146"/>
                    </a:lnTo>
                    <a:lnTo>
                      <a:pt x="2494" y="1165"/>
                    </a:lnTo>
                    <a:lnTo>
                      <a:pt x="2514" y="1186"/>
                    </a:lnTo>
                    <a:lnTo>
                      <a:pt x="2544" y="1232"/>
                    </a:lnTo>
                    <a:lnTo>
                      <a:pt x="2582" y="1341"/>
                    </a:lnTo>
                    <a:lnTo>
                      <a:pt x="2523" y="1241"/>
                    </a:lnTo>
                    <a:lnTo>
                      <a:pt x="2494" y="1207"/>
                    </a:lnTo>
                    <a:lnTo>
                      <a:pt x="2464" y="1190"/>
                    </a:lnTo>
                    <a:lnTo>
                      <a:pt x="2426" y="1192"/>
                    </a:lnTo>
                    <a:lnTo>
                      <a:pt x="2303" y="1234"/>
                    </a:lnTo>
                    <a:lnTo>
                      <a:pt x="2190" y="1275"/>
                    </a:lnTo>
                    <a:lnTo>
                      <a:pt x="2085" y="1308"/>
                    </a:lnTo>
                    <a:lnTo>
                      <a:pt x="1997" y="1342"/>
                    </a:lnTo>
                    <a:lnTo>
                      <a:pt x="1926" y="1379"/>
                    </a:lnTo>
                    <a:lnTo>
                      <a:pt x="1846" y="1422"/>
                    </a:lnTo>
                    <a:lnTo>
                      <a:pt x="1771" y="1471"/>
                    </a:lnTo>
                    <a:lnTo>
                      <a:pt x="1725" y="1510"/>
                    </a:lnTo>
                    <a:lnTo>
                      <a:pt x="1683" y="1552"/>
                    </a:lnTo>
                    <a:lnTo>
                      <a:pt x="1863" y="1560"/>
                    </a:lnTo>
                    <a:lnTo>
                      <a:pt x="2018" y="1548"/>
                    </a:lnTo>
                    <a:lnTo>
                      <a:pt x="2245" y="1519"/>
                    </a:lnTo>
                    <a:lnTo>
                      <a:pt x="2414" y="1493"/>
                    </a:lnTo>
                    <a:lnTo>
                      <a:pt x="2498" y="1479"/>
                    </a:lnTo>
                    <a:lnTo>
                      <a:pt x="2544" y="1463"/>
                    </a:lnTo>
                    <a:lnTo>
                      <a:pt x="2594" y="1443"/>
                    </a:lnTo>
                    <a:lnTo>
                      <a:pt x="2644" y="1417"/>
                    </a:lnTo>
                    <a:lnTo>
                      <a:pt x="2728" y="1349"/>
                    </a:lnTo>
                    <a:lnTo>
                      <a:pt x="2833" y="1242"/>
                    </a:lnTo>
                    <a:lnTo>
                      <a:pt x="2737" y="1362"/>
                    </a:lnTo>
                    <a:lnTo>
                      <a:pt x="2678" y="1417"/>
                    </a:lnTo>
                    <a:lnTo>
                      <a:pt x="2624" y="1460"/>
                    </a:lnTo>
                    <a:lnTo>
                      <a:pt x="2733" y="1454"/>
                    </a:lnTo>
                    <a:lnTo>
                      <a:pt x="2808" y="1433"/>
                    </a:lnTo>
                    <a:lnTo>
                      <a:pt x="2867" y="1404"/>
                    </a:lnTo>
                    <a:lnTo>
                      <a:pt x="2925" y="1379"/>
                    </a:lnTo>
                    <a:lnTo>
                      <a:pt x="3001" y="1345"/>
                    </a:lnTo>
                    <a:lnTo>
                      <a:pt x="3072" y="1329"/>
                    </a:lnTo>
                    <a:lnTo>
                      <a:pt x="3001" y="1362"/>
                    </a:lnTo>
                    <a:lnTo>
                      <a:pt x="2942" y="1396"/>
                    </a:lnTo>
                    <a:lnTo>
                      <a:pt x="2884" y="1425"/>
                    </a:lnTo>
                    <a:lnTo>
                      <a:pt x="2837" y="1450"/>
                    </a:lnTo>
                    <a:lnTo>
                      <a:pt x="2783" y="1471"/>
                    </a:lnTo>
                    <a:lnTo>
                      <a:pt x="2863" y="1479"/>
                    </a:lnTo>
                    <a:lnTo>
                      <a:pt x="2913" y="1471"/>
                    </a:lnTo>
                    <a:lnTo>
                      <a:pt x="2972" y="1458"/>
                    </a:lnTo>
                    <a:lnTo>
                      <a:pt x="3030" y="1442"/>
                    </a:lnTo>
                    <a:lnTo>
                      <a:pt x="2963" y="1485"/>
                    </a:lnTo>
                    <a:lnTo>
                      <a:pt x="2892" y="1496"/>
                    </a:lnTo>
                    <a:lnTo>
                      <a:pt x="2812" y="1496"/>
                    </a:lnTo>
                    <a:lnTo>
                      <a:pt x="2678" y="1506"/>
                    </a:lnTo>
                    <a:lnTo>
                      <a:pt x="2636" y="1513"/>
                    </a:lnTo>
                    <a:lnTo>
                      <a:pt x="2686" y="1534"/>
                    </a:lnTo>
                    <a:lnTo>
                      <a:pt x="2766" y="1546"/>
                    </a:lnTo>
                    <a:lnTo>
                      <a:pt x="2833" y="1551"/>
                    </a:lnTo>
                    <a:lnTo>
                      <a:pt x="2976" y="1556"/>
                    </a:lnTo>
                    <a:lnTo>
                      <a:pt x="2816" y="1567"/>
                    </a:lnTo>
                    <a:lnTo>
                      <a:pt x="2745" y="1567"/>
                    </a:lnTo>
                    <a:lnTo>
                      <a:pt x="2682" y="1559"/>
                    </a:lnTo>
                    <a:lnTo>
                      <a:pt x="2636" y="1546"/>
                    </a:lnTo>
                    <a:lnTo>
                      <a:pt x="2569" y="1527"/>
                    </a:lnTo>
                    <a:lnTo>
                      <a:pt x="2405" y="1560"/>
                    </a:lnTo>
                    <a:lnTo>
                      <a:pt x="2157" y="1611"/>
                    </a:lnTo>
                    <a:lnTo>
                      <a:pt x="2194" y="1655"/>
                    </a:lnTo>
                    <a:lnTo>
                      <a:pt x="2266" y="1753"/>
                    </a:lnTo>
                    <a:lnTo>
                      <a:pt x="2119" y="1623"/>
                    </a:lnTo>
                    <a:lnTo>
                      <a:pt x="2131" y="1685"/>
                    </a:lnTo>
                    <a:lnTo>
                      <a:pt x="2123" y="1743"/>
                    </a:lnTo>
                    <a:lnTo>
                      <a:pt x="2115" y="1785"/>
                    </a:lnTo>
                    <a:lnTo>
                      <a:pt x="2098" y="1844"/>
                    </a:lnTo>
                    <a:lnTo>
                      <a:pt x="2060" y="1928"/>
                    </a:lnTo>
                    <a:lnTo>
                      <a:pt x="1964" y="2080"/>
                    </a:lnTo>
                    <a:lnTo>
                      <a:pt x="2027" y="1949"/>
                    </a:lnTo>
                    <a:lnTo>
                      <a:pt x="2060" y="1865"/>
                    </a:lnTo>
                    <a:lnTo>
                      <a:pt x="2085" y="1785"/>
                    </a:lnTo>
                    <a:lnTo>
                      <a:pt x="2081" y="1743"/>
                    </a:lnTo>
                    <a:lnTo>
                      <a:pt x="2077" y="1676"/>
                    </a:lnTo>
                    <a:lnTo>
                      <a:pt x="2064" y="1647"/>
                    </a:lnTo>
                    <a:lnTo>
                      <a:pt x="2043" y="1627"/>
                    </a:lnTo>
                    <a:lnTo>
                      <a:pt x="1930" y="1636"/>
                    </a:lnTo>
                    <a:lnTo>
                      <a:pt x="1825" y="1664"/>
                    </a:lnTo>
                    <a:lnTo>
                      <a:pt x="1767" y="1695"/>
                    </a:lnTo>
                    <a:lnTo>
                      <a:pt x="1725" y="1722"/>
                    </a:lnTo>
                    <a:lnTo>
                      <a:pt x="1695" y="1757"/>
                    </a:lnTo>
                    <a:lnTo>
                      <a:pt x="1670" y="1812"/>
                    </a:lnTo>
                    <a:lnTo>
                      <a:pt x="1670" y="1904"/>
                    </a:lnTo>
                    <a:lnTo>
                      <a:pt x="1670" y="2038"/>
                    </a:lnTo>
                    <a:lnTo>
                      <a:pt x="1662" y="2156"/>
                    </a:lnTo>
                    <a:lnTo>
                      <a:pt x="1662" y="2266"/>
                    </a:lnTo>
                    <a:lnTo>
                      <a:pt x="1662" y="2392"/>
                    </a:lnTo>
                    <a:lnTo>
                      <a:pt x="1662" y="2492"/>
                    </a:lnTo>
                    <a:lnTo>
                      <a:pt x="1687" y="2593"/>
                    </a:lnTo>
                    <a:lnTo>
                      <a:pt x="1721" y="2685"/>
                    </a:lnTo>
                    <a:lnTo>
                      <a:pt x="1779" y="2802"/>
                    </a:lnTo>
                    <a:lnTo>
                      <a:pt x="1838" y="2869"/>
                    </a:lnTo>
                    <a:lnTo>
                      <a:pt x="1897" y="2903"/>
                    </a:lnTo>
                    <a:lnTo>
                      <a:pt x="1997" y="2945"/>
                    </a:lnTo>
                    <a:lnTo>
                      <a:pt x="1863" y="2928"/>
                    </a:lnTo>
                    <a:lnTo>
                      <a:pt x="1737" y="2886"/>
                    </a:lnTo>
                    <a:lnTo>
                      <a:pt x="1662" y="2869"/>
                    </a:lnTo>
                    <a:lnTo>
                      <a:pt x="1603" y="2869"/>
                    </a:lnTo>
                    <a:lnTo>
                      <a:pt x="1561" y="2911"/>
                    </a:lnTo>
                    <a:lnTo>
                      <a:pt x="1528" y="2895"/>
                    </a:lnTo>
                    <a:lnTo>
                      <a:pt x="1461" y="2886"/>
                    </a:lnTo>
                    <a:lnTo>
                      <a:pt x="1402" y="2903"/>
                    </a:lnTo>
                    <a:lnTo>
                      <a:pt x="1343" y="2936"/>
                    </a:lnTo>
                    <a:lnTo>
                      <a:pt x="1301" y="2953"/>
                    </a:lnTo>
                    <a:lnTo>
                      <a:pt x="1301" y="2911"/>
                    </a:lnTo>
                    <a:lnTo>
                      <a:pt x="1276" y="2895"/>
                    </a:lnTo>
                    <a:lnTo>
                      <a:pt x="1217" y="2895"/>
                    </a:lnTo>
                    <a:lnTo>
                      <a:pt x="1167" y="2911"/>
                    </a:lnTo>
                    <a:lnTo>
                      <a:pt x="1150" y="2911"/>
                    </a:lnTo>
                    <a:lnTo>
                      <a:pt x="999" y="2928"/>
                    </a:lnTo>
                    <a:close/>
                  </a:path>
                </a:pathLst>
              </a:custGeom>
              <a:solidFill>
                <a:srgbClr val="7f5f3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145280" y="5338440"/>
                <a:ext cx="465120" cy="1212840"/>
              </a:xfrm>
              <a:custGeom>
                <a:avLst/>
                <a:gdLst/>
                <a:ahLst/>
                <a:rect l="l" t="t" r="r" b="b"/>
                <a:pathLst>
                  <a:path w="587" h="1527">
                    <a:moveTo>
                      <a:pt x="8" y="201"/>
                    </a:moveTo>
                    <a:lnTo>
                      <a:pt x="58" y="235"/>
                    </a:lnTo>
                    <a:lnTo>
                      <a:pt x="100" y="285"/>
                    </a:lnTo>
                    <a:lnTo>
                      <a:pt x="125" y="369"/>
                    </a:lnTo>
                    <a:lnTo>
                      <a:pt x="150" y="561"/>
                    </a:lnTo>
                    <a:lnTo>
                      <a:pt x="142" y="796"/>
                    </a:lnTo>
                    <a:lnTo>
                      <a:pt x="142" y="1015"/>
                    </a:lnTo>
                    <a:lnTo>
                      <a:pt x="142" y="1158"/>
                    </a:lnTo>
                    <a:lnTo>
                      <a:pt x="125" y="1275"/>
                    </a:lnTo>
                    <a:lnTo>
                      <a:pt x="83" y="1401"/>
                    </a:lnTo>
                    <a:lnTo>
                      <a:pt x="0" y="1510"/>
                    </a:lnTo>
                    <a:lnTo>
                      <a:pt x="100" y="1393"/>
                    </a:lnTo>
                    <a:lnTo>
                      <a:pt x="150" y="1275"/>
                    </a:lnTo>
                    <a:lnTo>
                      <a:pt x="167" y="1259"/>
                    </a:lnTo>
                    <a:lnTo>
                      <a:pt x="159" y="1393"/>
                    </a:lnTo>
                    <a:lnTo>
                      <a:pt x="142" y="1502"/>
                    </a:lnTo>
                    <a:lnTo>
                      <a:pt x="159" y="1443"/>
                    </a:lnTo>
                    <a:lnTo>
                      <a:pt x="184" y="1292"/>
                    </a:lnTo>
                    <a:lnTo>
                      <a:pt x="184" y="1183"/>
                    </a:lnTo>
                    <a:lnTo>
                      <a:pt x="184" y="1124"/>
                    </a:lnTo>
                    <a:lnTo>
                      <a:pt x="209" y="990"/>
                    </a:lnTo>
                    <a:lnTo>
                      <a:pt x="209" y="873"/>
                    </a:lnTo>
                    <a:lnTo>
                      <a:pt x="201" y="779"/>
                    </a:lnTo>
                    <a:lnTo>
                      <a:pt x="192" y="654"/>
                    </a:lnTo>
                    <a:lnTo>
                      <a:pt x="176" y="536"/>
                    </a:lnTo>
                    <a:lnTo>
                      <a:pt x="176" y="436"/>
                    </a:lnTo>
                    <a:lnTo>
                      <a:pt x="218" y="310"/>
                    </a:lnTo>
                    <a:lnTo>
                      <a:pt x="226" y="486"/>
                    </a:lnTo>
                    <a:lnTo>
                      <a:pt x="226" y="561"/>
                    </a:lnTo>
                    <a:lnTo>
                      <a:pt x="234" y="679"/>
                    </a:lnTo>
                    <a:lnTo>
                      <a:pt x="243" y="737"/>
                    </a:lnTo>
                    <a:lnTo>
                      <a:pt x="251" y="855"/>
                    </a:lnTo>
                    <a:lnTo>
                      <a:pt x="251" y="990"/>
                    </a:lnTo>
                    <a:lnTo>
                      <a:pt x="251" y="1116"/>
                    </a:lnTo>
                    <a:lnTo>
                      <a:pt x="243" y="1217"/>
                    </a:lnTo>
                    <a:lnTo>
                      <a:pt x="226" y="1326"/>
                    </a:lnTo>
                    <a:lnTo>
                      <a:pt x="226" y="1409"/>
                    </a:lnTo>
                    <a:lnTo>
                      <a:pt x="234" y="1477"/>
                    </a:lnTo>
                    <a:lnTo>
                      <a:pt x="251" y="1376"/>
                    </a:lnTo>
                    <a:lnTo>
                      <a:pt x="260" y="1443"/>
                    </a:lnTo>
                    <a:lnTo>
                      <a:pt x="293" y="1502"/>
                    </a:lnTo>
                    <a:lnTo>
                      <a:pt x="327" y="1527"/>
                    </a:lnTo>
                    <a:lnTo>
                      <a:pt x="318" y="1451"/>
                    </a:lnTo>
                    <a:lnTo>
                      <a:pt x="301" y="1317"/>
                    </a:lnTo>
                    <a:lnTo>
                      <a:pt x="293" y="1133"/>
                    </a:lnTo>
                    <a:lnTo>
                      <a:pt x="276" y="990"/>
                    </a:lnTo>
                    <a:lnTo>
                      <a:pt x="276" y="890"/>
                    </a:lnTo>
                    <a:lnTo>
                      <a:pt x="268" y="771"/>
                    </a:lnTo>
                    <a:lnTo>
                      <a:pt x="268" y="645"/>
                    </a:lnTo>
                    <a:lnTo>
                      <a:pt x="268" y="545"/>
                    </a:lnTo>
                    <a:lnTo>
                      <a:pt x="293" y="436"/>
                    </a:lnTo>
                    <a:lnTo>
                      <a:pt x="410" y="209"/>
                    </a:lnTo>
                    <a:lnTo>
                      <a:pt x="369" y="352"/>
                    </a:lnTo>
                    <a:lnTo>
                      <a:pt x="335" y="427"/>
                    </a:lnTo>
                    <a:lnTo>
                      <a:pt x="318" y="503"/>
                    </a:lnTo>
                    <a:lnTo>
                      <a:pt x="318" y="553"/>
                    </a:lnTo>
                    <a:lnTo>
                      <a:pt x="318" y="612"/>
                    </a:lnTo>
                    <a:lnTo>
                      <a:pt x="318" y="687"/>
                    </a:lnTo>
                    <a:lnTo>
                      <a:pt x="318" y="746"/>
                    </a:lnTo>
                    <a:lnTo>
                      <a:pt x="318" y="838"/>
                    </a:lnTo>
                    <a:lnTo>
                      <a:pt x="327" y="965"/>
                    </a:lnTo>
                    <a:lnTo>
                      <a:pt x="335" y="1057"/>
                    </a:lnTo>
                    <a:lnTo>
                      <a:pt x="352" y="1150"/>
                    </a:lnTo>
                    <a:lnTo>
                      <a:pt x="360" y="1242"/>
                    </a:lnTo>
                    <a:lnTo>
                      <a:pt x="369" y="1326"/>
                    </a:lnTo>
                    <a:lnTo>
                      <a:pt x="402" y="1384"/>
                    </a:lnTo>
                    <a:lnTo>
                      <a:pt x="444" y="1435"/>
                    </a:lnTo>
                    <a:lnTo>
                      <a:pt x="503" y="1468"/>
                    </a:lnTo>
                    <a:lnTo>
                      <a:pt x="587" y="1493"/>
                    </a:lnTo>
                    <a:lnTo>
                      <a:pt x="478" y="1418"/>
                    </a:lnTo>
                    <a:lnTo>
                      <a:pt x="427" y="1334"/>
                    </a:lnTo>
                    <a:lnTo>
                      <a:pt x="394" y="1259"/>
                    </a:lnTo>
                    <a:lnTo>
                      <a:pt x="385" y="1166"/>
                    </a:lnTo>
                    <a:lnTo>
                      <a:pt x="369" y="1032"/>
                    </a:lnTo>
                    <a:lnTo>
                      <a:pt x="360" y="907"/>
                    </a:lnTo>
                    <a:lnTo>
                      <a:pt x="352" y="779"/>
                    </a:lnTo>
                    <a:lnTo>
                      <a:pt x="369" y="654"/>
                    </a:lnTo>
                    <a:lnTo>
                      <a:pt x="369" y="561"/>
                    </a:lnTo>
                    <a:lnTo>
                      <a:pt x="394" y="478"/>
                    </a:lnTo>
                    <a:lnTo>
                      <a:pt x="427" y="385"/>
                    </a:lnTo>
                    <a:lnTo>
                      <a:pt x="452" y="302"/>
                    </a:lnTo>
                    <a:lnTo>
                      <a:pt x="528" y="243"/>
                    </a:lnTo>
                    <a:lnTo>
                      <a:pt x="419" y="293"/>
                    </a:lnTo>
                    <a:lnTo>
                      <a:pt x="478" y="134"/>
                    </a:lnTo>
                    <a:lnTo>
                      <a:pt x="385" y="201"/>
                    </a:lnTo>
                    <a:lnTo>
                      <a:pt x="327" y="268"/>
                    </a:lnTo>
                    <a:lnTo>
                      <a:pt x="293" y="360"/>
                    </a:lnTo>
                    <a:lnTo>
                      <a:pt x="268" y="402"/>
                    </a:lnTo>
                    <a:lnTo>
                      <a:pt x="251" y="293"/>
                    </a:lnTo>
                    <a:lnTo>
                      <a:pt x="285" y="159"/>
                    </a:lnTo>
                    <a:lnTo>
                      <a:pt x="285" y="75"/>
                    </a:lnTo>
                    <a:lnTo>
                      <a:pt x="285" y="0"/>
                    </a:lnTo>
                    <a:lnTo>
                      <a:pt x="251" y="176"/>
                    </a:lnTo>
                    <a:lnTo>
                      <a:pt x="234" y="251"/>
                    </a:lnTo>
                    <a:lnTo>
                      <a:pt x="209" y="293"/>
                    </a:lnTo>
                    <a:lnTo>
                      <a:pt x="167" y="327"/>
                    </a:lnTo>
                    <a:lnTo>
                      <a:pt x="142" y="268"/>
                    </a:lnTo>
                    <a:lnTo>
                      <a:pt x="8" y="201"/>
                    </a:lnTo>
                    <a:close/>
                  </a:path>
                </a:pathLst>
              </a:cu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6172200" y="6384600"/>
              <a:ext cx="2459160" cy="241200"/>
            </a:xfrm>
            <a:custGeom>
              <a:avLst/>
              <a:gdLst/>
              <a:ahLst/>
              <a:rect l="l" t="t" r="r" b="b"/>
              <a:pathLst>
                <a:path w="3097" h="303">
                  <a:moveTo>
                    <a:pt x="167" y="252"/>
                  </a:moveTo>
                  <a:lnTo>
                    <a:pt x="318" y="227"/>
                  </a:lnTo>
                  <a:lnTo>
                    <a:pt x="452" y="227"/>
                  </a:lnTo>
                  <a:lnTo>
                    <a:pt x="603" y="227"/>
                  </a:lnTo>
                  <a:lnTo>
                    <a:pt x="721" y="193"/>
                  </a:lnTo>
                  <a:lnTo>
                    <a:pt x="798" y="185"/>
                  </a:lnTo>
                  <a:lnTo>
                    <a:pt x="890" y="168"/>
                  </a:lnTo>
                  <a:lnTo>
                    <a:pt x="957" y="126"/>
                  </a:lnTo>
                  <a:lnTo>
                    <a:pt x="1049" y="126"/>
                  </a:lnTo>
                  <a:lnTo>
                    <a:pt x="1111" y="122"/>
                  </a:lnTo>
                  <a:lnTo>
                    <a:pt x="1158" y="109"/>
                  </a:lnTo>
                  <a:lnTo>
                    <a:pt x="1185" y="108"/>
                  </a:lnTo>
                  <a:lnTo>
                    <a:pt x="1214" y="99"/>
                  </a:lnTo>
                  <a:lnTo>
                    <a:pt x="1244" y="88"/>
                  </a:lnTo>
                  <a:lnTo>
                    <a:pt x="1263" y="73"/>
                  </a:lnTo>
                  <a:lnTo>
                    <a:pt x="1301" y="34"/>
                  </a:lnTo>
                  <a:lnTo>
                    <a:pt x="1298" y="80"/>
                  </a:lnTo>
                  <a:lnTo>
                    <a:pt x="1309" y="109"/>
                  </a:lnTo>
                  <a:lnTo>
                    <a:pt x="1332" y="116"/>
                  </a:lnTo>
                  <a:lnTo>
                    <a:pt x="1349" y="97"/>
                  </a:lnTo>
                  <a:lnTo>
                    <a:pt x="1368" y="76"/>
                  </a:lnTo>
                  <a:lnTo>
                    <a:pt x="1396" y="99"/>
                  </a:lnTo>
                  <a:lnTo>
                    <a:pt x="1427" y="101"/>
                  </a:lnTo>
                  <a:lnTo>
                    <a:pt x="1451" y="92"/>
                  </a:lnTo>
                  <a:lnTo>
                    <a:pt x="1477" y="67"/>
                  </a:lnTo>
                  <a:lnTo>
                    <a:pt x="1488" y="38"/>
                  </a:lnTo>
                  <a:lnTo>
                    <a:pt x="1486" y="0"/>
                  </a:lnTo>
                  <a:lnTo>
                    <a:pt x="1544" y="42"/>
                  </a:lnTo>
                  <a:lnTo>
                    <a:pt x="1568" y="74"/>
                  </a:lnTo>
                  <a:lnTo>
                    <a:pt x="1592" y="92"/>
                  </a:lnTo>
                  <a:lnTo>
                    <a:pt x="1620" y="109"/>
                  </a:lnTo>
                  <a:lnTo>
                    <a:pt x="1656" y="122"/>
                  </a:lnTo>
                  <a:lnTo>
                    <a:pt x="1687" y="126"/>
                  </a:lnTo>
                  <a:lnTo>
                    <a:pt x="1694" y="105"/>
                  </a:lnTo>
                  <a:lnTo>
                    <a:pt x="1698" y="78"/>
                  </a:lnTo>
                  <a:lnTo>
                    <a:pt x="1697" y="46"/>
                  </a:lnTo>
                  <a:lnTo>
                    <a:pt x="1740" y="84"/>
                  </a:lnTo>
                  <a:lnTo>
                    <a:pt x="1748" y="63"/>
                  </a:lnTo>
                  <a:lnTo>
                    <a:pt x="1744" y="13"/>
                  </a:lnTo>
                  <a:lnTo>
                    <a:pt x="1782" y="53"/>
                  </a:lnTo>
                  <a:lnTo>
                    <a:pt x="1807" y="78"/>
                  </a:lnTo>
                  <a:lnTo>
                    <a:pt x="1832" y="95"/>
                  </a:lnTo>
                  <a:lnTo>
                    <a:pt x="1884" y="113"/>
                  </a:lnTo>
                  <a:lnTo>
                    <a:pt x="2022" y="151"/>
                  </a:lnTo>
                  <a:lnTo>
                    <a:pt x="2140" y="160"/>
                  </a:lnTo>
                  <a:lnTo>
                    <a:pt x="2274" y="185"/>
                  </a:lnTo>
                  <a:lnTo>
                    <a:pt x="2418" y="201"/>
                  </a:lnTo>
                  <a:lnTo>
                    <a:pt x="2535" y="210"/>
                  </a:lnTo>
                  <a:lnTo>
                    <a:pt x="2636" y="210"/>
                  </a:lnTo>
                  <a:lnTo>
                    <a:pt x="2795" y="227"/>
                  </a:lnTo>
                  <a:lnTo>
                    <a:pt x="2913" y="260"/>
                  </a:lnTo>
                  <a:lnTo>
                    <a:pt x="3022" y="268"/>
                  </a:lnTo>
                  <a:lnTo>
                    <a:pt x="3097" y="303"/>
                  </a:lnTo>
                  <a:lnTo>
                    <a:pt x="0" y="303"/>
                  </a:lnTo>
                  <a:lnTo>
                    <a:pt x="167" y="252"/>
                  </a:lnTo>
                  <a:close/>
                </a:path>
              </a:pathLst>
            </a:custGeom>
            <a:solidFill>
              <a:srgbClr val="b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821640" y="5403600"/>
              <a:ext cx="382680" cy="85680"/>
            </a:xfrm>
            <a:custGeom>
              <a:avLst/>
              <a:gdLst/>
              <a:ahLst/>
              <a:rect l="l" t="t" r="r" b="b"/>
              <a:pathLst>
                <a:path w="482" h="109">
                  <a:moveTo>
                    <a:pt x="0" y="21"/>
                  </a:moveTo>
                  <a:lnTo>
                    <a:pt x="37" y="50"/>
                  </a:lnTo>
                  <a:lnTo>
                    <a:pt x="71" y="80"/>
                  </a:lnTo>
                  <a:lnTo>
                    <a:pt x="79" y="100"/>
                  </a:lnTo>
                  <a:lnTo>
                    <a:pt x="105" y="105"/>
                  </a:lnTo>
                  <a:lnTo>
                    <a:pt x="147" y="92"/>
                  </a:lnTo>
                  <a:lnTo>
                    <a:pt x="163" y="96"/>
                  </a:lnTo>
                  <a:lnTo>
                    <a:pt x="188" y="105"/>
                  </a:lnTo>
                  <a:lnTo>
                    <a:pt x="214" y="109"/>
                  </a:lnTo>
                  <a:lnTo>
                    <a:pt x="239" y="105"/>
                  </a:lnTo>
                  <a:lnTo>
                    <a:pt x="264" y="105"/>
                  </a:lnTo>
                  <a:lnTo>
                    <a:pt x="293" y="92"/>
                  </a:lnTo>
                  <a:lnTo>
                    <a:pt x="327" y="92"/>
                  </a:lnTo>
                  <a:lnTo>
                    <a:pt x="369" y="92"/>
                  </a:lnTo>
                  <a:lnTo>
                    <a:pt x="411" y="88"/>
                  </a:lnTo>
                  <a:lnTo>
                    <a:pt x="436" y="84"/>
                  </a:lnTo>
                  <a:lnTo>
                    <a:pt x="482" y="92"/>
                  </a:lnTo>
                  <a:lnTo>
                    <a:pt x="432" y="67"/>
                  </a:lnTo>
                  <a:lnTo>
                    <a:pt x="381" y="54"/>
                  </a:lnTo>
                  <a:lnTo>
                    <a:pt x="335" y="46"/>
                  </a:lnTo>
                  <a:lnTo>
                    <a:pt x="289" y="29"/>
                  </a:lnTo>
                  <a:lnTo>
                    <a:pt x="251" y="29"/>
                  </a:lnTo>
                  <a:lnTo>
                    <a:pt x="226" y="21"/>
                  </a:lnTo>
                  <a:lnTo>
                    <a:pt x="218" y="21"/>
                  </a:lnTo>
                  <a:lnTo>
                    <a:pt x="176" y="4"/>
                  </a:lnTo>
                  <a:lnTo>
                    <a:pt x="138" y="0"/>
                  </a:lnTo>
                  <a:lnTo>
                    <a:pt x="88" y="0"/>
                  </a:lnTo>
                  <a:lnTo>
                    <a:pt x="63" y="12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b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464520" y="5373360"/>
              <a:ext cx="317520" cy="76320"/>
            </a:xfrm>
            <a:custGeom>
              <a:avLst/>
              <a:gdLst/>
              <a:ahLst/>
              <a:rect l="l" t="t" r="r" b="b"/>
              <a:pathLst>
                <a:path w="398" h="97">
                  <a:moveTo>
                    <a:pt x="323" y="38"/>
                  </a:moveTo>
                  <a:lnTo>
                    <a:pt x="260" y="25"/>
                  </a:lnTo>
                  <a:lnTo>
                    <a:pt x="205" y="13"/>
                  </a:lnTo>
                  <a:lnTo>
                    <a:pt x="167" y="13"/>
                  </a:lnTo>
                  <a:lnTo>
                    <a:pt x="134" y="17"/>
                  </a:lnTo>
                  <a:lnTo>
                    <a:pt x="104" y="13"/>
                  </a:lnTo>
                  <a:lnTo>
                    <a:pt x="83" y="4"/>
                  </a:lnTo>
                  <a:lnTo>
                    <a:pt x="63" y="0"/>
                  </a:lnTo>
                  <a:lnTo>
                    <a:pt x="33" y="0"/>
                  </a:lnTo>
                  <a:lnTo>
                    <a:pt x="0" y="4"/>
                  </a:lnTo>
                  <a:lnTo>
                    <a:pt x="46" y="34"/>
                  </a:lnTo>
                  <a:lnTo>
                    <a:pt x="79" y="59"/>
                  </a:lnTo>
                  <a:lnTo>
                    <a:pt x="96" y="88"/>
                  </a:lnTo>
                  <a:lnTo>
                    <a:pt x="113" y="67"/>
                  </a:lnTo>
                  <a:lnTo>
                    <a:pt x="134" y="67"/>
                  </a:lnTo>
                  <a:lnTo>
                    <a:pt x="163" y="84"/>
                  </a:lnTo>
                  <a:lnTo>
                    <a:pt x="184" y="97"/>
                  </a:lnTo>
                  <a:lnTo>
                    <a:pt x="213" y="92"/>
                  </a:lnTo>
                  <a:lnTo>
                    <a:pt x="251" y="84"/>
                  </a:lnTo>
                  <a:lnTo>
                    <a:pt x="293" y="84"/>
                  </a:lnTo>
                  <a:lnTo>
                    <a:pt x="398" y="88"/>
                  </a:lnTo>
                  <a:lnTo>
                    <a:pt x="377" y="55"/>
                  </a:lnTo>
                  <a:lnTo>
                    <a:pt x="323" y="38"/>
                  </a:lnTo>
                  <a:close/>
                </a:path>
              </a:pathLst>
            </a:custGeom>
            <a:solidFill>
              <a:srgbClr val="b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88360" y="5406840"/>
              <a:ext cx="869760" cy="149040"/>
            </a:xfrm>
            <a:custGeom>
              <a:avLst/>
              <a:gdLst/>
              <a:ahLst/>
              <a:rect l="l" t="t" r="r" b="b"/>
              <a:pathLst>
                <a:path w="1096" h="189">
                  <a:moveTo>
                    <a:pt x="105" y="67"/>
                  </a:moveTo>
                  <a:lnTo>
                    <a:pt x="172" y="71"/>
                  </a:lnTo>
                  <a:lnTo>
                    <a:pt x="244" y="80"/>
                  </a:lnTo>
                  <a:lnTo>
                    <a:pt x="315" y="76"/>
                  </a:lnTo>
                  <a:lnTo>
                    <a:pt x="395" y="63"/>
                  </a:lnTo>
                  <a:lnTo>
                    <a:pt x="449" y="63"/>
                  </a:lnTo>
                  <a:lnTo>
                    <a:pt x="508" y="63"/>
                  </a:lnTo>
                  <a:lnTo>
                    <a:pt x="571" y="59"/>
                  </a:lnTo>
                  <a:lnTo>
                    <a:pt x="629" y="50"/>
                  </a:lnTo>
                  <a:lnTo>
                    <a:pt x="694" y="55"/>
                  </a:lnTo>
                  <a:lnTo>
                    <a:pt x="752" y="50"/>
                  </a:lnTo>
                  <a:lnTo>
                    <a:pt x="794" y="46"/>
                  </a:lnTo>
                  <a:lnTo>
                    <a:pt x="841" y="25"/>
                  </a:lnTo>
                  <a:lnTo>
                    <a:pt x="887" y="25"/>
                  </a:lnTo>
                  <a:lnTo>
                    <a:pt x="950" y="21"/>
                  </a:lnTo>
                  <a:lnTo>
                    <a:pt x="983" y="0"/>
                  </a:lnTo>
                  <a:lnTo>
                    <a:pt x="1012" y="17"/>
                  </a:lnTo>
                  <a:lnTo>
                    <a:pt x="1096" y="21"/>
                  </a:lnTo>
                  <a:lnTo>
                    <a:pt x="1029" y="42"/>
                  </a:lnTo>
                  <a:lnTo>
                    <a:pt x="1000" y="50"/>
                  </a:lnTo>
                  <a:lnTo>
                    <a:pt x="971" y="59"/>
                  </a:lnTo>
                  <a:lnTo>
                    <a:pt x="929" y="59"/>
                  </a:lnTo>
                  <a:lnTo>
                    <a:pt x="887" y="80"/>
                  </a:lnTo>
                  <a:lnTo>
                    <a:pt x="862" y="88"/>
                  </a:lnTo>
                  <a:lnTo>
                    <a:pt x="824" y="92"/>
                  </a:lnTo>
                  <a:lnTo>
                    <a:pt x="782" y="92"/>
                  </a:lnTo>
                  <a:lnTo>
                    <a:pt x="740" y="88"/>
                  </a:lnTo>
                  <a:lnTo>
                    <a:pt x="711" y="92"/>
                  </a:lnTo>
                  <a:lnTo>
                    <a:pt x="677" y="105"/>
                  </a:lnTo>
                  <a:lnTo>
                    <a:pt x="650" y="117"/>
                  </a:lnTo>
                  <a:lnTo>
                    <a:pt x="634" y="126"/>
                  </a:lnTo>
                  <a:lnTo>
                    <a:pt x="583" y="117"/>
                  </a:lnTo>
                  <a:lnTo>
                    <a:pt x="554" y="117"/>
                  </a:lnTo>
                  <a:lnTo>
                    <a:pt x="516" y="130"/>
                  </a:lnTo>
                  <a:lnTo>
                    <a:pt x="483" y="143"/>
                  </a:lnTo>
                  <a:lnTo>
                    <a:pt x="449" y="147"/>
                  </a:lnTo>
                  <a:lnTo>
                    <a:pt x="420" y="147"/>
                  </a:lnTo>
                  <a:lnTo>
                    <a:pt x="382" y="147"/>
                  </a:lnTo>
                  <a:lnTo>
                    <a:pt x="332" y="159"/>
                  </a:lnTo>
                  <a:lnTo>
                    <a:pt x="302" y="168"/>
                  </a:lnTo>
                  <a:lnTo>
                    <a:pt x="252" y="168"/>
                  </a:lnTo>
                  <a:lnTo>
                    <a:pt x="189" y="159"/>
                  </a:lnTo>
                  <a:lnTo>
                    <a:pt x="143" y="159"/>
                  </a:lnTo>
                  <a:lnTo>
                    <a:pt x="76" y="176"/>
                  </a:lnTo>
                  <a:lnTo>
                    <a:pt x="34" y="180"/>
                  </a:lnTo>
                  <a:lnTo>
                    <a:pt x="0" y="189"/>
                  </a:lnTo>
                  <a:lnTo>
                    <a:pt x="0" y="164"/>
                  </a:lnTo>
                  <a:lnTo>
                    <a:pt x="26" y="143"/>
                  </a:lnTo>
                  <a:lnTo>
                    <a:pt x="55" y="130"/>
                  </a:lnTo>
                  <a:lnTo>
                    <a:pt x="105" y="67"/>
                  </a:lnTo>
                  <a:close/>
                </a:path>
              </a:pathLst>
            </a:custGeom>
            <a:solidFill>
              <a:srgbClr val="b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3255840" y="4270320"/>
            <a:ext cx="2459160" cy="2358720"/>
            <a:chOff x="3255840" y="4270320"/>
            <a:chExt cx="2459160" cy="2358720"/>
          </a:xfrm>
        </p:grpSpPr>
        <p:grpSp>
          <p:nvGrpSpPr>
            <p:cNvPr id="102" name=""/>
            <p:cNvGrpSpPr/>
            <p:nvPr/>
          </p:nvGrpSpPr>
          <p:grpSpPr>
            <a:xfrm>
              <a:off x="3274920" y="4284360"/>
              <a:ext cx="2440080" cy="2344680"/>
              <a:chOff x="3274920" y="4284360"/>
              <a:chExt cx="2440080" cy="2344680"/>
            </a:xfrm>
          </p:grpSpPr>
          <p:sp>
            <p:nvSpPr>
              <p:cNvPr id="103" name=""/>
              <p:cNvSpPr/>
              <p:nvPr/>
            </p:nvSpPr>
            <p:spPr>
              <a:xfrm flipV="1">
                <a:off x="3274920" y="4284000"/>
                <a:ext cx="2440080" cy="2344680"/>
              </a:xfrm>
              <a:custGeom>
                <a:avLst/>
                <a:gdLst/>
                <a:ahLst/>
                <a:rect l="l" t="t" r="r" b="b"/>
                <a:pathLst>
                  <a:path w="3072" h="2953">
                    <a:moveTo>
                      <a:pt x="999" y="2928"/>
                    </a:moveTo>
                    <a:lnTo>
                      <a:pt x="1133" y="2844"/>
                    </a:lnTo>
                    <a:lnTo>
                      <a:pt x="1192" y="2769"/>
                    </a:lnTo>
                    <a:lnTo>
                      <a:pt x="1226" y="2693"/>
                    </a:lnTo>
                    <a:lnTo>
                      <a:pt x="1242" y="2601"/>
                    </a:lnTo>
                    <a:lnTo>
                      <a:pt x="1259" y="2509"/>
                    </a:lnTo>
                    <a:lnTo>
                      <a:pt x="1268" y="2408"/>
                    </a:lnTo>
                    <a:lnTo>
                      <a:pt x="1276" y="2299"/>
                    </a:lnTo>
                    <a:lnTo>
                      <a:pt x="1293" y="2097"/>
                    </a:lnTo>
                    <a:lnTo>
                      <a:pt x="1301" y="1929"/>
                    </a:lnTo>
                    <a:lnTo>
                      <a:pt x="1301" y="1812"/>
                    </a:lnTo>
                    <a:lnTo>
                      <a:pt x="1293" y="1736"/>
                    </a:lnTo>
                    <a:lnTo>
                      <a:pt x="1242" y="1661"/>
                    </a:lnTo>
                    <a:lnTo>
                      <a:pt x="1192" y="1644"/>
                    </a:lnTo>
                    <a:lnTo>
                      <a:pt x="1117" y="1611"/>
                    </a:lnTo>
                    <a:lnTo>
                      <a:pt x="1016" y="1611"/>
                    </a:lnTo>
                    <a:lnTo>
                      <a:pt x="865" y="1577"/>
                    </a:lnTo>
                    <a:lnTo>
                      <a:pt x="848" y="1577"/>
                    </a:lnTo>
                    <a:lnTo>
                      <a:pt x="756" y="1544"/>
                    </a:lnTo>
                    <a:lnTo>
                      <a:pt x="587" y="1519"/>
                    </a:lnTo>
                    <a:lnTo>
                      <a:pt x="461" y="1502"/>
                    </a:lnTo>
                    <a:lnTo>
                      <a:pt x="327" y="1460"/>
                    </a:lnTo>
                    <a:lnTo>
                      <a:pt x="176" y="1460"/>
                    </a:lnTo>
                    <a:lnTo>
                      <a:pt x="0" y="1477"/>
                    </a:lnTo>
                    <a:lnTo>
                      <a:pt x="251" y="1447"/>
                    </a:lnTo>
                    <a:lnTo>
                      <a:pt x="293" y="1426"/>
                    </a:lnTo>
                    <a:lnTo>
                      <a:pt x="314" y="1397"/>
                    </a:lnTo>
                    <a:lnTo>
                      <a:pt x="327" y="1326"/>
                    </a:lnTo>
                    <a:lnTo>
                      <a:pt x="293" y="1175"/>
                    </a:lnTo>
                    <a:lnTo>
                      <a:pt x="285" y="1066"/>
                    </a:lnTo>
                    <a:lnTo>
                      <a:pt x="344" y="1317"/>
                    </a:lnTo>
                    <a:lnTo>
                      <a:pt x="352" y="1384"/>
                    </a:lnTo>
                    <a:lnTo>
                      <a:pt x="381" y="1414"/>
                    </a:lnTo>
                    <a:lnTo>
                      <a:pt x="419" y="1435"/>
                    </a:lnTo>
                    <a:lnTo>
                      <a:pt x="461" y="1451"/>
                    </a:lnTo>
                    <a:lnTo>
                      <a:pt x="595" y="1468"/>
                    </a:lnTo>
                    <a:lnTo>
                      <a:pt x="713" y="1468"/>
                    </a:lnTo>
                    <a:lnTo>
                      <a:pt x="654" y="1414"/>
                    </a:lnTo>
                    <a:lnTo>
                      <a:pt x="587" y="1317"/>
                    </a:lnTo>
                    <a:lnTo>
                      <a:pt x="537" y="1217"/>
                    </a:lnTo>
                    <a:lnTo>
                      <a:pt x="461" y="1041"/>
                    </a:lnTo>
                    <a:lnTo>
                      <a:pt x="578" y="1242"/>
                    </a:lnTo>
                    <a:lnTo>
                      <a:pt x="641" y="1326"/>
                    </a:lnTo>
                    <a:lnTo>
                      <a:pt x="704" y="1389"/>
                    </a:lnTo>
                    <a:lnTo>
                      <a:pt x="773" y="1443"/>
                    </a:lnTo>
                    <a:lnTo>
                      <a:pt x="882" y="1493"/>
                    </a:lnTo>
                    <a:lnTo>
                      <a:pt x="982" y="1502"/>
                    </a:lnTo>
                    <a:lnTo>
                      <a:pt x="1091" y="1510"/>
                    </a:lnTo>
                    <a:lnTo>
                      <a:pt x="1209" y="1493"/>
                    </a:lnTo>
                    <a:lnTo>
                      <a:pt x="1110" y="1468"/>
                    </a:lnTo>
                    <a:lnTo>
                      <a:pt x="1065" y="1447"/>
                    </a:lnTo>
                    <a:lnTo>
                      <a:pt x="1016" y="1411"/>
                    </a:lnTo>
                    <a:lnTo>
                      <a:pt x="968" y="1362"/>
                    </a:lnTo>
                    <a:lnTo>
                      <a:pt x="851" y="1330"/>
                    </a:lnTo>
                    <a:lnTo>
                      <a:pt x="770" y="1299"/>
                    </a:lnTo>
                    <a:lnTo>
                      <a:pt x="711" y="1275"/>
                    </a:lnTo>
                    <a:lnTo>
                      <a:pt x="672" y="1257"/>
                    </a:lnTo>
                    <a:lnTo>
                      <a:pt x="644" y="1241"/>
                    </a:lnTo>
                    <a:lnTo>
                      <a:pt x="619" y="1221"/>
                    </a:lnTo>
                    <a:lnTo>
                      <a:pt x="601" y="1203"/>
                    </a:lnTo>
                    <a:lnTo>
                      <a:pt x="632" y="1224"/>
                    </a:lnTo>
                    <a:lnTo>
                      <a:pt x="660" y="1241"/>
                    </a:lnTo>
                    <a:lnTo>
                      <a:pt x="690" y="1253"/>
                    </a:lnTo>
                    <a:lnTo>
                      <a:pt x="739" y="1267"/>
                    </a:lnTo>
                    <a:lnTo>
                      <a:pt x="787" y="1282"/>
                    </a:lnTo>
                    <a:lnTo>
                      <a:pt x="838" y="1295"/>
                    </a:lnTo>
                    <a:lnTo>
                      <a:pt x="879" y="1303"/>
                    </a:lnTo>
                    <a:lnTo>
                      <a:pt x="906" y="1305"/>
                    </a:lnTo>
                    <a:lnTo>
                      <a:pt x="927" y="1308"/>
                    </a:lnTo>
                    <a:lnTo>
                      <a:pt x="890" y="1259"/>
                    </a:lnTo>
                    <a:lnTo>
                      <a:pt x="864" y="1215"/>
                    </a:lnTo>
                    <a:lnTo>
                      <a:pt x="822" y="1146"/>
                    </a:lnTo>
                    <a:lnTo>
                      <a:pt x="790" y="1087"/>
                    </a:lnTo>
                    <a:lnTo>
                      <a:pt x="764" y="1024"/>
                    </a:lnTo>
                    <a:lnTo>
                      <a:pt x="729" y="982"/>
                    </a:lnTo>
                    <a:lnTo>
                      <a:pt x="629" y="915"/>
                    </a:lnTo>
                    <a:lnTo>
                      <a:pt x="545" y="873"/>
                    </a:lnTo>
                    <a:lnTo>
                      <a:pt x="713" y="932"/>
                    </a:lnTo>
                    <a:lnTo>
                      <a:pt x="662" y="785"/>
                    </a:lnTo>
                    <a:lnTo>
                      <a:pt x="595" y="629"/>
                    </a:lnTo>
                    <a:lnTo>
                      <a:pt x="679" y="789"/>
                    </a:lnTo>
                    <a:lnTo>
                      <a:pt x="700" y="840"/>
                    </a:lnTo>
                    <a:lnTo>
                      <a:pt x="721" y="873"/>
                    </a:lnTo>
                    <a:lnTo>
                      <a:pt x="764" y="936"/>
                    </a:lnTo>
                    <a:lnTo>
                      <a:pt x="823" y="1024"/>
                    </a:lnTo>
                    <a:lnTo>
                      <a:pt x="868" y="1105"/>
                    </a:lnTo>
                    <a:lnTo>
                      <a:pt x="893" y="1150"/>
                    </a:lnTo>
                    <a:lnTo>
                      <a:pt x="974" y="1259"/>
                    </a:lnTo>
                    <a:lnTo>
                      <a:pt x="941" y="974"/>
                    </a:lnTo>
                    <a:lnTo>
                      <a:pt x="907" y="865"/>
                    </a:lnTo>
                    <a:lnTo>
                      <a:pt x="865" y="781"/>
                    </a:lnTo>
                    <a:lnTo>
                      <a:pt x="806" y="679"/>
                    </a:lnTo>
                    <a:lnTo>
                      <a:pt x="882" y="764"/>
                    </a:lnTo>
                    <a:lnTo>
                      <a:pt x="848" y="369"/>
                    </a:lnTo>
                    <a:lnTo>
                      <a:pt x="865" y="251"/>
                    </a:lnTo>
                    <a:lnTo>
                      <a:pt x="873" y="419"/>
                    </a:lnTo>
                    <a:lnTo>
                      <a:pt x="924" y="331"/>
                    </a:lnTo>
                    <a:lnTo>
                      <a:pt x="1058" y="226"/>
                    </a:lnTo>
                    <a:lnTo>
                      <a:pt x="932" y="348"/>
                    </a:lnTo>
                    <a:lnTo>
                      <a:pt x="882" y="444"/>
                    </a:lnTo>
                    <a:lnTo>
                      <a:pt x="907" y="679"/>
                    </a:lnTo>
                    <a:lnTo>
                      <a:pt x="932" y="806"/>
                    </a:lnTo>
                    <a:lnTo>
                      <a:pt x="974" y="940"/>
                    </a:lnTo>
                    <a:lnTo>
                      <a:pt x="1008" y="1141"/>
                    </a:lnTo>
                    <a:lnTo>
                      <a:pt x="1024" y="1259"/>
                    </a:lnTo>
                    <a:lnTo>
                      <a:pt x="1050" y="1309"/>
                    </a:lnTo>
                    <a:lnTo>
                      <a:pt x="1089" y="1342"/>
                    </a:lnTo>
                    <a:lnTo>
                      <a:pt x="1132" y="1365"/>
                    </a:lnTo>
                    <a:lnTo>
                      <a:pt x="1173" y="1375"/>
                    </a:lnTo>
                    <a:lnTo>
                      <a:pt x="1217" y="1368"/>
                    </a:lnTo>
                    <a:lnTo>
                      <a:pt x="1150" y="1200"/>
                    </a:lnTo>
                    <a:lnTo>
                      <a:pt x="1104" y="1112"/>
                    </a:lnTo>
                    <a:lnTo>
                      <a:pt x="1087" y="1049"/>
                    </a:lnTo>
                    <a:lnTo>
                      <a:pt x="1079" y="995"/>
                    </a:lnTo>
                    <a:lnTo>
                      <a:pt x="1075" y="932"/>
                    </a:lnTo>
                    <a:lnTo>
                      <a:pt x="1033" y="831"/>
                    </a:lnTo>
                    <a:lnTo>
                      <a:pt x="1104" y="932"/>
                    </a:lnTo>
                    <a:lnTo>
                      <a:pt x="1108" y="890"/>
                    </a:lnTo>
                    <a:lnTo>
                      <a:pt x="1066" y="671"/>
                    </a:lnTo>
                    <a:lnTo>
                      <a:pt x="1062" y="599"/>
                    </a:lnTo>
                    <a:lnTo>
                      <a:pt x="1066" y="541"/>
                    </a:lnTo>
                    <a:lnTo>
                      <a:pt x="1087" y="453"/>
                    </a:lnTo>
                    <a:lnTo>
                      <a:pt x="1138" y="314"/>
                    </a:lnTo>
                    <a:lnTo>
                      <a:pt x="1192" y="176"/>
                    </a:lnTo>
                    <a:lnTo>
                      <a:pt x="1100" y="478"/>
                    </a:lnTo>
                    <a:lnTo>
                      <a:pt x="1284" y="184"/>
                    </a:lnTo>
                    <a:lnTo>
                      <a:pt x="1146" y="440"/>
                    </a:lnTo>
                    <a:lnTo>
                      <a:pt x="1112" y="541"/>
                    </a:lnTo>
                    <a:lnTo>
                      <a:pt x="1104" y="608"/>
                    </a:lnTo>
                    <a:lnTo>
                      <a:pt x="1142" y="823"/>
                    </a:lnTo>
                    <a:lnTo>
                      <a:pt x="1146" y="949"/>
                    </a:lnTo>
                    <a:lnTo>
                      <a:pt x="1150" y="1024"/>
                    </a:lnTo>
                    <a:lnTo>
                      <a:pt x="1175" y="1104"/>
                    </a:lnTo>
                    <a:lnTo>
                      <a:pt x="1209" y="1166"/>
                    </a:lnTo>
                    <a:lnTo>
                      <a:pt x="1247" y="1242"/>
                    </a:lnTo>
                    <a:lnTo>
                      <a:pt x="1272" y="1305"/>
                    </a:lnTo>
                    <a:lnTo>
                      <a:pt x="1312" y="1389"/>
                    </a:lnTo>
                    <a:lnTo>
                      <a:pt x="1303" y="1338"/>
                    </a:lnTo>
                    <a:lnTo>
                      <a:pt x="1294" y="1282"/>
                    </a:lnTo>
                    <a:lnTo>
                      <a:pt x="1301" y="1007"/>
                    </a:lnTo>
                    <a:lnTo>
                      <a:pt x="1276" y="969"/>
                    </a:lnTo>
                    <a:lnTo>
                      <a:pt x="1263" y="932"/>
                    </a:lnTo>
                    <a:lnTo>
                      <a:pt x="1247" y="873"/>
                    </a:lnTo>
                    <a:lnTo>
                      <a:pt x="1221" y="777"/>
                    </a:lnTo>
                    <a:lnTo>
                      <a:pt x="1184" y="675"/>
                    </a:lnTo>
                    <a:lnTo>
                      <a:pt x="1255" y="819"/>
                    </a:lnTo>
                    <a:lnTo>
                      <a:pt x="1276" y="881"/>
                    </a:lnTo>
                    <a:lnTo>
                      <a:pt x="1305" y="923"/>
                    </a:lnTo>
                    <a:lnTo>
                      <a:pt x="1305" y="641"/>
                    </a:lnTo>
                    <a:lnTo>
                      <a:pt x="1301" y="461"/>
                    </a:lnTo>
                    <a:lnTo>
                      <a:pt x="1280" y="302"/>
                    </a:lnTo>
                    <a:lnTo>
                      <a:pt x="1314" y="411"/>
                    </a:lnTo>
                    <a:lnTo>
                      <a:pt x="1351" y="293"/>
                    </a:lnTo>
                    <a:lnTo>
                      <a:pt x="1377" y="222"/>
                    </a:lnTo>
                    <a:lnTo>
                      <a:pt x="1465" y="29"/>
                    </a:lnTo>
                    <a:lnTo>
                      <a:pt x="1410" y="180"/>
                    </a:lnTo>
                    <a:lnTo>
                      <a:pt x="1377" y="277"/>
                    </a:lnTo>
                    <a:lnTo>
                      <a:pt x="1356" y="356"/>
                    </a:lnTo>
                    <a:lnTo>
                      <a:pt x="1339" y="423"/>
                    </a:lnTo>
                    <a:lnTo>
                      <a:pt x="1343" y="578"/>
                    </a:lnTo>
                    <a:lnTo>
                      <a:pt x="1406" y="461"/>
                    </a:lnTo>
                    <a:lnTo>
                      <a:pt x="1431" y="390"/>
                    </a:lnTo>
                    <a:lnTo>
                      <a:pt x="1456" y="306"/>
                    </a:lnTo>
                    <a:lnTo>
                      <a:pt x="1481" y="222"/>
                    </a:lnTo>
                    <a:lnTo>
                      <a:pt x="1498" y="138"/>
                    </a:lnTo>
                    <a:lnTo>
                      <a:pt x="1528" y="0"/>
                    </a:lnTo>
                    <a:lnTo>
                      <a:pt x="1507" y="168"/>
                    </a:lnTo>
                    <a:lnTo>
                      <a:pt x="1498" y="230"/>
                    </a:lnTo>
                    <a:lnTo>
                      <a:pt x="1473" y="323"/>
                    </a:lnTo>
                    <a:lnTo>
                      <a:pt x="1444" y="423"/>
                    </a:lnTo>
                    <a:lnTo>
                      <a:pt x="1414" y="507"/>
                    </a:lnTo>
                    <a:lnTo>
                      <a:pt x="1377" y="595"/>
                    </a:lnTo>
                    <a:lnTo>
                      <a:pt x="1368" y="781"/>
                    </a:lnTo>
                    <a:lnTo>
                      <a:pt x="1385" y="999"/>
                    </a:lnTo>
                    <a:lnTo>
                      <a:pt x="1385" y="1301"/>
                    </a:lnTo>
                    <a:lnTo>
                      <a:pt x="1419" y="1443"/>
                    </a:lnTo>
                    <a:lnTo>
                      <a:pt x="1435" y="1295"/>
                    </a:lnTo>
                    <a:lnTo>
                      <a:pt x="1448" y="1194"/>
                    </a:lnTo>
                    <a:lnTo>
                      <a:pt x="1461" y="1112"/>
                    </a:lnTo>
                    <a:lnTo>
                      <a:pt x="1481" y="993"/>
                    </a:lnTo>
                    <a:lnTo>
                      <a:pt x="1507" y="907"/>
                    </a:lnTo>
                    <a:lnTo>
                      <a:pt x="1544" y="805"/>
                    </a:lnTo>
                    <a:lnTo>
                      <a:pt x="1477" y="598"/>
                    </a:lnTo>
                    <a:lnTo>
                      <a:pt x="1511" y="661"/>
                    </a:lnTo>
                    <a:lnTo>
                      <a:pt x="1536" y="719"/>
                    </a:lnTo>
                    <a:lnTo>
                      <a:pt x="1561" y="767"/>
                    </a:lnTo>
                    <a:lnTo>
                      <a:pt x="1645" y="633"/>
                    </a:lnTo>
                    <a:lnTo>
                      <a:pt x="1674" y="564"/>
                    </a:lnTo>
                    <a:lnTo>
                      <a:pt x="1662" y="386"/>
                    </a:lnTo>
                    <a:lnTo>
                      <a:pt x="1704" y="553"/>
                    </a:lnTo>
                    <a:lnTo>
                      <a:pt x="1922" y="210"/>
                    </a:lnTo>
                    <a:lnTo>
                      <a:pt x="1989" y="84"/>
                    </a:lnTo>
                    <a:lnTo>
                      <a:pt x="1913" y="285"/>
                    </a:lnTo>
                    <a:lnTo>
                      <a:pt x="1737" y="603"/>
                    </a:lnTo>
                    <a:lnTo>
                      <a:pt x="2152" y="331"/>
                    </a:lnTo>
                    <a:lnTo>
                      <a:pt x="1737" y="637"/>
                    </a:lnTo>
                    <a:lnTo>
                      <a:pt x="1662" y="773"/>
                    </a:lnTo>
                    <a:lnTo>
                      <a:pt x="1603" y="881"/>
                    </a:lnTo>
                    <a:lnTo>
                      <a:pt x="1570" y="1024"/>
                    </a:lnTo>
                    <a:lnTo>
                      <a:pt x="1536" y="1234"/>
                    </a:lnTo>
                    <a:lnTo>
                      <a:pt x="1515" y="1426"/>
                    </a:lnTo>
                    <a:lnTo>
                      <a:pt x="1557" y="1278"/>
                    </a:lnTo>
                    <a:lnTo>
                      <a:pt x="1591" y="1215"/>
                    </a:lnTo>
                    <a:lnTo>
                      <a:pt x="1637" y="1150"/>
                    </a:lnTo>
                    <a:lnTo>
                      <a:pt x="1700" y="1073"/>
                    </a:lnTo>
                    <a:lnTo>
                      <a:pt x="1737" y="1027"/>
                    </a:lnTo>
                    <a:lnTo>
                      <a:pt x="1771" y="978"/>
                    </a:lnTo>
                    <a:lnTo>
                      <a:pt x="1775" y="918"/>
                    </a:lnTo>
                    <a:lnTo>
                      <a:pt x="1779" y="729"/>
                    </a:lnTo>
                    <a:lnTo>
                      <a:pt x="1792" y="863"/>
                    </a:lnTo>
                    <a:lnTo>
                      <a:pt x="1804" y="914"/>
                    </a:lnTo>
                    <a:lnTo>
                      <a:pt x="1830" y="932"/>
                    </a:lnTo>
                    <a:lnTo>
                      <a:pt x="1884" y="838"/>
                    </a:lnTo>
                    <a:lnTo>
                      <a:pt x="1934" y="759"/>
                    </a:lnTo>
                    <a:lnTo>
                      <a:pt x="1972" y="696"/>
                    </a:lnTo>
                    <a:lnTo>
                      <a:pt x="2022" y="623"/>
                    </a:lnTo>
                    <a:lnTo>
                      <a:pt x="2106" y="536"/>
                    </a:lnTo>
                    <a:lnTo>
                      <a:pt x="2194" y="461"/>
                    </a:lnTo>
                    <a:lnTo>
                      <a:pt x="2190" y="212"/>
                    </a:lnTo>
                    <a:lnTo>
                      <a:pt x="2215" y="443"/>
                    </a:lnTo>
                    <a:lnTo>
                      <a:pt x="2372" y="369"/>
                    </a:lnTo>
                    <a:lnTo>
                      <a:pt x="2531" y="298"/>
                    </a:lnTo>
                    <a:lnTo>
                      <a:pt x="2317" y="426"/>
                    </a:lnTo>
                    <a:lnTo>
                      <a:pt x="2456" y="514"/>
                    </a:lnTo>
                    <a:lnTo>
                      <a:pt x="2291" y="439"/>
                    </a:lnTo>
                    <a:lnTo>
                      <a:pt x="2232" y="481"/>
                    </a:lnTo>
                    <a:lnTo>
                      <a:pt x="2165" y="549"/>
                    </a:lnTo>
                    <a:lnTo>
                      <a:pt x="2102" y="616"/>
                    </a:lnTo>
                    <a:lnTo>
                      <a:pt x="2056" y="678"/>
                    </a:lnTo>
                    <a:lnTo>
                      <a:pt x="2018" y="738"/>
                    </a:lnTo>
                    <a:lnTo>
                      <a:pt x="1985" y="813"/>
                    </a:lnTo>
                    <a:lnTo>
                      <a:pt x="1968" y="869"/>
                    </a:lnTo>
                    <a:lnTo>
                      <a:pt x="2027" y="859"/>
                    </a:lnTo>
                    <a:lnTo>
                      <a:pt x="2094" y="838"/>
                    </a:lnTo>
                    <a:lnTo>
                      <a:pt x="2169" y="814"/>
                    </a:lnTo>
                    <a:lnTo>
                      <a:pt x="2257" y="775"/>
                    </a:lnTo>
                    <a:lnTo>
                      <a:pt x="2334" y="747"/>
                    </a:lnTo>
                    <a:lnTo>
                      <a:pt x="2389" y="724"/>
                    </a:lnTo>
                    <a:lnTo>
                      <a:pt x="2447" y="690"/>
                    </a:lnTo>
                    <a:lnTo>
                      <a:pt x="2481" y="648"/>
                    </a:lnTo>
                    <a:lnTo>
                      <a:pt x="2506" y="602"/>
                    </a:lnTo>
                    <a:lnTo>
                      <a:pt x="2498" y="648"/>
                    </a:lnTo>
                    <a:lnTo>
                      <a:pt x="2477" y="687"/>
                    </a:lnTo>
                    <a:lnTo>
                      <a:pt x="2439" y="719"/>
                    </a:lnTo>
                    <a:lnTo>
                      <a:pt x="2347" y="775"/>
                    </a:lnTo>
                    <a:lnTo>
                      <a:pt x="2261" y="821"/>
                    </a:lnTo>
                    <a:lnTo>
                      <a:pt x="2182" y="856"/>
                    </a:lnTo>
                    <a:lnTo>
                      <a:pt x="2123" y="880"/>
                    </a:lnTo>
                    <a:lnTo>
                      <a:pt x="2060" y="907"/>
                    </a:lnTo>
                    <a:lnTo>
                      <a:pt x="1981" y="932"/>
                    </a:lnTo>
                    <a:lnTo>
                      <a:pt x="1913" y="974"/>
                    </a:lnTo>
                    <a:lnTo>
                      <a:pt x="1855" y="1024"/>
                    </a:lnTo>
                    <a:lnTo>
                      <a:pt x="1788" y="1108"/>
                    </a:lnTo>
                    <a:lnTo>
                      <a:pt x="1708" y="1211"/>
                    </a:lnTo>
                    <a:lnTo>
                      <a:pt x="1670" y="1280"/>
                    </a:lnTo>
                    <a:lnTo>
                      <a:pt x="1645" y="1324"/>
                    </a:lnTo>
                    <a:lnTo>
                      <a:pt x="1628" y="1379"/>
                    </a:lnTo>
                    <a:lnTo>
                      <a:pt x="1616" y="1456"/>
                    </a:lnTo>
                    <a:lnTo>
                      <a:pt x="1708" y="1389"/>
                    </a:lnTo>
                    <a:lnTo>
                      <a:pt x="1754" y="1354"/>
                    </a:lnTo>
                    <a:lnTo>
                      <a:pt x="1779" y="1324"/>
                    </a:lnTo>
                    <a:lnTo>
                      <a:pt x="1800" y="1278"/>
                    </a:lnTo>
                    <a:lnTo>
                      <a:pt x="1825" y="1194"/>
                    </a:lnTo>
                    <a:lnTo>
                      <a:pt x="1846" y="1106"/>
                    </a:lnTo>
                    <a:lnTo>
                      <a:pt x="1884" y="1048"/>
                    </a:lnTo>
                    <a:lnTo>
                      <a:pt x="1863" y="1102"/>
                    </a:lnTo>
                    <a:lnTo>
                      <a:pt x="1846" y="1165"/>
                    </a:lnTo>
                    <a:lnTo>
                      <a:pt x="1838" y="1224"/>
                    </a:lnTo>
                    <a:lnTo>
                      <a:pt x="1830" y="1282"/>
                    </a:lnTo>
                    <a:lnTo>
                      <a:pt x="1830" y="1308"/>
                    </a:lnTo>
                    <a:lnTo>
                      <a:pt x="1838" y="1333"/>
                    </a:lnTo>
                    <a:lnTo>
                      <a:pt x="1888" y="1338"/>
                    </a:lnTo>
                    <a:lnTo>
                      <a:pt x="1997" y="1296"/>
                    </a:lnTo>
                    <a:lnTo>
                      <a:pt x="2115" y="1254"/>
                    </a:lnTo>
                    <a:lnTo>
                      <a:pt x="2299" y="1192"/>
                    </a:lnTo>
                    <a:lnTo>
                      <a:pt x="2347" y="1169"/>
                    </a:lnTo>
                    <a:lnTo>
                      <a:pt x="2397" y="1140"/>
                    </a:lnTo>
                    <a:lnTo>
                      <a:pt x="2426" y="1074"/>
                    </a:lnTo>
                    <a:lnTo>
                      <a:pt x="2473" y="861"/>
                    </a:lnTo>
                    <a:lnTo>
                      <a:pt x="2443" y="1133"/>
                    </a:lnTo>
                    <a:lnTo>
                      <a:pt x="2464" y="1140"/>
                    </a:lnTo>
                    <a:lnTo>
                      <a:pt x="2494" y="1123"/>
                    </a:lnTo>
                    <a:lnTo>
                      <a:pt x="2556" y="981"/>
                    </a:lnTo>
                    <a:lnTo>
                      <a:pt x="2540" y="1056"/>
                    </a:lnTo>
                    <a:lnTo>
                      <a:pt x="2527" y="1098"/>
                    </a:lnTo>
                    <a:lnTo>
                      <a:pt x="2552" y="1106"/>
                    </a:lnTo>
                    <a:lnTo>
                      <a:pt x="2590" y="1090"/>
                    </a:lnTo>
                    <a:lnTo>
                      <a:pt x="2619" y="1048"/>
                    </a:lnTo>
                    <a:lnTo>
                      <a:pt x="2712" y="961"/>
                    </a:lnTo>
                    <a:lnTo>
                      <a:pt x="2644" y="1035"/>
                    </a:lnTo>
                    <a:lnTo>
                      <a:pt x="2624" y="1077"/>
                    </a:lnTo>
                    <a:lnTo>
                      <a:pt x="2615" y="1115"/>
                    </a:lnTo>
                    <a:lnTo>
                      <a:pt x="2661" y="1152"/>
                    </a:lnTo>
                    <a:lnTo>
                      <a:pt x="2598" y="1136"/>
                    </a:lnTo>
                    <a:lnTo>
                      <a:pt x="2561" y="1146"/>
                    </a:lnTo>
                    <a:lnTo>
                      <a:pt x="2494" y="1165"/>
                    </a:lnTo>
                    <a:lnTo>
                      <a:pt x="2514" y="1186"/>
                    </a:lnTo>
                    <a:lnTo>
                      <a:pt x="2544" y="1232"/>
                    </a:lnTo>
                    <a:lnTo>
                      <a:pt x="2582" y="1341"/>
                    </a:lnTo>
                    <a:lnTo>
                      <a:pt x="2523" y="1241"/>
                    </a:lnTo>
                    <a:lnTo>
                      <a:pt x="2494" y="1207"/>
                    </a:lnTo>
                    <a:lnTo>
                      <a:pt x="2464" y="1190"/>
                    </a:lnTo>
                    <a:lnTo>
                      <a:pt x="2426" y="1192"/>
                    </a:lnTo>
                    <a:lnTo>
                      <a:pt x="2303" y="1234"/>
                    </a:lnTo>
                    <a:lnTo>
                      <a:pt x="2190" y="1275"/>
                    </a:lnTo>
                    <a:lnTo>
                      <a:pt x="2085" y="1308"/>
                    </a:lnTo>
                    <a:lnTo>
                      <a:pt x="1997" y="1342"/>
                    </a:lnTo>
                    <a:lnTo>
                      <a:pt x="1926" y="1379"/>
                    </a:lnTo>
                    <a:lnTo>
                      <a:pt x="1846" y="1422"/>
                    </a:lnTo>
                    <a:lnTo>
                      <a:pt x="1771" y="1471"/>
                    </a:lnTo>
                    <a:lnTo>
                      <a:pt x="1725" y="1510"/>
                    </a:lnTo>
                    <a:lnTo>
                      <a:pt x="1683" y="1552"/>
                    </a:lnTo>
                    <a:lnTo>
                      <a:pt x="1863" y="1560"/>
                    </a:lnTo>
                    <a:lnTo>
                      <a:pt x="2018" y="1548"/>
                    </a:lnTo>
                    <a:lnTo>
                      <a:pt x="2245" y="1519"/>
                    </a:lnTo>
                    <a:lnTo>
                      <a:pt x="2414" y="1493"/>
                    </a:lnTo>
                    <a:lnTo>
                      <a:pt x="2498" y="1479"/>
                    </a:lnTo>
                    <a:lnTo>
                      <a:pt x="2544" y="1463"/>
                    </a:lnTo>
                    <a:lnTo>
                      <a:pt x="2594" y="1443"/>
                    </a:lnTo>
                    <a:lnTo>
                      <a:pt x="2644" y="1417"/>
                    </a:lnTo>
                    <a:lnTo>
                      <a:pt x="2728" y="1349"/>
                    </a:lnTo>
                    <a:lnTo>
                      <a:pt x="2833" y="1242"/>
                    </a:lnTo>
                    <a:lnTo>
                      <a:pt x="2737" y="1362"/>
                    </a:lnTo>
                    <a:lnTo>
                      <a:pt x="2678" y="1417"/>
                    </a:lnTo>
                    <a:lnTo>
                      <a:pt x="2624" y="1460"/>
                    </a:lnTo>
                    <a:lnTo>
                      <a:pt x="2733" y="1454"/>
                    </a:lnTo>
                    <a:lnTo>
                      <a:pt x="2808" y="1433"/>
                    </a:lnTo>
                    <a:lnTo>
                      <a:pt x="2867" y="1404"/>
                    </a:lnTo>
                    <a:lnTo>
                      <a:pt x="2925" y="1379"/>
                    </a:lnTo>
                    <a:lnTo>
                      <a:pt x="3001" y="1345"/>
                    </a:lnTo>
                    <a:lnTo>
                      <a:pt x="3072" y="1329"/>
                    </a:lnTo>
                    <a:lnTo>
                      <a:pt x="3001" y="1362"/>
                    </a:lnTo>
                    <a:lnTo>
                      <a:pt x="2942" y="1396"/>
                    </a:lnTo>
                    <a:lnTo>
                      <a:pt x="2884" y="1425"/>
                    </a:lnTo>
                    <a:lnTo>
                      <a:pt x="2837" y="1450"/>
                    </a:lnTo>
                    <a:lnTo>
                      <a:pt x="2783" y="1471"/>
                    </a:lnTo>
                    <a:lnTo>
                      <a:pt x="2863" y="1479"/>
                    </a:lnTo>
                    <a:lnTo>
                      <a:pt x="2913" y="1471"/>
                    </a:lnTo>
                    <a:lnTo>
                      <a:pt x="2972" y="1458"/>
                    </a:lnTo>
                    <a:lnTo>
                      <a:pt x="3030" y="1442"/>
                    </a:lnTo>
                    <a:lnTo>
                      <a:pt x="2963" y="1485"/>
                    </a:lnTo>
                    <a:lnTo>
                      <a:pt x="2892" y="1496"/>
                    </a:lnTo>
                    <a:lnTo>
                      <a:pt x="2812" y="1496"/>
                    </a:lnTo>
                    <a:lnTo>
                      <a:pt x="2678" y="1506"/>
                    </a:lnTo>
                    <a:lnTo>
                      <a:pt x="2636" y="1513"/>
                    </a:lnTo>
                    <a:lnTo>
                      <a:pt x="2686" y="1534"/>
                    </a:lnTo>
                    <a:lnTo>
                      <a:pt x="2766" y="1546"/>
                    </a:lnTo>
                    <a:lnTo>
                      <a:pt x="2833" y="1551"/>
                    </a:lnTo>
                    <a:lnTo>
                      <a:pt x="2976" y="1556"/>
                    </a:lnTo>
                    <a:lnTo>
                      <a:pt x="2816" y="1567"/>
                    </a:lnTo>
                    <a:lnTo>
                      <a:pt x="2745" y="1567"/>
                    </a:lnTo>
                    <a:lnTo>
                      <a:pt x="2682" y="1559"/>
                    </a:lnTo>
                    <a:lnTo>
                      <a:pt x="2636" y="1546"/>
                    </a:lnTo>
                    <a:lnTo>
                      <a:pt x="2569" y="1527"/>
                    </a:lnTo>
                    <a:lnTo>
                      <a:pt x="2405" y="1560"/>
                    </a:lnTo>
                    <a:lnTo>
                      <a:pt x="2157" y="1611"/>
                    </a:lnTo>
                    <a:lnTo>
                      <a:pt x="2194" y="1655"/>
                    </a:lnTo>
                    <a:lnTo>
                      <a:pt x="2266" y="1753"/>
                    </a:lnTo>
                    <a:lnTo>
                      <a:pt x="2119" y="1623"/>
                    </a:lnTo>
                    <a:lnTo>
                      <a:pt x="2131" y="1685"/>
                    </a:lnTo>
                    <a:lnTo>
                      <a:pt x="2123" y="1743"/>
                    </a:lnTo>
                    <a:lnTo>
                      <a:pt x="2115" y="1785"/>
                    </a:lnTo>
                    <a:lnTo>
                      <a:pt x="2098" y="1844"/>
                    </a:lnTo>
                    <a:lnTo>
                      <a:pt x="2060" y="1928"/>
                    </a:lnTo>
                    <a:lnTo>
                      <a:pt x="1964" y="2080"/>
                    </a:lnTo>
                    <a:lnTo>
                      <a:pt x="2027" y="1949"/>
                    </a:lnTo>
                    <a:lnTo>
                      <a:pt x="2060" y="1865"/>
                    </a:lnTo>
                    <a:lnTo>
                      <a:pt x="2085" y="1785"/>
                    </a:lnTo>
                    <a:lnTo>
                      <a:pt x="2081" y="1743"/>
                    </a:lnTo>
                    <a:lnTo>
                      <a:pt x="2077" y="1676"/>
                    </a:lnTo>
                    <a:lnTo>
                      <a:pt x="2064" y="1647"/>
                    </a:lnTo>
                    <a:lnTo>
                      <a:pt x="2043" y="1627"/>
                    </a:lnTo>
                    <a:lnTo>
                      <a:pt x="1930" y="1636"/>
                    </a:lnTo>
                    <a:lnTo>
                      <a:pt x="1825" y="1664"/>
                    </a:lnTo>
                    <a:lnTo>
                      <a:pt x="1767" y="1695"/>
                    </a:lnTo>
                    <a:lnTo>
                      <a:pt x="1725" y="1722"/>
                    </a:lnTo>
                    <a:lnTo>
                      <a:pt x="1695" y="1757"/>
                    </a:lnTo>
                    <a:lnTo>
                      <a:pt x="1670" y="1812"/>
                    </a:lnTo>
                    <a:lnTo>
                      <a:pt x="1670" y="1904"/>
                    </a:lnTo>
                    <a:lnTo>
                      <a:pt x="1670" y="2038"/>
                    </a:lnTo>
                    <a:lnTo>
                      <a:pt x="1662" y="2156"/>
                    </a:lnTo>
                    <a:lnTo>
                      <a:pt x="1662" y="2266"/>
                    </a:lnTo>
                    <a:lnTo>
                      <a:pt x="1662" y="2392"/>
                    </a:lnTo>
                    <a:lnTo>
                      <a:pt x="1662" y="2492"/>
                    </a:lnTo>
                    <a:lnTo>
                      <a:pt x="1687" y="2593"/>
                    </a:lnTo>
                    <a:lnTo>
                      <a:pt x="1721" y="2685"/>
                    </a:lnTo>
                    <a:lnTo>
                      <a:pt x="1779" y="2802"/>
                    </a:lnTo>
                    <a:lnTo>
                      <a:pt x="1838" y="2869"/>
                    </a:lnTo>
                    <a:lnTo>
                      <a:pt x="1897" y="2903"/>
                    </a:lnTo>
                    <a:lnTo>
                      <a:pt x="1997" y="2945"/>
                    </a:lnTo>
                    <a:lnTo>
                      <a:pt x="1863" y="2928"/>
                    </a:lnTo>
                    <a:lnTo>
                      <a:pt x="1737" y="2886"/>
                    </a:lnTo>
                    <a:lnTo>
                      <a:pt x="1662" y="2869"/>
                    </a:lnTo>
                    <a:lnTo>
                      <a:pt x="1603" y="2869"/>
                    </a:lnTo>
                    <a:lnTo>
                      <a:pt x="1561" y="2911"/>
                    </a:lnTo>
                    <a:lnTo>
                      <a:pt x="1528" y="2895"/>
                    </a:lnTo>
                    <a:lnTo>
                      <a:pt x="1461" y="2886"/>
                    </a:lnTo>
                    <a:lnTo>
                      <a:pt x="1402" y="2903"/>
                    </a:lnTo>
                    <a:lnTo>
                      <a:pt x="1343" y="2936"/>
                    </a:lnTo>
                    <a:lnTo>
                      <a:pt x="1301" y="2953"/>
                    </a:lnTo>
                    <a:lnTo>
                      <a:pt x="1301" y="2911"/>
                    </a:lnTo>
                    <a:lnTo>
                      <a:pt x="1276" y="2895"/>
                    </a:lnTo>
                    <a:lnTo>
                      <a:pt x="1217" y="2895"/>
                    </a:lnTo>
                    <a:lnTo>
                      <a:pt x="1167" y="2911"/>
                    </a:lnTo>
                    <a:lnTo>
                      <a:pt x="1150" y="2911"/>
                    </a:lnTo>
                    <a:lnTo>
                      <a:pt x="999" y="2928"/>
                    </a:lnTo>
                    <a:close/>
                  </a:path>
                </a:pathLst>
              </a:custGeom>
              <a:solidFill>
                <a:srgbClr val="7f5f3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V="1">
                <a:off x="4228920" y="4344480"/>
                <a:ext cx="465120" cy="1212840"/>
              </a:xfrm>
              <a:custGeom>
                <a:avLst/>
                <a:gdLst/>
                <a:ahLst/>
                <a:rect l="l" t="t" r="r" b="b"/>
                <a:pathLst>
                  <a:path w="587" h="1527">
                    <a:moveTo>
                      <a:pt x="8" y="201"/>
                    </a:moveTo>
                    <a:lnTo>
                      <a:pt x="58" y="235"/>
                    </a:lnTo>
                    <a:lnTo>
                      <a:pt x="100" y="285"/>
                    </a:lnTo>
                    <a:lnTo>
                      <a:pt x="125" y="369"/>
                    </a:lnTo>
                    <a:lnTo>
                      <a:pt x="150" y="561"/>
                    </a:lnTo>
                    <a:lnTo>
                      <a:pt x="142" y="796"/>
                    </a:lnTo>
                    <a:lnTo>
                      <a:pt x="142" y="1015"/>
                    </a:lnTo>
                    <a:lnTo>
                      <a:pt x="142" y="1158"/>
                    </a:lnTo>
                    <a:lnTo>
                      <a:pt x="125" y="1275"/>
                    </a:lnTo>
                    <a:lnTo>
                      <a:pt x="83" y="1401"/>
                    </a:lnTo>
                    <a:lnTo>
                      <a:pt x="0" y="1510"/>
                    </a:lnTo>
                    <a:lnTo>
                      <a:pt x="100" y="1393"/>
                    </a:lnTo>
                    <a:lnTo>
                      <a:pt x="150" y="1275"/>
                    </a:lnTo>
                    <a:lnTo>
                      <a:pt x="167" y="1259"/>
                    </a:lnTo>
                    <a:lnTo>
                      <a:pt x="159" y="1393"/>
                    </a:lnTo>
                    <a:lnTo>
                      <a:pt x="142" y="1502"/>
                    </a:lnTo>
                    <a:lnTo>
                      <a:pt x="159" y="1443"/>
                    </a:lnTo>
                    <a:lnTo>
                      <a:pt x="184" y="1292"/>
                    </a:lnTo>
                    <a:lnTo>
                      <a:pt x="184" y="1183"/>
                    </a:lnTo>
                    <a:lnTo>
                      <a:pt x="184" y="1124"/>
                    </a:lnTo>
                    <a:lnTo>
                      <a:pt x="209" y="990"/>
                    </a:lnTo>
                    <a:lnTo>
                      <a:pt x="209" y="873"/>
                    </a:lnTo>
                    <a:lnTo>
                      <a:pt x="201" y="779"/>
                    </a:lnTo>
                    <a:lnTo>
                      <a:pt x="192" y="654"/>
                    </a:lnTo>
                    <a:lnTo>
                      <a:pt x="176" y="536"/>
                    </a:lnTo>
                    <a:lnTo>
                      <a:pt x="176" y="436"/>
                    </a:lnTo>
                    <a:lnTo>
                      <a:pt x="218" y="310"/>
                    </a:lnTo>
                    <a:lnTo>
                      <a:pt x="226" y="486"/>
                    </a:lnTo>
                    <a:lnTo>
                      <a:pt x="226" y="561"/>
                    </a:lnTo>
                    <a:lnTo>
                      <a:pt x="234" y="679"/>
                    </a:lnTo>
                    <a:lnTo>
                      <a:pt x="243" y="737"/>
                    </a:lnTo>
                    <a:lnTo>
                      <a:pt x="251" y="855"/>
                    </a:lnTo>
                    <a:lnTo>
                      <a:pt x="251" y="990"/>
                    </a:lnTo>
                    <a:lnTo>
                      <a:pt x="251" y="1116"/>
                    </a:lnTo>
                    <a:lnTo>
                      <a:pt x="243" y="1217"/>
                    </a:lnTo>
                    <a:lnTo>
                      <a:pt x="226" y="1326"/>
                    </a:lnTo>
                    <a:lnTo>
                      <a:pt x="226" y="1409"/>
                    </a:lnTo>
                    <a:lnTo>
                      <a:pt x="234" y="1477"/>
                    </a:lnTo>
                    <a:lnTo>
                      <a:pt x="251" y="1376"/>
                    </a:lnTo>
                    <a:lnTo>
                      <a:pt x="260" y="1443"/>
                    </a:lnTo>
                    <a:lnTo>
                      <a:pt x="293" y="1502"/>
                    </a:lnTo>
                    <a:lnTo>
                      <a:pt x="327" y="1527"/>
                    </a:lnTo>
                    <a:lnTo>
                      <a:pt x="318" y="1451"/>
                    </a:lnTo>
                    <a:lnTo>
                      <a:pt x="301" y="1317"/>
                    </a:lnTo>
                    <a:lnTo>
                      <a:pt x="293" y="1133"/>
                    </a:lnTo>
                    <a:lnTo>
                      <a:pt x="276" y="990"/>
                    </a:lnTo>
                    <a:lnTo>
                      <a:pt x="276" y="890"/>
                    </a:lnTo>
                    <a:lnTo>
                      <a:pt x="268" y="771"/>
                    </a:lnTo>
                    <a:lnTo>
                      <a:pt x="268" y="645"/>
                    </a:lnTo>
                    <a:lnTo>
                      <a:pt x="268" y="545"/>
                    </a:lnTo>
                    <a:lnTo>
                      <a:pt x="293" y="436"/>
                    </a:lnTo>
                    <a:lnTo>
                      <a:pt x="410" y="209"/>
                    </a:lnTo>
                    <a:lnTo>
                      <a:pt x="369" y="352"/>
                    </a:lnTo>
                    <a:lnTo>
                      <a:pt x="335" y="427"/>
                    </a:lnTo>
                    <a:lnTo>
                      <a:pt x="318" y="503"/>
                    </a:lnTo>
                    <a:lnTo>
                      <a:pt x="318" y="553"/>
                    </a:lnTo>
                    <a:lnTo>
                      <a:pt x="318" y="612"/>
                    </a:lnTo>
                    <a:lnTo>
                      <a:pt x="318" y="687"/>
                    </a:lnTo>
                    <a:lnTo>
                      <a:pt x="318" y="746"/>
                    </a:lnTo>
                    <a:lnTo>
                      <a:pt x="318" y="838"/>
                    </a:lnTo>
                    <a:lnTo>
                      <a:pt x="327" y="965"/>
                    </a:lnTo>
                    <a:lnTo>
                      <a:pt x="335" y="1057"/>
                    </a:lnTo>
                    <a:lnTo>
                      <a:pt x="352" y="1150"/>
                    </a:lnTo>
                    <a:lnTo>
                      <a:pt x="360" y="1242"/>
                    </a:lnTo>
                    <a:lnTo>
                      <a:pt x="369" y="1326"/>
                    </a:lnTo>
                    <a:lnTo>
                      <a:pt x="402" y="1384"/>
                    </a:lnTo>
                    <a:lnTo>
                      <a:pt x="444" y="1435"/>
                    </a:lnTo>
                    <a:lnTo>
                      <a:pt x="503" y="1468"/>
                    </a:lnTo>
                    <a:lnTo>
                      <a:pt x="587" y="1493"/>
                    </a:lnTo>
                    <a:lnTo>
                      <a:pt x="478" y="1418"/>
                    </a:lnTo>
                    <a:lnTo>
                      <a:pt x="427" y="1334"/>
                    </a:lnTo>
                    <a:lnTo>
                      <a:pt x="394" y="1259"/>
                    </a:lnTo>
                    <a:lnTo>
                      <a:pt x="385" y="1166"/>
                    </a:lnTo>
                    <a:lnTo>
                      <a:pt x="369" y="1032"/>
                    </a:lnTo>
                    <a:lnTo>
                      <a:pt x="360" y="907"/>
                    </a:lnTo>
                    <a:lnTo>
                      <a:pt x="352" y="779"/>
                    </a:lnTo>
                    <a:lnTo>
                      <a:pt x="369" y="654"/>
                    </a:lnTo>
                    <a:lnTo>
                      <a:pt x="369" y="561"/>
                    </a:lnTo>
                    <a:lnTo>
                      <a:pt x="394" y="478"/>
                    </a:lnTo>
                    <a:lnTo>
                      <a:pt x="427" y="385"/>
                    </a:lnTo>
                    <a:lnTo>
                      <a:pt x="452" y="302"/>
                    </a:lnTo>
                    <a:lnTo>
                      <a:pt x="528" y="243"/>
                    </a:lnTo>
                    <a:lnTo>
                      <a:pt x="419" y="293"/>
                    </a:lnTo>
                    <a:lnTo>
                      <a:pt x="478" y="134"/>
                    </a:lnTo>
                    <a:lnTo>
                      <a:pt x="385" y="201"/>
                    </a:lnTo>
                    <a:lnTo>
                      <a:pt x="327" y="268"/>
                    </a:lnTo>
                    <a:lnTo>
                      <a:pt x="293" y="360"/>
                    </a:lnTo>
                    <a:lnTo>
                      <a:pt x="268" y="402"/>
                    </a:lnTo>
                    <a:lnTo>
                      <a:pt x="251" y="293"/>
                    </a:lnTo>
                    <a:lnTo>
                      <a:pt x="285" y="159"/>
                    </a:lnTo>
                    <a:lnTo>
                      <a:pt x="285" y="75"/>
                    </a:lnTo>
                    <a:lnTo>
                      <a:pt x="285" y="0"/>
                    </a:lnTo>
                    <a:lnTo>
                      <a:pt x="251" y="176"/>
                    </a:lnTo>
                    <a:lnTo>
                      <a:pt x="234" y="251"/>
                    </a:lnTo>
                    <a:lnTo>
                      <a:pt x="209" y="293"/>
                    </a:lnTo>
                    <a:lnTo>
                      <a:pt x="167" y="327"/>
                    </a:lnTo>
                    <a:lnTo>
                      <a:pt x="142" y="268"/>
                    </a:lnTo>
                    <a:lnTo>
                      <a:pt x="8" y="201"/>
                    </a:lnTo>
                    <a:close/>
                  </a:path>
                </a:pathLst>
              </a:cu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 flipV="1">
              <a:off x="3255840" y="4270320"/>
              <a:ext cx="2459160" cy="241200"/>
            </a:xfrm>
            <a:custGeom>
              <a:avLst/>
              <a:gdLst/>
              <a:ahLst/>
              <a:rect l="l" t="t" r="r" b="b"/>
              <a:pathLst>
                <a:path w="3097" h="303">
                  <a:moveTo>
                    <a:pt x="167" y="252"/>
                  </a:moveTo>
                  <a:lnTo>
                    <a:pt x="318" y="227"/>
                  </a:lnTo>
                  <a:lnTo>
                    <a:pt x="452" y="227"/>
                  </a:lnTo>
                  <a:lnTo>
                    <a:pt x="603" y="227"/>
                  </a:lnTo>
                  <a:lnTo>
                    <a:pt x="721" y="193"/>
                  </a:lnTo>
                  <a:lnTo>
                    <a:pt x="798" y="185"/>
                  </a:lnTo>
                  <a:lnTo>
                    <a:pt x="890" y="168"/>
                  </a:lnTo>
                  <a:lnTo>
                    <a:pt x="957" y="126"/>
                  </a:lnTo>
                  <a:lnTo>
                    <a:pt x="1049" y="126"/>
                  </a:lnTo>
                  <a:lnTo>
                    <a:pt x="1111" y="122"/>
                  </a:lnTo>
                  <a:lnTo>
                    <a:pt x="1158" y="109"/>
                  </a:lnTo>
                  <a:lnTo>
                    <a:pt x="1185" y="108"/>
                  </a:lnTo>
                  <a:lnTo>
                    <a:pt x="1214" y="99"/>
                  </a:lnTo>
                  <a:lnTo>
                    <a:pt x="1244" y="88"/>
                  </a:lnTo>
                  <a:lnTo>
                    <a:pt x="1263" y="73"/>
                  </a:lnTo>
                  <a:lnTo>
                    <a:pt x="1301" y="34"/>
                  </a:lnTo>
                  <a:lnTo>
                    <a:pt x="1298" y="80"/>
                  </a:lnTo>
                  <a:lnTo>
                    <a:pt x="1309" y="109"/>
                  </a:lnTo>
                  <a:lnTo>
                    <a:pt x="1332" y="116"/>
                  </a:lnTo>
                  <a:lnTo>
                    <a:pt x="1349" y="97"/>
                  </a:lnTo>
                  <a:lnTo>
                    <a:pt x="1368" y="76"/>
                  </a:lnTo>
                  <a:lnTo>
                    <a:pt x="1396" y="99"/>
                  </a:lnTo>
                  <a:lnTo>
                    <a:pt x="1427" y="101"/>
                  </a:lnTo>
                  <a:lnTo>
                    <a:pt x="1451" y="92"/>
                  </a:lnTo>
                  <a:lnTo>
                    <a:pt x="1477" y="67"/>
                  </a:lnTo>
                  <a:lnTo>
                    <a:pt x="1488" y="38"/>
                  </a:lnTo>
                  <a:lnTo>
                    <a:pt x="1486" y="0"/>
                  </a:lnTo>
                  <a:lnTo>
                    <a:pt x="1544" y="42"/>
                  </a:lnTo>
                  <a:lnTo>
                    <a:pt x="1568" y="74"/>
                  </a:lnTo>
                  <a:lnTo>
                    <a:pt x="1592" y="92"/>
                  </a:lnTo>
                  <a:lnTo>
                    <a:pt x="1620" y="109"/>
                  </a:lnTo>
                  <a:lnTo>
                    <a:pt x="1656" y="122"/>
                  </a:lnTo>
                  <a:lnTo>
                    <a:pt x="1687" y="126"/>
                  </a:lnTo>
                  <a:lnTo>
                    <a:pt x="1694" y="105"/>
                  </a:lnTo>
                  <a:lnTo>
                    <a:pt x="1698" y="78"/>
                  </a:lnTo>
                  <a:lnTo>
                    <a:pt x="1697" y="46"/>
                  </a:lnTo>
                  <a:lnTo>
                    <a:pt x="1740" y="84"/>
                  </a:lnTo>
                  <a:lnTo>
                    <a:pt x="1748" y="63"/>
                  </a:lnTo>
                  <a:lnTo>
                    <a:pt x="1744" y="13"/>
                  </a:lnTo>
                  <a:lnTo>
                    <a:pt x="1782" y="53"/>
                  </a:lnTo>
                  <a:lnTo>
                    <a:pt x="1807" y="78"/>
                  </a:lnTo>
                  <a:lnTo>
                    <a:pt x="1832" y="95"/>
                  </a:lnTo>
                  <a:lnTo>
                    <a:pt x="1884" y="113"/>
                  </a:lnTo>
                  <a:lnTo>
                    <a:pt x="2022" y="151"/>
                  </a:lnTo>
                  <a:lnTo>
                    <a:pt x="2140" y="160"/>
                  </a:lnTo>
                  <a:lnTo>
                    <a:pt x="2274" y="185"/>
                  </a:lnTo>
                  <a:lnTo>
                    <a:pt x="2418" y="201"/>
                  </a:lnTo>
                  <a:lnTo>
                    <a:pt x="2535" y="210"/>
                  </a:lnTo>
                  <a:lnTo>
                    <a:pt x="2636" y="210"/>
                  </a:lnTo>
                  <a:lnTo>
                    <a:pt x="2795" y="227"/>
                  </a:lnTo>
                  <a:lnTo>
                    <a:pt x="2913" y="260"/>
                  </a:lnTo>
                  <a:lnTo>
                    <a:pt x="3022" y="268"/>
                  </a:lnTo>
                  <a:lnTo>
                    <a:pt x="3097" y="303"/>
                  </a:lnTo>
                  <a:lnTo>
                    <a:pt x="0" y="303"/>
                  </a:lnTo>
                  <a:lnTo>
                    <a:pt x="167" y="252"/>
                  </a:lnTo>
                  <a:close/>
                </a:path>
              </a:pathLst>
            </a:custGeom>
            <a:solidFill>
              <a:srgbClr val="b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3905280" y="5406840"/>
              <a:ext cx="382680" cy="85680"/>
            </a:xfrm>
            <a:custGeom>
              <a:avLst/>
              <a:gdLst/>
              <a:ahLst/>
              <a:rect l="l" t="t" r="r" b="b"/>
              <a:pathLst>
                <a:path w="482" h="109">
                  <a:moveTo>
                    <a:pt x="0" y="21"/>
                  </a:moveTo>
                  <a:lnTo>
                    <a:pt x="37" y="50"/>
                  </a:lnTo>
                  <a:lnTo>
                    <a:pt x="71" y="80"/>
                  </a:lnTo>
                  <a:lnTo>
                    <a:pt x="79" y="100"/>
                  </a:lnTo>
                  <a:lnTo>
                    <a:pt x="105" y="105"/>
                  </a:lnTo>
                  <a:lnTo>
                    <a:pt x="147" y="92"/>
                  </a:lnTo>
                  <a:lnTo>
                    <a:pt x="163" y="96"/>
                  </a:lnTo>
                  <a:lnTo>
                    <a:pt x="188" y="105"/>
                  </a:lnTo>
                  <a:lnTo>
                    <a:pt x="214" y="109"/>
                  </a:lnTo>
                  <a:lnTo>
                    <a:pt x="239" y="105"/>
                  </a:lnTo>
                  <a:lnTo>
                    <a:pt x="264" y="105"/>
                  </a:lnTo>
                  <a:lnTo>
                    <a:pt x="293" y="92"/>
                  </a:lnTo>
                  <a:lnTo>
                    <a:pt x="327" y="92"/>
                  </a:lnTo>
                  <a:lnTo>
                    <a:pt x="369" y="92"/>
                  </a:lnTo>
                  <a:lnTo>
                    <a:pt x="411" y="88"/>
                  </a:lnTo>
                  <a:lnTo>
                    <a:pt x="436" y="84"/>
                  </a:lnTo>
                  <a:lnTo>
                    <a:pt x="482" y="92"/>
                  </a:lnTo>
                  <a:lnTo>
                    <a:pt x="432" y="67"/>
                  </a:lnTo>
                  <a:lnTo>
                    <a:pt x="381" y="54"/>
                  </a:lnTo>
                  <a:lnTo>
                    <a:pt x="335" y="46"/>
                  </a:lnTo>
                  <a:lnTo>
                    <a:pt x="289" y="29"/>
                  </a:lnTo>
                  <a:lnTo>
                    <a:pt x="251" y="29"/>
                  </a:lnTo>
                  <a:lnTo>
                    <a:pt x="226" y="21"/>
                  </a:lnTo>
                  <a:lnTo>
                    <a:pt x="218" y="21"/>
                  </a:lnTo>
                  <a:lnTo>
                    <a:pt x="176" y="4"/>
                  </a:lnTo>
                  <a:lnTo>
                    <a:pt x="138" y="0"/>
                  </a:lnTo>
                  <a:lnTo>
                    <a:pt x="88" y="0"/>
                  </a:lnTo>
                  <a:lnTo>
                    <a:pt x="63" y="12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b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3548160" y="5446440"/>
              <a:ext cx="317520" cy="76320"/>
            </a:xfrm>
            <a:custGeom>
              <a:avLst/>
              <a:gdLst/>
              <a:ahLst/>
              <a:rect l="l" t="t" r="r" b="b"/>
              <a:pathLst>
                <a:path w="398" h="97">
                  <a:moveTo>
                    <a:pt x="323" y="38"/>
                  </a:moveTo>
                  <a:lnTo>
                    <a:pt x="260" y="25"/>
                  </a:lnTo>
                  <a:lnTo>
                    <a:pt x="205" y="13"/>
                  </a:lnTo>
                  <a:lnTo>
                    <a:pt x="167" y="13"/>
                  </a:lnTo>
                  <a:lnTo>
                    <a:pt x="134" y="17"/>
                  </a:lnTo>
                  <a:lnTo>
                    <a:pt x="104" y="13"/>
                  </a:lnTo>
                  <a:lnTo>
                    <a:pt x="83" y="4"/>
                  </a:lnTo>
                  <a:lnTo>
                    <a:pt x="63" y="0"/>
                  </a:lnTo>
                  <a:lnTo>
                    <a:pt x="33" y="0"/>
                  </a:lnTo>
                  <a:lnTo>
                    <a:pt x="0" y="4"/>
                  </a:lnTo>
                  <a:lnTo>
                    <a:pt x="46" y="34"/>
                  </a:lnTo>
                  <a:lnTo>
                    <a:pt x="79" y="59"/>
                  </a:lnTo>
                  <a:lnTo>
                    <a:pt x="96" y="88"/>
                  </a:lnTo>
                  <a:lnTo>
                    <a:pt x="113" y="67"/>
                  </a:lnTo>
                  <a:lnTo>
                    <a:pt x="134" y="67"/>
                  </a:lnTo>
                  <a:lnTo>
                    <a:pt x="163" y="84"/>
                  </a:lnTo>
                  <a:lnTo>
                    <a:pt x="184" y="97"/>
                  </a:lnTo>
                  <a:lnTo>
                    <a:pt x="213" y="92"/>
                  </a:lnTo>
                  <a:lnTo>
                    <a:pt x="251" y="84"/>
                  </a:lnTo>
                  <a:lnTo>
                    <a:pt x="293" y="84"/>
                  </a:lnTo>
                  <a:lnTo>
                    <a:pt x="398" y="88"/>
                  </a:lnTo>
                  <a:lnTo>
                    <a:pt x="377" y="55"/>
                  </a:lnTo>
                  <a:lnTo>
                    <a:pt x="323" y="38"/>
                  </a:lnTo>
                  <a:close/>
                </a:path>
              </a:pathLst>
            </a:custGeom>
            <a:solidFill>
              <a:srgbClr val="b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4572000" y="5340240"/>
              <a:ext cx="869760" cy="149040"/>
            </a:xfrm>
            <a:custGeom>
              <a:avLst/>
              <a:gdLst/>
              <a:ahLst/>
              <a:rect l="l" t="t" r="r" b="b"/>
              <a:pathLst>
                <a:path w="1096" h="189">
                  <a:moveTo>
                    <a:pt x="105" y="67"/>
                  </a:moveTo>
                  <a:lnTo>
                    <a:pt x="172" y="71"/>
                  </a:lnTo>
                  <a:lnTo>
                    <a:pt x="244" y="80"/>
                  </a:lnTo>
                  <a:lnTo>
                    <a:pt x="315" y="76"/>
                  </a:lnTo>
                  <a:lnTo>
                    <a:pt x="395" y="63"/>
                  </a:lnTo>
                  <a:lnTo>
                    <a:pt x="449" y="63"/>
                  </a:lnTo>
                  <a:lnTo>
                    <a:pt x="508" y="63"/>
                  </a:lnTo>
                  <a:lnTo>
                    <a:pt x="571" y="59"/>
                  </a:lnTo>
                  <a:lnTo>
                    <a:pt x="629" y="50"/>
                  </a:lnTo>
                  <a:lnTo>
                    <a:pt x="694" y="55"/>
                  </a:lnTo>
                  <a:lnTo>
                    <a:pt x="752" y="50"/>
                  </a:lnTo>
                  <a:lnTo>
                    <a:pt x="794" y="46"/>
                  </a:lnTo>
                  <a:lnTo>
                    <a:pt x="841" y="25"/>
                  </a:lnTo>
                  <a:lnTo>
                    <a:pt x="887" y="25"/>
                  </a:lnTo>
                  <a:lnTo>
                    <a:pt x="950" y="21"/>
                  </a:lnTo>
                  <a:lnTo>
                    <a:pt x="983" y="0"/>
                  </a:lnTo>
                  <a:lnTo>
                    <a:pt x="1012" y="17"/>
                  </a:lnTo>
                  <a:lnTo>
                    <a:pt x="1096" y="21"/>
                  </a:lnTo>
                  <a:lnTo>
                    <a:pt x="1029" y="42"/>
                  </a:lnTo>
                  <a:lnTo>
                    <a:pt x="1000" y="50"/>
                  </a:lnTo>
                  <a:lnTo>
                    <a:pt x="971" y="59"/>
                  </a:lnTo>
                  <a:lnTo>
                    <a:pt x="929" y="59"/>
                  </a:lnTo>
                  <a:lnTo>
                    <a:pt x="887" y="80"/>
                  </a:lnTo>
                  <a:lnTo>
                    <a:pt x="862" y="88"/>
                  </a:lnTo>
                  <a:lnTo>
                    <a:pt x="824" y="92"/>
                  </a:lnTo>
                  <a:lnTo>
                    <a:pt x="782" y="92"/>
                  </a:lnTo>
                  <a:lnTo>
                    <a:pt x="740" y="88"/>
                  </a:lnTo>
                  <a:lnTo>
                    <a:pt x="711" y="92"/>
                  </a:lnTo>
                  <a:lnTo>
                    <a:pt x="677" y="105"/>
                  </a:lnTo>
                  <a:lnTo>
                    <a:pt x="650" y="117"/>
                  </a:lnTo>
                  <a:lnTo>
                    <a:pt x="634" y="126"/>
                  </a:lnTo>
                  <a:lnTo>
                    <a:pt x="583" y="117"/>
                  </a:lnTo>
                  <a:lnTo>
                    <a:pt x="554" y="117"/>
                  </a:lnTo>
                  <a:lnTo>
                    <a:pt x="516" y="130"/>
                  </a:lnTo>
                  <a:lnTo>
                    <a:pt x="483" y="143"/>
                  </a:lnTo>
                  <a:lnTo>
                    <a:pt x="449" y="147"/>
                  </a:lnTo>
                  <a:lnTo>
                    <a:pt x="420" y="147"/>
                  </a:lnTo>
                  <a:lnTo>
                    <a:pt x="382" y="147"/>
                  </a:lnTo>
                  <a:lnTo>
                    <a:pt x="332" y="159"/>
                  </a:lnTo>
                  <a:lnTo>
                    <a:pt x="302" y="168"/>
                  </a:lnTo>
                  <a:lnTo>
                    <a:pt x="252" y="168"/>
                  </a:lnTo>
                  <a:lnTo>
                    <a:pt x="189" y="159"/>
                  </a:lnTo>
                  <a:lnTo>
                    <a:pt x="143" y="159"/>
                  </a:lnTo>
                  <a:lnTo>
                    <a:pt x="76" y="176"/>
                  </a:lnTo>
                  <a:lnTo>
                    <a:pt x="34" y="180"/>
                  </a:lnTo>
                  <a:lnTo>
                    <a:pt x="0" y="189"/>
                  </a:lnTo>
                  <a:lnTo>
                    <a:pt x="0" y="164"/>
                  </a:lnTo>
                  <a:lnTo>
                    <a:pt x="26" y="143"/>
                  </a:lnTo>
                  <a:lnTo>
                    <a:pt x="55" y="130"/>
                  </a:lnTo>
                  <a:lnTo>
                    <a:pt x="105" y="67"/>
                  </a:lnTo>
                  <a:close/>
                </a:path>
              </a:pathLst>
            </a:custGeom>
            <a:solidFill>
              <a:srgbClr val="b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04920" y="4191120"/>
            <a:ext cx="2458800" cy="2358720"/>
            <a:chOff x="304920" y="4191120"/>
            <a:chExt cx="2458800" cy="2358720"/>
          </a:xfrm>
        </p:grpSpPr>
        <p:grpSp>
          <p:nvGrpSpPr>
            <p:cNvPr id="110" name=""/>
            <p:cNvGrpSpPr/>
            <p:nvPr/>
          </p:nvGrpSpPr>
          <p:grpSpPr>
            <a:xfrm>
              <a:off x="323640" y="4191120"/>
              <a:ext cx="2439720" cy="2344680"/>
              <a:chOff x="323640" y="4191120"/>
              <a:chExt cx="2439720" cy="2344680"/>
            </a:xfrm>
          </p:grpSpPr>
          <p:sp>
            <p:nvSpPr>
              <p:cNvPr id="111" name=""/>
              <p:cNvSpPr/>
              <p:nvPr/>
            </p:nvSpPr>
            <p:spPr>
              <a:xfrm>
                <a:off x="323640" y="4191120"/>
                <a:ext cx="2439720" cy="2344680"/>
              </a:xfrm>
              <a:custGeom>
                <a:avLst/>
                <a:gdLst/>
                <a:ahLst/>
                <a:rect l="l" t="t" r="r" b="b"/>
                <a:pathLst>
                  <a:path w="3072" h="2953">
                    <a:moveTo>
                      <a:pt x="999" y="2928"/>
                    </a:moveTo>
                    <a:lnTo>
                      <a:pt x="1133" y="2844"/>
                    </a:lnTo>
                    <a:lnTo>
                      <a:pt x="1192" y="2769"/>
                    </a:lnTo>
                    <a:lnTo>
                      <a:pt x="1226" y="2693"/>
                    </a:lnTo>
                    <a:lnTo>
                      <a:pt x="1242" y="2601"/>
                    </a:lnTo>
                    <a:lnTo>
                      <a:pt x="1259" y="2509"/>
                    </a:lnTo>
                    <a:lnTo>
                      <a:pt x="1268" y="2408"/>
                    </a:lnTo>
                    <a:lnTo>
                      <a:pt x="1276" y="2299"/>
                    </a:lnTo>
                    <a:lnTo>
                      <a:pt x="1293" y="2097"/>
                    </a:lnTo>
                    <a:lnTo>
                      <a:pt x="1301" y="1929"/>
                    </a:lnTo>
                    <a:lnTo>
                      <a:pt x="1301" y="1812"/>
                    </a:lnTo>
                    <a:lnTo>
                      <a:pt x="1293" y="1736"/>
                    </a:lnTo>
                    <a:lnTo>
                      <a:pt x="1242" y="1661"/>
                    </a:lnTo>
                    <a:lnTo>
                      <a:pt x="1192" y="1644"/>
                    </a:lnTo>
                    <a:lnTo>
                      <a:pt x="1117" y="1611"/>
                    </a:lnTo>
                    <a:lnTo>
                      <a:pt x="1016" y="1611"/>
                    </a:lnTo>
                    <a:lnTo>
                      <a:pt x="865" y="1577"/>
                    </a:lnTo>
                    <a:lnTo>
                      <a:pt x="848" y="1577"/>
                    </a:lnTo>
                    <a:lnTo>
                      <a:pt x="756" y="1544"/>
                    </a:lnTo>
                    <a:lnTo>
                      <a:pt x="587" y="1519"/>
                    </a:lnTo>
                    <a:lnTo>
                      <a:pt x="461" y="1502"/>
                    </a:lnTo>
                    <a:lnTo>
                      <a:pt x="327" y="1460"/>
                    </a:lnTo>
                    <a:lnTo>
                      <a:pt x="176" y="1460"/>
                    </a:lnTo>
                    <a:lnTo>
                      <a:pt x="0" y="1477"/>
                    </a:lnTo>
                    <a:lnTo>
                      <a:pt x="251" y="1447"/>
                    </a:lnTo>
                    <a:lnTo>
                      <a:pt x="293" y="1426"/>
                    </a:lnTo>
                    <a:lnTo>
                      <a:pt x="314" y="1397"/>
                    </a:lnTo>
                    <a:lnTo>
                      <a:pt x="327" y="1326"/>
                    </a:lnTo>
                    <a:lnTo>
                      <a:pt x="293" y="1175"/>
                    </a:lnTo>
                    <a:lnTo>
                      <a:pt x="285" y="1066"/>
                    </a:lnTo>
                    <a:lnTo>
                      <a:pt x="344" y="1317"/>
                    </a:lnTo>
                    <a:lnTo>
                      <a:pt x="352" y="1384"/>
                    </a:lnTo>
                    <a:lnTo>
                      <a:pt x="381" y="1414"/>
                    </a:lnTo>
                    <a:lnTo>
                      <a:pt x="419" y="1435"/>
                    </a:lnTo>
                    <a:lnTo>
                      <a:pt x="461" y="1451"/>
                    </a:lnTo>
                    <a:lnTo>
                      <a:pt x="595" y="1468"/>
                    </a:lnTo>
                    <a:lnTo>
                      <a:pt x="713" y="1468"/>
                    </a:lnTo>
                    <a:lnTo>
                      <a:pt x="654" y="1414"/>
                    </a:lnTo>
                    <a:lnTo>
                      <a:pt x="587" y="1317"/>
                    </a:lnTo>
                    <a:lnTo>
                      <a:pt x="537" y="1217"/>
                    </a:lnTo>
                    <a:lnTo>
                      <a:pt x="461" y="1041"/>
                    </a:lnTo>
                    <a:lnTo>
                      <a:pt x="578" y="1242"/>
                    </a:lnTo>
                    <a:lnTo>
                      <a:pt x="641" y="1326"/>
                    </a:lnTo>
                    <a:lnTo>
                      <a:pt x="704" y="1389"/>
                    </a:lnTo>
                    <a:lnTo>
                      <a:pt x="773" y="1443"/>
                    </a:lnTo>
                    <a:lnTo>
                      <a:pt x="882" y="1493"/>
                    </a:lnTo>
                    <a:lnTo>
                      <a:pt x="982" y="1502"/>
                    </a:lnTo>
                    <a:lnTo>
                      <a:pt x="1091" y="1510"/>
                    </a:lnTo>
                    <a:lnTo>
                      <a:pt x="1209" y="1493"/>
                    </a:lnTo>
                    <a:lnTo>
                      <a:pt x="1110" y="1468"/>
                    </a:lnTo>
                    <a:lnTo>
                      <a:pt x="1065" y="1447"/>
                    </a:lnTo>
                    <a:lnTo>
                      <a:pt x="1016" y="1411"/>
                    </a:lnTo>
                    <a:lnTo>
                      <a:pt x="968" y="1362"/>
                    </a:lnTo>
                    <a:lnTo>
                      <a:pt x="851" y="1330"/>
                    </a:lnTo>
                    <a:lnTo>
                      <a:pt x="770" y="1299"/>
                    </a:lnTo>
                    <a:lnTo>
                      <a:pt x="711" y="1275"/>
                    </a:lnTo>
                    <a:lnTo>
                      <a:pt x="672" y="1257"/>
                    </a:lnTo>
                    <a:lnTo>
                      <a:pt x="644" y="1241"/>
                    </a:lnTo>
                    <a:lnTo>
                      <a:pt x="619" y="1221"/>
                    </a:lnTo>
                    <a:lnTo>
                      <a:pt x="601" y="1203"/>
                    </a:lnTo>
                    <a:lnTo>
                      <a:pt x="632" y="1224"/>
                    </a:lnTo>
                    <a:lnTo>
                      <a:pt x="660" y="1241"/>
                    </a:lnTo>
                    <a:lnTo>
                      <a:pt x="690" y="1253"/>
                    </a:lnTo>
                    <a:lnTo>
                      <a:pt x="739" y="1267"/>
                    </a:lnTo>
                    <a:lnTo>
                      <a:pt x="787" y="1282"/>
                    </a:lnTo>
                    <a:lnTo>
                      <a:pt x="838" y="1295"/>
                    </a:lnTo>
                    <a:lnTo>
                      <a:pt x="879" y="1303"/>
                    </a:lnTo>
                    <a:lnTo>
                      <a:pt x="906" y="1305"/>
                    </a:lnTo>
                    <a:lnTo>
                      <a:pt x="927" y="1308"/>
                    </a:lnTo>
                    <a:lnTo>
                      <a:pt x="890" y="1259"/>
                    </a:lnTo>
                    <a:lnTo>
                      <a:pt x="864" y="1215"/>
                    </a:lnTo>
                    <a:lnTo>
                      <a:pt x="822" y="1146"/>
                    </a:lnTo>
                    <a:lnTo>
                      <a:pt x="790" y="1087"/>
                    </a:lnTo>
                    <a:lnTo>
                      <a:pt x="764" y="1024"/>
                    </a:lnTo>
                    <a:lnTo>
                      <a:pt x="729" y="982"/>
                    </a:lnTo>
                    <a:lnTo>
                      <a:pt x="629" y="915"/>
                    </a:lnTo>
                    <a:lnTo>
                      <a:pt x="545" y="873"/>
                    </a:lnTo>
                    <a:lnTo>
                      <a:pt x="713" y="932"/>
                    </a:lnTo>
                    <a:lnTo>
                      <a:pt x="662" y="785"/>
                    </a:lnTo>
                    <a:lnTo>
                      <a:pt x="595" y="629"/>
                    </a:lnTo>
                    <a:lnTo>
                      <a:pt x="679" y="789"/>
                    </a:lnTo>
                    <a:lnTo>
                      <a:pt x="700" y="840"/>
                    </a:lnTo>
                    <a:lnTo>
                      <a:pt x="721" y="873"/>
                    </a:lnTo>
                    <a:lnTo>
                      <a:pt x="764" y="936"/>
                    </a:lnTo>
                    <a:lnTo>
                      <a:pt x="823" y="1024"/>
                    </a:lnTo>
                    <a:lnTo>
                      <a:pt x="868" y="1105"/>
                    </a:lnTo>
                    <a:lnTo>
                      <a:pt x="893" y="1150"/>
                    </a:lnTo>
                    <a:lnTo>
                      <a:pt x="974" y="1259"/>
                    </a:lnTo>
                    <a:lnTo>
                      <a:pt x="941" y="974"/>
                    </a:lnTo>
                    <a:lnTo>
                      <a:pt x="907" y="865"/>
                    </a:lnTo>
                    <a:lnTo>
                      <a:pt x="865" y="781"/>
                    </a:lnTo>
                    <a:lnTo>
                      <a:pt x="806" y="679"/>
                    </a:lnTo>
                    <a:lnTo>
                      <a:pt x="882" y="764"/>
                    </a:lnTo>
                    <a:lnTo>
                      <a:pt x="848" y="369"/>
                    </a:lnTo>
                    <a:lnTo>
                      <a:pt x="865" y="251"/>
                    </a:lnTo>
                    <a:lnTo>
                      <a:pt x="873" y="419"/>
                    </a:lnTo>
                    <a:lnTo>
                      <a:pt x="924" y="331"/>
                    </a:lnTo>
                    <a:lnTo>
                      <a:pt x="1058" y="226"/>
                    </a:lnTo>
                    <a:lnTo>
                      <a:pt x="932" y="348"/>
                    </a:lnTo>
                    <a:lnTo>
                      <a:pt x="882" y="444"/>
                    </a:lnTo>
                    <a:lnTo>
                      <a:pt x="907" y="679"/>
                    </a:lnTo>
                    <a:lnTo>
                      <a:pt x="932" y="806"/>
                    </a:lnTo>
                    <a:lnTo>
                      <a:pt x="974" y="940"/>
                    </a:lnTo>
                    <a:lnTo>
                      <a:pt x="1008" y="1141"/>
                    </a:lnTo>
                    <a:lnTo>
                      <a:pt x="1024" y="1259"/>
                    </a:lnTo>
                    <a:lnTo>
                      <a:pt x="1050" y="1309"/>
                    </a:lnTo>
                    <a:lnTo>
                      <a:pt x="1089" y="1342"/>
                    </a:lnTo>
                    <a:lnTo>
                      <a:pt x="1132" y="1365"/>
                    </a:lnTo>
                    <a:lnTo>
                      <a:pt x="1173" y="1375"/>
                    </a:lnTo>
                    <a:lnTo>
                      <a:pt x="1217" y="1368"/>
                    </a:lnTo>
                    <a:lnTo>
                      <a:pt x="1150" y="1200"/>
                    </a:lnTo>
                    <a:lnTo>
                      <a:pt x="1104" y="1112"/>
                    </a:lnTo>
                    <a:lnTo>
                      <a:pt x="1087" y="1049"/>
                    </a:lnTo>
                    <a:lnTo>
                      <a:pt x="1079" y="995"/>
                    </a:lnTo>
                    <a:lnTo>
                      <a:pt x="1075" y="932"/>
                    </a:lnTo>
                    <a:lnTo>
                      <a:pt x="1033" y="831"/>
                    </a:lnTo>
                    <a:lnTo>
                      <a:pt x="1104" y="932"/>
                    </a:lnTo>
                    <a:lnTo>
                      <a:pt x="1108" y="890"/>
                    </a:lnTo>
                    <a:lnTo>
                      <a:pt x="1066" y="671"/>
                    </a:lnTo>
                    <a:lnTo>
                      <a:pt x="1062" y="599"/>
                    </a:lnTo>
                    <a:lnTo>
                      <a:pt x="1066" y="541"/>
                    </a:lnTo>
                    <a:lnTo>
                      <a:pt x="1087" y="453"/>
                    </a:lnTo>
                    <a:lnTo>
                      <a:pt x="1138" y="314"/>
                    </a:lnTo>
                    <a:lnTo>
                      <a:pt x="1192" y="176"/>
                    </a:lnTo>
                    <a:lnTo>
                      <a:pt x="1100" y="478"/>
                    </a:lnTo>
                    <a:lnTo>
                      <a:pt x="1284" y="184"/>
                    </a:lnTo>
                    <a:lnTo>
                      <a:pt x="1146" y="440"/>
                    </a:lnTo>
                    <a:lnTo>
                      <a:pt x="1112" y="541"/>
                    </a:lnTo>
                    <a:lnTo>
                      <a:pt x="1104" y="608"/>
                    </a:lnTo>
                    <a:lnTo>
                      <a:pt x="1142" y="823"/>
                    </a:lnTo>
                    <a:lnTo>
                      <a:pt x="1146" y="949"/>
                    </a:lnTo>
                    <a:lnTo>
                      <a:pt x="1150" y="1024"/>
                    </a:lnTo>
                    <a:lnTo>
                      <a:pt x="1175" y="1104"/>
                    </a:lnTo>
                    <a:lnTo>
                      <a:pt x="1209" y="1166"/>
                    </a:lnTo>
                    <a:lnTo>
                      <a:pt x="1247" y="1242"/>
                    </a:lnTo>
                    <a:lnTo>
                      <a:pt x="1272" y="1305"/>
                    </a:lnTo>
                    <a:lnTo>
                      <a:pt x="1312" y="1389"/>
                    </a:lnTo>
                    <a:lnTo>
                      <a:pt x="1303" y="1338"/>
                    </a:lnTo>
                    <a:lnTo>
                      <a:pt x="1294" y="1282"/>
                    </a:lnTo>
                    <a:lnTo>
                      <a:pt x="1301" y="1007"/>
                    </a:lnTo>
                    <a:lnTo>
                      <a:pt x="1276" y="969"/>
                    </a:lnTo>
                    <a:lnTo>
                      <a:pt x="1263" y="932"/>
                    </a:lnTo>
                    <a:lnTo>
                      <a:pt x="1247" y="873"/>
                    </a:lnTo>
                    <a:lnTo>
                      <a:pt x="1221" y="777"/>
                    </a:lnTo>
                    <a:lnTo>
                      <a:pt x="1184" y="675"/>
                    </a:lnTo>
                    <a:lnTo>
                      <a:pt x="1255" y="819"/>
                    </a:lnTo>
                    <a:lnTo>
                      <a:pt x="1276" y="881"/>
                    </a:lnTo>
                    <a:lnTo>
                      <a:pt x="1305" y="923"/>
                    </a:lnTo>
                    <a:lnTo>
                      <a:pt x="1305" y="641"/>
                    </a:lnTo>
                    <a:lnTo>
                      <a:pt x="1301" y="461"/>
                    </a:lnTo>
                    <a:lnTo>
                      <a:pt x="1280" y="302"/>
                    </a:lnTo>
                    <a:lnTo>
                      <a:pt x="1314" y="411"/>
                    </a:lnTo>
                    <a:lnTo>
                      <a:pt x="1351" y="293"/>
                    </a:lnTo>
                    <a:lnTo>
                      <a:pt x="1377" y="222"/>
                    </a:lnTo>
                    <a:lnTo>
                      <a:pt x="1465" y="29"/>
                    </a:lnTo>
                    <a:lnTo>
                      <a:pt x="1410" y="180"/>
                    </a:lnTo>
                    <a:lnTo>
                      <a:pt x="1377" y="277"/>
                    </a:lnTo>
                    <a:lnTo>
                      <a:pt x="1356" y="356"/>
                    </a:lnTo>
                    <a:lnTo>
                      <a:pt x="1339" y="423"/>
                    </a:lnTo>
                    <a:lnTo>
                      <a:pt x="1343" y="578"/>
                    </a:lnTo>
                    <a:lnTo>
                      <a:pt x="1406" y="461"/>
                    </a:lnTo>
                    <a:lnTo>
                      <a:pt x="1431" y="390"/>
                    </a:lnTo>
                    <a:lnTo>
                      <a:pt x="1456" y="306"/>
                    </a:lnTo>
                    <a:lnTo>
                      <a:pt x="1481" y="222"/>
                    </a:lnTo>
                    <a:lnTo>
                      <a:pt x="1498" y="138"/>
                    </a:lnTo>
                    <a:lnTo>
                      <a:pt x="1528" y="0"/>
                    </a:lnTo>
                    <a:lnTo>
                      <a:pt x="1507" y="168"/>
                    </a:lnTo>
                    <a:lnTo>
                      <a:pt x="1498" y="230"/>
                    </a:lnTo>
                    <a:lnTo>
                      <a:pt x="1473" y="323"/>
                    </a:lnTo>
                    <a:lnTo>
                      <a:pt x="1444" y="423"/>
                    </a:lnTo>
                    <a:lnTo>
                      <a:pt x="1414" y="507"/>
                    </a:lnTo>
                    <a:lnTo>
                      <a:pt x="1377" y="595"/>
                    </a:lnTo>
                    <a:lnTo>
                      <a:pt x="1368" y="781"/>
                    </a:lnTo>
                    <a:lnTo>
                      <a:pt x="1385" y="999"/>
                    </a:lnTo>
                    <a:lnTo>
                      <a:pt x="1385" y="1301"/>
                    </a:lnTo>
                    <a:lnTo>
                      <a:pt x="1419" y="1443"/>
                    </a:lnTo>
                    <a:lnTo>
                      <a:pt x="1435" y="1295"/>
                    </a:lnTo>
                    <a:lnTo>
                      <a:pt x="1448" y="1194"/>
                    </a:lnTo>
                    <a:lnTo>
                      <a:pt x="1461" y="1112"/>
                    </a:lnTo>
                    <a:lnTo>
                      <a:pt x="1481" y="993"/>
                    </a:lnTo>
                    <a:lnTo>
                      <a:pt x="1507" y="907"/>
                    </a:lnTo>
                    <a:lnTo>
                      <a:pt x="1544" y="805"/>
                    </a:lnTo>
                    <a:lnTo>
                      <a:pt x="1477" y="598"/>
                    </a:lnTo>
                    <a:lnTo>
                      <a:pt x="1511" y="661"/>
                    </a:lnTo>
                    <a:lnTo>
                      <a:pt x="1536" y="719"/>
                    </a:lnTo>
                    <a:lnTo>
                      <a:pt x="1561" y="767"/>
                    </a:lnTo>
                    <a:lnTo>
                      <a:pt x="1645" y="633"/>
                    </a:lnTo>
                    <a:lnTo>
                      <a:pt x="1674" y="564"/>
                    </a:lnTo>
                    <a:lnTo>
                      <a:pt x="1662" y="386"/>
                    </a:lnTo>
                    <a:lnTo>
                      <a:pt x="1704" y="553"/>
                    </a:lnTo>
                    <a:lnTo>
                      <a:pt x="1922" y="210"/>
                    </a:lnTo>
                    <a:lnTo>
                      <a:pt x="1989" y="84"/>
                    </a:lnTo>
                    <a:lnTo>
                      <a:pt x="1913" y="285"/>
                    </a:lnTo>
                    <a:lnTo>
                      <a:pt x="1737" y="603"/>
                    </a:lnTo>
                    <a:lnTo>
                      <a:pt x="2152" y="331"/>
                    </a:lnTo>
                    <a:lnTo>
                      <a:pt x="1737" y="637"/>
                    </a:lnTo>
                    <a:lnTo>
                      <a:pt x="1662" y="773"/>
                    </a:lnTo>
                    <a:lnTo>
                      <a:pt x="1603" y="881"/>
                    </a:lnTo>
                    <a:lnTo>
                      <a:pt x="1570" y="1024"/>
                    </a:lnTo>
                    <a:lnTo>
                      <a:pt x="1536" y="1234"/>
                    </a:lnTo>
                    <a:lnTo>
                      <a:pt x="1515" y="1426"/>
                    </a:lnTo>
                    <a:lnTo>
                      <a:pt x="1557" y="1278"/>
                    </a:lnTo>
                    <a:lnTo>
                      <a:pt x="1591" y="1215"/>
                    </a:lnTo>
                    <a:lnTo>
                      <a:pt x="1637" y="1150"/>
                    </a:lnTo>
                    <a:lnTo>
                      <a:pt x="1700" y="1073"/>
                    </a:lnTo>
                    <a:lnTo>
                      <a:pt x="1737" y="1027"/>
                    </a:lnTo>
                    <a:lnTo>
                      <a:pt x="1771" y="978"/>
                    </a:lnTo>
                    <a:lnTo>
                      <a:pt x="1775" y="918"/>
                    </a:lnTo>
                    <a:lnTo>
                      <a:pt x="1779" y="729"/>
                    </a:lnTo>
                    <a:lnTo>
                      <a:pt x="1792" y="863"/>
                    </a:lnTo>
                    <a:lnTo>
                      <a:pt x="1804" y="914"/>
                    </a:lnTo>
                    <a:lnTo>
                      <a:pt x="1830" y="932"/>
                    </a:lnTo>
                    <a:lnTo>
                      <a:pt x="1884" y="838"/>
                    </a:lnTo>
                    <a:lnTo>
                      <a:pt x="1934" y="759"/>
                    </a:lnTo>
                    <a:lnTo>
                      <a:pt x="1972" y="696"/>
                    </a:lnTo>
                    <a:lnTo>
                      <a:pt x="2022" y="623"/>
                    </a:lnTo>
                    <a:lnTo>
                      <a:pt x="2106" y="536"/>
                    </a:lnTo>
                    <a:lnTo>
                      <a:pt x="2194" y="461"/>
                    </a:lnTo>
                    <a:lnTo>
                      <a:pt x="2190" y="212"/>
                    </a:lnTo>
                    <a:lnTo>
                      <a:pt x="2215" y="443"/>
                    </a:lnTo>
                    <a:lnTo>
                      <a:pt x="2372" y="369"/>
                    </a:lnTo>
                    <a:lnTo>
                      <a:pt x="2531" y="298"/>
                    </a:lnTo>
                    <a:lnTo>
                      <a:pt x="2317" y="426"/>
                    </a:lnTo>
                    <a:lnTo>
                      <a:pt x="2456" y="514"/>
                    </a:lnTo>
                    <a:lnTo>
                      <a:pt x="2291" y="439"/>
                    </a:lnTo>
                    <a:lnTo>
                      <a:pt x="2232" y="481"/>
                    </a:lnTo>
                    <a:lnTo>
                      <a:pt x="2165" y="549"/>
                    </a:lnTo>
                    <a:lnTo>
                      <a:pt x="2102" y="616"/>
                    </a:lnTo>
                    <a:lnTo>
                      <a:pt x="2056" y="678"/>
                    </a:lnTo>
                    <a:lnTo>
                      <a:pt x="2018" y="738"/>
                    </a:lnTo>
                    <a:lnTo>
                      <a:pt x="1985" y="813"/>
                    </a:lnTo>
                    <a:lnTo>
                      <a:pt x="1968" y="869"/>
                    </a:lnTo>
                    <a:lnTo>
                      <a:pt x="2027" y="859"/>
                    </a:lnTo>
                    <a:lnTo>
                      <a:pt x="2094" y="838"/>
                    </a:lnTo>
                    <a:lnTo>
                      <a:pt x="2169" y="814"/>
                    </a:lnTo>
                    <a:lnTo>
                      <a:pt x="2257" y="775"/>
                    </a:lnTo>
                    <a:lnTo>
                      <a:pt x="2334" y="747"/>
                    </a:lnTo>
                    <a:lnTo>
                      <a:pt x="2389" y="724"/>
                    </a:lnTo>
                    <a:lnTo>
                      <a:pt x="2447" y="690"/>
                    </a:lnTo>
                    <a:lnTo>
                      <a:pt x="2481" y="648"/>
                    </a:lnTo>
                    <a:lnTo>
                      <a:pt x="2506" y="602"/>
                    </a:lnTo>
                    <a:lnTo>
                      <a:pt x="2498" y="648"/>
                    </a:lnTo>
                    <a:lnTo>
                      <a:pt x="2477" y="687"/>
                    </a:lnTo>
                    <a:lnTo>
                      <a:pt x="2439" y="719"/>
                    </a:lnTo>
                    <a:lnTo>
                      <a:pt x="2347" y="775"/>
                    </a:lnTo>
                    <a:lnTo>
                      <a:pt x="2261" y="821"/>
                    </a:lnTo>
                    <a:lnTo>
                      <a:pt x="2182" y="856"/>
                    </a:lnTo>
                    <a:lnTo>
                      <a:pt x="2123" y="880"/>
                    </a:lnTo>
                    <a:lnTo>
                      <a:pt x="2060" y="907"/>
                    </a:lnTo>
                    <a:lnTo>
                      <a:pt x="1981" y="932"/>
                    </a:lnTo>
                    <a:lnTo>
                      <a:pt x="1913" y="974"/>
                    </a:lnTo>
                    <a:lnTo>
                      <a:pt x="1855" y="1024"/>
                    </a:lnTo>
                    <a:lnTo>
                      <a:pt x="1788" y="1108"/>
                    </a:lnTo>
                    <a:lnTo>
                      <a:pt x="1708" y="1211"/>
                    </a:lnTo>
                    <a:lnTo>
                      <a:pt x="1670" y="1280"/>
                    </a:lnTo>
                    <a:lnTo>
                      <a:pt x="1645" y="1324"/>
                    </a:lnTo>
                    <a:lnTo>
                      <a:pt x="1628" y="1379"/>
                    </a:lnTo>
                    <a:lnTo>
                      <a:pt x="1616" y="1456"/>
                    </a:lnTo>
                    <a:lnTo>
                      <a:pt x="1708" y="1389"/>
                    </a:lnTo>
                    <a:lnTo>
                      <a:pt x="1754" y="1354"/>
                    </a:lnTo>
                    <a:lnTo>
                      <a:pt x="1779" y="1324"/>
                    </a:lnTo>
                    <a:lnTo>
                      <a:pt x="1800" y="1278"/>
                    </a:lnTo>
                    <a:lnTo>
                      <a:pt x="1825" y="1194"/>
                    </a:lnTo>
                    <a:lnTo>
                      <a:pt x="1846" y="1106"/>
                    </a:lnTo>
                    <a:lnTo>
                      <a:pt x="1884" y="1048"/>
                    </a:lnTo>
                    <a:lnTo>
                      <a:pt x="1863" y="1102"/>
                    </a:lnTo>
                    <a:lnTo>
                      <a:pt x="1846" y="1165"/>
                    </a:lnTo>
                    <a:lnTo>
                      <a:pt x="1838" y="1224"/>
                    </a:lnTo>
                    <a:lnTo>
                      <a:pt x="1830" y="1282"/>
                    </a:lnTo>
                    <a:lnTo>
                      <a:pt x="1830" y="1308"/>
                    </a:lnTo>
                    <a:lnTo>
                      <a:pt x="1838" y="1333"/>
                    </a:lnTo>
                    <a:lnTo>
                      <a:pt x="1888" y="1338"/>
                    </a:lnTo>
                    <a:lnTo>
                      <a:pt x="1997" y="1296"/>
                    </a:lnTo>
                    <a:lnTo>
                      <a:pt x="2115" y="1254"/>
                    </a:lnTo>
                    <a:lnTo>
                      <a:pt x="2299" y="1192"/>
                    </a:lnTo>
                    <a:lnTo>
                      <a:pt x="2347" y="1169"/>
                    </a:lnTo>
                    <a:lnTo>
                      <a:pt x="2397" y="1140"/>
                    </a:lnTo>
                    <a:lnTo>
                      <a:pt x="2426" y="1074"/>
                    </a:lnTo>
                    <a:lnTo>
                      <a:pt x="2473" y="861"/>
                    </a:lnTo>
                    <a:lnTo>
                      <a:pt x="2443" y="1133"/>
                    </a:lnTo>
                    <a:lnTo>
                      <a:pt x="2464" y="1140"/>
                    </a:lnTo>
                    <a:lnTo>
                      <a:pt x="2494" y="1123"/>
                    </a:lnTo>
                    <a:lnTo>
                      <a:pt x="2556" y="981"/>
                    </a:lnTo>
                    <a:lnTo>
                      <a:pt x="2540" y="1056"/>
                    </a:lnTo>
                    <a:lnTo>
                      <a:pt x="2527" y="1098"/>
                    </a:lnTo>
                    <a:lnTo>
                      <a:pt x="2552" y="1106"/>
                    </a:lnTo>
                    <a:lnTo>
                      <a:pt x="2590" y="1090"/>
                    </a:lnTo>
                    <a:lnTo>
                      <a:pt x="2619" y="1048"/>
                    </a:lnTo>
                    <a:lnTo>
                      <a:pt x="2712" y="961"/>
                    </a:lnTo>
                    <a:lnTo>
                      <a:pt x="2644" y="1035"/>
                    </a:lnTo>
                    <a:lnTo>
                      <a:pt x="2624" y="1077"/>
                    </a:lnTo>
                    <a:lnTo>
                      <a:pt x="2615" y="1115"/>
                    </a:lnTo>
                    <a:lnTo>
                      <a:pt x="2661" y="1152"/>
                    </a:lnTo>
                    <a:lnTo>
                      <a:pt x="2598" y="1136"/>
                    </a:lnTo>
                    <a:lnTo>
                      <a:pt x="2561" y="1146"/>
                    </a:lnTo>
                    <a:lnTo>
                      <a:pt x="2494" y="1165"/>
                    </a:lnTo>
                    <a:lnTo>
                      <a:pt x="2514" y="1186"/>
                    </a:lnTo>
                    <a:lnTo>
                      <a:pt x="2544" y="1232"/>
                    </a:lnTo>
                    <a:lnTo>
                      <a:pt x="2582" y="1341"/>
                    </a:lnTo>
                    <a:lnTo>
                      <a:pt x="2523" y="1241"/>
                    </a:lnTo>
                    <a:lnTo>
                      <a:pt x="2494" y="1207"/>
                    </a:lnTo>
                    <a:lnTo>
                      <a:pt x="2464" y="1190"/>
                    </a:lnTo>
                    <a:lnTo>
                      <a:pt x="2426" y="1192"/>
                    </a:lnTo>
                    <a:lnTo>
                      <a:pt x="2303" y="1234"/>
                    </a:lnTo>
                    <a:lnTo>
                      <a:pt x="2190" y="1275"/>
                    </a:lnTo>
                    <a:lnTo>
                      <a:pt x="2085" y="1308"/>
                    </a:lnTo>
                    <a:lnTo>
                      <a:pt x="1997" y="1342"/>
                    </a:lnTo>
                    <a:lnTo>
                      <a:pt x="1926" y="1379"/>
                    </a:lnTo>
                    <a:lnTo>
                      <a:pt x="1846" y="1422"/>
                    </a:lnTo>
                    <a:lnTo>
                      <a:pt x="1771" y="1471"/>
                    </a:lnTo>
                    <a:lnTo>
                      <a:pt x="1725" y="1510"/>
                    </a:lnTo>
                    <a:lnTo>
                      <a:pt x="1683" y="1552"/>
                    </a:lnTo>
                    <a:lnTo>
                      <a:pt x="1863" y="1560"/>
                    </a:lnTo>
                    <a:lnTo>
                      <a:pt x="2018" y="1548"/>
                    </a:lnTo>
                    <a:lnTo>
                      <a:pt x="2245" y="1519"/>
                    </a:lnTo>
                    <a:lnTo>
                      <a:pt x="2414" y="1493"/>
                    </a:lnTo>
                    <a:lnTo>
                      <a:pt x="2498" y="1479"/>
                    </a:lnTo>
                    <a:lnTo>
                      <a:pt x="2544" y="1463"/>
                    </a:lnTo>
                    <a:lnTo>
                      <a:pt x="2594" y="1443"/>
                    </a:lnTo>
                    <a:lnTo>
                      <a:pt x="2644" y="1417"/>
                    </a:lnTo>
                    <a:lnTo>
                      <a:pt x="2728" y="1349"/>
                    </a:lnTo>
                    <a:lnTo>
                      <a:pt x="2833" y="1242"/>
                    </a:lnTo>
                    <a:lnTo>
                      <a:pt x="2737" y="1362"/>
                    </a:lnTo>
                    <a:lnTo>
                      <a:pt x="2678" y="1417"/>
                    </a:lnTo>
                    <a:lnTo>
                      <a:pt x="2624" y="1460"/>
                    </a:lnTo>
                    <a:lnTo>
                      <a:pt x="2733" y="1454"/>
                    </a:lnTo>
                    <a:lnTo>
                      <a:pt x="2808" y="1433"/>
                    </a:lnTo>
                    <a:lnTo>
                      <a:pt x="2867" y="1404"/>
                    </a:lnTo>
                    <a:lnTo>
                      <a:pt x="2925" y="1379"/>
                    </a:lnTo>
                    <a:lnTo>
                      <a:pt x="3001" y="1345"/>
                    </a:lnTo>
                    <a:lnTo>
                      <a:pt x="3072" y="1329"/>
                    </a:lnTo>
                    <a:lnTo>
                      <a:pt x="3001" y="1362"/>
                    </a:lnTo>
                    <a:lnTo>
                      <a:pt x="2942" y="1396"/>
                    </a:lnTo>
                    <a:lnTo>
                      <a:pt x="2884" y="1425"/>
                    </a:lnTo>
                    <a:lnTo>
                      <a:pt x="2837" y="1450"/>
                    </a:lnTo>
                    <a:lnTo>
                      <a:pt x="2783" y="1471"/>
                    </a:lnTo>
                    <a:lnTo>
                      <a:pt x="2863" y="1479"/>
                    </a:lnTo>
                    <a:lnTo>
                      <a:pt x="2913" y="1471"/>
                    </a:lnTo>
                    <a:lnTo>
                      <a:pt x="2972" y="1458"/>
                    </a:lnTo>
                    <a:lnTo>
                      <a:pt x="3030" y="1442"/>
                    </a:lnTo>
                    <a:lnTo>
                      <a:pt x="2963" y="1485"/>
                    </a:lnTo>
                    <a:lnTo>
                      <a:pt x="2892" y="1496"/>
                    </a:lnTo>
                    <a:lnTo>
                      <a:pt x="2812" y="1496"/>
                    </a:lnTo>
                    <a:lnTo>
                      <a:pt x="2678" y="1506"/>
                    </a:lnTo>
                    <a:lnTo>
                      <a:pt x="2636" y="1513"/>
                    </a:lnTo>
                    <a:lnTo>
                      <a:pt x="2686" y="1534"/>
                    </a:lnTo>
                    <a:lnTo>
                      <a:pt x="2766" y="1546"/>
                    </a:lnTo>
                    <a:lnTo>
                      <a:pt x="2833" y="1551"/>
                    </a:lnTo>
                    <a:lnTo>
                      <a:pt x="2976" y="1556"/>
                    </a:lnTo>
                    <a:lnTo>
                      <a:pt x="2816" y="1567"/>
                    </a:lnTo>
                    <a:lnTo>
                      <a:pt x="2745" y="1567"/>
                    </a:lnTo>
                    <a:lnTo>
                      <a:pt x="2682" y="1559"/>
                    </a:lnTo>
                    <a:lnTo>
                      <a:pt x="2636" y="1546"/>
                    </a:lnTo>
                    <a:lnTo>
                      <a:pt x="2569" y="1527"/>
                    </a:lnTo>
                    <a:lnTo>
                      <a:pt x="2405" y="1560"/>
                    </a:lnTo>
                    <a:lnTo>
                      <a:pt x="2157" y="1611"/>
                    </a:lnTo>
                    <a:lnTo>
                      <a:pt x="2194" y="1655"/>
                    </a:lnTo>
                    <a:lnTo>
                      <a:pt x="2266" y="1753"/>
                    </a:lnTo>
                    <a:lnTo>
                      <a:pt x="2119" y="1623"/>
                    </a:lnTo>
                    <a:lnTo>
                      <a:pt x="2131" y="1685"/>
                    </a:lnTo>
                    <a:lnTo>
                      <a:pt x="2123" y="1743"/>
                    </a:lnTo>
                    <a:lnTo>
                      <a:pt x="2115" y="1785"/>
                    </a:lnTo>
                    <a:lnTo>
                      <a:pt x="2098" y="1844"/>
                    </a:lnTo>
                    <a:lnTo>
                      <a:pt x="2060" y="1928"/>
                    </a:lnTo>
                    <a:lnTo>
                      <a:pt x="1964" y="2080"/>
                    </a:lnTo>
                    <a:lnTo>
                      <a:pt x="2027" y="1949"/>
                    </a:lnTo>
                    <a:lnTo>
                      <a:pt x="2060" y="1865"/>
                    </a:lnTo>
                    <a:lnTo>
                      <a:pt x="2085" y="1785"/>
                    </a:lnTo>
                    <a:lnTo>
                      <a:pt x="2081" y="1743"/>
                    </a:lnTo>
                    <a:lnTo>
                      <a:pt x="2077" y="1676"/>
                    </a:lnTo>
                    <a:lnTo>
                      <a:pt x="2064" y="1647"/>
                    </a:lnTo>
                    <a:lnTo>
                      <a:pt x="2043" y="1627"/>
                    </a:lnTo>
                    <a:lnTo>
                      <a:pt x="1930" y="1636"/>
                    </a:lnTo>
                    <a:lnTo>
                      <a:pt x="1825" y="1664"/>
                    </a:lnTo>
                    <a:lnTo>
                      <a:pt x="1767" y="1695"/>
                    </a:lnTo>
                    <a:lnTo>
                      <a:pt x="1725" y="1722"/>
                    </a:lnTo>
                    <a:lnTo>
                      <a:pt x="1695" y="1757"/>
                    </a:lnTo>
                    <a:lnTo>
                      <a:pt x="1670" y="1812"/>
                    </a:lnTo>
                    <a:lnTo>
                      <a:pt x="1670" y="1904"/>
                    </a:lnTo>
                    <a:lnTo>
                      <a:pt x="1670" y="2038"/>
                    </a:lnTo>
                    <a:lnTo>
                      <a:pt x="1662" y="2156"/>
                    </a:lnTo>
                    <a:lnTo>
                      <a:pt x="1662" y="2266"/>
                    </a:lnTo>
                    <a:lnTo>
                      <a:pt x="1662" y="2392"/>
                    </a:lnTo>
                    <a:lnTo>
                      <a:pt x="1662" y="2492"/>
                    </a:lnTo>
                    <a:lnTo>
                      <a:pt x="1687" y="2593"/>
                    </a:lnTo>
                    <a:lnTo>
                      <a:pt x="1721" y="2685"/>
                    </a:lnTo>
                    <a:lnTo>
                      <a:pt x="1779" y="2802"/>
                    </a:lnTo>
                    <a:lnTo>
                      <a:pt x="1838" y="2869"/>
                    </a:lnTo>
                    <a:lnTo>
                      <a:pt x="1897" y="2903"/>
                    </a:lnTo>
                    <a:lnTo>
                      <a:pt x="1997" y="2945"/>
                    </a:lnTo>
                    <a:lnTo>
                      <a:pt x="1863" y="2928"/>
                    </a:lnTo>
                    <a:lnTo>
                      <a:pt x="1737" y="2886"/>
                    </a:lnTo>
                    <a:lnTo>
                      <a:pt x="1662" y="2869"/>
                    </a:lnTo>
                    <a:lnTo>
                      <a:pt x="1603" y="2869"/>
                    </a:lnTo>
                    <a:lnTo>
                      <a:pt x="1561" y="2911"/>
                    </a:lnTo>
                    <a:lnTo>
                      <a:pt x="1528" y="2895"/>
                    </a:lnTo>
                    <a:lnTo>
                      <a:pt x="1461" y="2886"/>
                    </a:lnTo>
                    <a:lnTo>
                      <a:pt x="1402" y="2903"/>
                    </a:lnTo>
                    <a:lnTo>
                      <a:pt x="1343" y="2936"/>
                    </a:lnTo>
                    <a:lnTo>
                      <a:pt x="1301" y="2953"/>
                    </a:lnTo>
                    <a:lnTo>
                      <a:pt x="1301" y="2911"/>
                    </a:lnTo>
                    <a:lnTo>
                      <a:pt x="1276" y="2895"/>
                    </a:lnTo>
                    <a:lnTo>
                      <a:pt x="1217" y="2895"/>
                    </a:lnTo>
                    <a:lnTo>
                      <a:pt x="1167" y="2911"/>
                    </a:lnTo>
                    <a:lnTo>
                      <a:pt x="1150" y="2911"/>
                    </a:lnTo>
                    <a:lnTo>
                      <a:pt x="999" y="2928"/>
                    </a:lnTo>
                    <a:close/>
                  </a:path>
                </a:pathLst>
              </a:custGeom>
              <a:solidFill>
                <a:srgbClr val="7f5f3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277280" y="5262480"/>
                <a:ext cx="464760" cy="1212840"/>
              </a:xfrm>
              <a:custGeom>
                <a:avLst/>
                <a:gdLst/>
                <a:ahLst/>
                <a:rect l="l" t="t" r="r" b="b"/>
                <a:pathLst>
                  <a:path w="587" h="1527">
                    <a:moveTo>
                      <a:pt x="8" y="201"/>
                    </a:moveTo>
                    <a:lnTo>
                      <a:pt x="58" y="235"/>
                    </a:lnTo>
                    <a:lnTo>
                      <a:pt x="100" y="285"/>
                    </a:lnTo>
                    <a:lnTo>
                      <a:pt x="125" y="369"/>
                    </a:lnTo>
                    <a:lnTo>
                      <a:pt x="150" y="561"/>
                    </a:lnTo>
                    <a:lnTo>
                      <a:pt x="142" y="796"/>
                    </a:lnTo>
                    <a:lnTo>
                      <a:pt x="142" y="1015"/>
                    </a:lnTo>
                    <a:lnTo>
                      <a:pt x="142" y="1158"/>
                    </a:lnTo>
                    <a:lnTo>
                      <a:pt x="125" y="1275"/>
                    </a:lnTo>
                    <a:lnTo>
                      <a:pt x="83" y="1401"/>
                    </a:lnTo>
                    <a:lnTo>
                      <a:pt x="0" y="1510"/>
                    </a:lnTo>
                    <a:lnTo>
                      <a:pt x="100" y="1393"/>
                    </a:lnTo>
                    <a:lnTo>
                      <a:pt x="150" y="1275"/>
                    </a:lnTo>
                    <a:lnTo>
                      <a:pt x="167" y="1259"/>
                    </a:lnTo>
                    <a:lnTo>
                      <a:pt x="159" y="1393"/>
                    </a:lnTo>
                    <a:lnTo>
                      <a:pt x="142" y="1502"/>
                    </a:lnTo>
                    <a:lnTo>
                      <a:pt x="159" y="1443"/>
                    </a:lnTo>
                    <a:lnTo>
                      <a:pt x="184" y="1292"/>
                    </a:lnTo>
                    <a:lnTo>
                      <a:pt x="184" y="1183"/>
                    </a:lnTo>
                    <a:lnTo>
                      <a:pt x="184" y="1124"/>
                    </a:lnTo>
                    <a:lnTo>
                      <a:pt x="209" y="990"/>
                    </a:lnTo>
                    <a:lnTo>
                      <a:pt x="209" y="873"/>
                    </a:lnTo>
                    <a:lnTo>
                      <a:pt x="201" y="779"/>
                    </a:lnTo>
                    <a:lnTo>
                      <a:pt x="192" y="654"/>
                    </a:lnTo>
                    <a:lnTo>
                      <a:pt x="176" y="536"/>
                    </a:lnTo>
                    <a:lnTo>
                      <a:pt x="176" y="436"/>
                    </a:lnTo>
                    <a:lnTo>
                      <a:pt x="218" y="310"/>
                    </a:lnTo>
                    <a:lnTo>
                      <a:pt x="226" y="486"/>
                    </a:lnTo>
                    <a:lnTo>
                      <a:pt x="226" y="561"/>
                    </a:lnTo>
                    <a:lnTo>
                      <a:pt x="234" y="679"/>
                    </a:lnTo>
                    <a:lnTo>
                      <a:pt x="243" y="737"/>
                    </a:lnTo>
                    <a:lnTo>
                      <a:pt x="251" y="855"/>
                    </a:lnTo>
                    <a:lnTo>
                      <a:pt x="251" y="990"/>
                    </a:lnTo>
                    <a:lnTo>
                      <a:pt x="251" y="1116"/>
                    </a:lnTo>
                    <a:lnTo>
                      <a:pt x="243" y="1217"/>
                    </a:lnTo>
                    <a:lnTo>
                      <a:pt x="226" y="1326"/>
                    </a:lnTo>
                    <a:lnTo>
                      <a:pt x="226" y="1409"/>
                    </a:lnTo>
                    <a:lnTo>
                      <a:pt x="234" y="1477"/>
                    </a:lnTo>
                    <a:lnTo>
                      <a:pt x="251" y="1376"/>
                    </a:lnTo>
                    <a:lnTo>
                      <a:pt x="260" y="1443"/>
                    </a:lnTo>
                    <a:lnTo>
                      <a:pt x="293" y="1502"/>
                    </a:lnTo>
                    <a:lnTo>
                      <a:pt x="327" y="1527"/>
                    </a:lnTo>
                    <a:lnTo>
                      <a:pt x="318" y="1451"/>
                    </a:lnTo>
                    <a:lnTo>
                      <a:pt x="301" y="1317"/>
                    </a:lnTo>
                    <a:lnTo>
                      <a:pt x="293" y="1133"/>
                    </a:lnTo>
                    <a:lnTo>
                      <a:pt x="276" y="990"/>
                    </a:lnTo>
                    <a:lnTo>
                      <a:pt x="276" y="890"/>
                    </a:lnTo>
                    <a:lnTo>
                      <a:pt x="268" y="771"/>
                    </a:lnTo>
                    <a:lnTo>
                      <a:pt x="268" y="645"/>
                    </a:lnTo>
                    <a:lnTo>
                      <a:pt x="268" y="545"/>
                    </a:lnTo>
                    <a:lnTo>
                      <a:pt x="293" y="436"/>
                    </a:lnTo>
                    <a:lnTo>
                      <a:pt x="410" y="209"/>
                    </a:lnTo>
                    <a:lnTo>
                      <a:pt x="369" y="352"/>
                    </a:lnTo>
                    <a:lnTo>
                      <a:pt x="335" y="427"/>
                    </a:lnTo>
                    <a:lnTo>
                      <a:pt x="318" y="503"/>
                    </a:lnTo>
                    <a:lnTo>
                      <a:pt x="318" y="553"/>
                    </a:lnTo>
                    <a:lnTo>
                      <a:pt x="318" y="612"/>
                    </a:lnTo>
                    <a:lnTo>
                      <a:pt x="318" y="687"/>
                    </a:lnTo>
                    <a:lnTo>
                      <a:pt x="318" y="746"/>
                    </a:lnTo>
                    <a:lnTo>
                      <a:pt x="318" y="838"/>
                    </a:lnTo>
                    <a:lnTo>
                      <a:pt x="327" y="965"/>
                    </a:lnTo>
                    <a:lnTo>
                      <a:pt x="335" y="1057"/>
                    </a:lnTo>
                    <a:lnTo>
                      <a:pt x="352" y="1150"/>
                    </a:lnTo>
                    <a:lnTo>
                      <a:pt x="360" y="1242"/>
                    </a:lnTo>
                    <a:lnTo>
                      <a:pt x="369" y="1326"/>
                    </a:lnTo>
                    <a:lnTo>
                      <a:pt x="402" y="1384"/>
                    </a:lnTo>
                    <a:lnTo>
                      <a:pt x="444" y="1435"/>
                    </a:lnTo>
                    <a:lnTo>
                      <a:pt x="503" y="1468"/>
                    </a:lnTo>
                    <a:lnTo>
                      <a:pt x="587" y="1493"/>
                    </a:lnTo>
                    <a:lnTo>
                      <a:pt x="478" y="1418"/>
                    </a:lnTo>
                    <a:lnTo>
                      <a:pt x="427" y="1334"/>
                    </a:lnTo>
                    <a:lnTo>
                      <a:pt x="394" y="1259"/>
                    </a:lnTo>
                    <a:lnTo>
                      <a:pt x="385" y="1166"/>
                    </a:lnTo>
                    <a:lnTo>
                      <a:pt x="369" y="1032"/>
                    </a:lnTo>
                    <a:lnTo>
                      <a:pt x="360" y="907"/>
                    </a:lnTo>
                    <a:lnTo>
                      <a:pt x="352" y="779"/>
                    </a:lnTo>
                    <a:lnTo>
                      <a:pt x="369" y="654"/>
                    </a:lnTo>
                    <a:lnTo>
                      <a:pt x="369" y="561"/>
                    </a:lnTo>
                    <a:lnTo>
                      <a:pt x="394" y="478"/>
                    </a:lnTo>
                    <a:lnTo>
                      <a:pt x="427" y="385"/>
                    </a:lnTo>
                    <a:lnTo>
                      <a:pt x="452" y="302"/>
                    </a:lnTo>
                    <a:lnTo>
                      <a:pt x="528" y="243"/>
                    </a:lnTo>
                    <a:lnTo>
                      <a:pt x="419" y="293"/>
                    </a:lnTo>
                    <a:lnTo>
                      <a:pt x="478" y="134"/>
                    </a:lnTo>
                    <a:lnTo>
                      <a:pt x="385" y="201"/>
                    </a:lnTo>
                    <a:lnTo>
                      <a:pt x="327" y="268"/>
                    </a:lnTo>
                    <a:lnTo>
                      <a:pt x="293" y="360"/>
                    </a:lnTo>
                    <a:lnTo>
                      <a:pt x="268" y="402"/>
                    </a:lnTo>
                    <a:lnTo>
                      <a:pt x="251" y="293"/>
                    </a:lnTo>
                    <a:lnTo>
                      <a:pt x="285" y="159"/>
                    </a:lnTo>
                    <a:lnTo>
                      <a:pt x="285" y="75"/>
                    </a:lnTo>
                    <a:lnTo>
                      <a:pt x="285" y="0"/>
                    </a:lnTo>
                    <a:lnTo>
                      <a:pt x="251" y="176"/>
                    </a:lnTo>
                    <a:lnTo>
                      <a:pt x="234" y="251"/>
                    </a:lnTo>
                    <a:lnTo>
                      <a:pt x="209" y="293"/>
                    </a:lnTo>
                    <a:lnTo>
                      <a:pt x="167" y="327"/>
                    </a:lnTo>
                    <a:lnTo>
                      <a:pt x="142" y="268"/>
                    </a:lnTo>
                    <a:lnTo>
                      <a:pt x="8" y="201"/>
                    </a:lnTo>
                    <a:close/>
                  </a:path>
                </a:pathLst>
              </a:cu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304920" y="6308640"/>
              <a:ext cx="2458800" cy="241200"/>
            </a:xfrm>
            <a:custGeom>
              <a:avLst/>
              <a:gdLst/>
              <a:ahLst/>
              <a:rect l="l" t="t" r="r" b="b"/>
              <a:pathLst>
                <a:path w="3097" h="303">
                  <a:moveTo>
                    <a:pt x="167" y="252"/>
                  </a:moveTo>
                  <a:lnTo>
                    <a:pt x="318" y="227"/>
                  </a:lnTo>
                  <a:lnTo>
                    <a:pt x="452" y="227"/>
                  </a:lnTo>
                  <a:lnTo>
                    <a:pt x="603" y="227"/>
                  </a:lnTo>
                  <a:lnTo>
                    <a:pt x="721" y="193"/>
                  </a:lnTo>
                  <a:lnTo>
                    <a:pt x="798" y="185"/>
                  </a:lnTo>
                  <a:lnTo>
                    <a:pt x="890" y="168"/>
                  </a:lnTo>
                  <a:lnTo>
                    <a:pt x="957" y="126"/>
                  </a:lnTo>
                  <a:lnTo>
                    <a:pt x="1049" y="126"/>
                  </a:lnTo>
                  <a:lnTo>
                    <a:pt x="1111" y="122"/>
                  </a:lnTo>
                  <a:lnTo>
                    <a:pt x="1158" y="109"/>
                  </a:lnTo>
                  <a:lnTo>
                    <a:pt x="1185" y="108"/>
                  </a:lnTo>
                  <a:lnTo>
                    <a:pt x="1214" y="99"/>
                  </a:lnTo>
                  <a:lnTo>
                    <a:pt x="1244" y="88"/>
                  </a:lnTo>
                  <a:lnTo>
                    <a:pt x="1263" y="73"/>
                  </a:lnTo>
                  <a:lnTo>
                    <a:pt x="1301" y="34"/>
                  </a:lnTo>
                  <a:lnTo>
                    <a:pt x="1298" y="80"/>
                  </a:lnTo>
                  <a:lnTo>
                    <a:pt x="1309" y="109"/>
                  </a:lnTo>
                  <a:lnTo>
                    <a:pt x="1332" y="116"/>
                  </a:lnTo>
                  <a:lnTo>
                    <a:pt x="1349" y="97"/>
                  </a:lnTo>
                  <a:lnTo>
                    <a:pt x="1368" y="76"/>
                  </a:lnTo>
                  <a:lnTo>
                    <a:pt x="1396" y="99"/>
                  </a:lnTo>
                  <a:lnTo>
                    <a:pt x="1427" y="101"/>
                  </a:lnTo>
                  <a:lnTo>
                    <a:pt x="1451" y="92"/>
                  </a:lnTo>
                  <a:lnTo>
                    <a:pt x="1477" y="67"/>
                  </a:lnTo>
                  <a:lnTo>
                    <a:pt x="1488" y="38"/>
                  </a:lnTo>
                  <a:lnTo>
                    <a:pt x="1486" y="0"/>
                  </a:lnTo>
                  <a:lnTo>
                    <a:pt x="1544" y="42"/>
                  </a:lnTo>
                  <a:lnTo>
                    <a:pt x="1568" y="74"/>
                  </a:lnTo>
                  <a:lnTo>
                    <a:pt x="1592" y="92"/>
                  </a:lnTo>
                  <a:lnTo>
                    <a:pt x="1620" y="109"/>
                  </a:lnTo>
                  <a:lnTo>
                    <a:pt x="1656" y="122"/>
                  </a:lnTo>
                  <a:lnTo>
                    <a:pt x="1687" y="126"/>
                  </a:lnTo>
                  <a:lnTo>
                    <a:pt x="1694" y="105"/>
                  </a:lnTo>
                  <a:lnTo>
                    <a:pt x="1698" y="78"/>
                  </a:lnTo>
                  <a:lnTo>
                    <a:pt x="1697" y="46"/>
                  </a:lnTo>
                  <a:lnTo>
                    <a:pt x="1740" y="84"/>
                  </a:lnTo>
                  <a:lnTo>
                    <a:pt x="1748" y="63"/>
                  </a:lnTo>
                  <a:lnTo>
                    <a:pt x="1744" y="13"/>
                  </a:lnTo>
                  <a:lnTo>
                    <a:pt x="1782" y="53"/>
                  </a:lnTo>
                  <a:lnTo>
                    <a:pt x="1807" y="78"/>
                  </a:lnTo>
                  <a:lnTo>
                    <a:pt x="1832" y="95"/>
                  </a:lnTo>
                  <a:lnTo>
                    <a:pt x="1884" y="113"/>
                  </a:lnTo>
                  <a:lnTo>
                    <a:pt x="2022" y="151"/>
                  </a:lnTo>
                  <a:lnTo>
                    <a:pt x="2140" y="160"/>
                  </a:lnTo>
                  <a:lnTo>
                    <a:pt x="2274" y="185"/>
                  </a:lnTo>
                  <a:lnTo>
                    <a:pt x="2418" y="201"/>
                  </a:lnTo>
                  <a:lnTo>
                    <a:pt x="2535" y="210"/>
                  </a:lnTo>
                  <a:lnTo>
                    <a:pt x="2636" y="210"/>
                  </a:lnTo>
                  <a:lnTo>
                    <a:pt x="2795" y="227"/>
                  </a:lnTo>
                  <a:lnTo>
                    <a:pt x="2913" y="260"/>
                  </a:lnTo>
                  <a:lnTo>
                    <a:pt x="3022" y="268"/>
                  </a:lnTo>
                  <a:lnTo>
                    <a:pt x="3097" y="303"/>
                  </a:lnTo>
                  <a:lnTo>
                    <a:pt x="0" y="303"/>
                  </a:lnTo>
                  <a:lnTo>
                    <a:pt x="167" y="252"/>
                  </a:lnTo>
                  <a:close/>
                </a:path>
              </a:pathLst>
            </a:custGeom>
            <a:solidFill>
              <a:srgbClr val="b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54000" y="5327640"/>
              <a:ext cx="382320" cy="85680"/>
            </a:xfrm>
            <a:custGeom>
              <a:avLst/>
              <a:gdLst/>
              <a:ahLst/>
              <a:rect l="l" t="t" r="r" b="b"/>
              <a:pathLst>
                <a:path w="482" h="109">
                  <a:moveTo>
                    <a:pt x="0" y="21"/>
                  </a:moveTo>
                  <a:lnTo>
                    <a:pt x="37" y="50"/>
                  </a:lnTo>
                  <a:lnTo>
                    <a:pt x="71" y="80"/>
                  </a:lnTo>
                  <a:lnTo>
                    <a:pt x="79" y="100"/>
                  </a:lnTo>
                  <a:lnTo>
                    <a:pt x="105" y="105"/>
                  </a:lnTo>
                  <a:lnTo>
                    <a:pt x="147" y="92"/>
                  </a:lnTo>
                  <a:lnTo>
                    <a:pt x="163" y="96"/>
                  </a:lnTo>
                  <a:lnTo>
                    <a:pt x="188" y="105"/>
                  </a:lnTo>
                  <a:lnTo>
                    <a:pt x="214" y="109"/>
                  </a:lnTo>
                  <a:lnTo>
                    <a:pt x="239" y="105"/>
                  </a:lnTo>
                  <a:lnTo>
                    <a:pt x="264" y="105"/>
                  </a:lnTo>
                  <a:lnTo>
                    <a:pt x="293" y="92"/>
                  </a:lnTo>
                  <a:lnTo>
                    <a:pt x="327" y="92"/>
                  </a:lnTo>
                  <a:lnTo>
                    <a:pt x="369" y="92"/>
                  </a:lnTo>
                  <a:lnTo>
                    <a:pt x="411" y="88"/>
                  </a:lnTo>
                  <a:lnTo>
                    <a:pt x="436" y="84"/>
                  </a:lnTo>
                  <a:lnTo>
                    <a:pt x="482" y="92"/>
                  </a:lnTo>
                  <a:lnTo>
                    <a:pt x="432" y="67"/>
                  </a:lnTo>
                  <a:lnTo>
                    <a:pt x="381" y="54"/>
                  </a:lnTo>
                  <a:lnTo>
                    <a:pt x="335" y="46"/>
                  </a:lnTo>
                  <a:lnTo>
                    <a:pt x="289" y="29"/>
                  </a:lnTo>
                  <a:lnTo>
                    <a:pt x="251" y="29"/>
                  </a:lnTo>
                  <a:lnTo>
                    <a:pt x="226" y="21"/>
                  </a:lnTo>
                  <a:lnTo>
                    <a:pt x="218" y="21"/>
                  </a:lnTo>
                  <a:lnTo>
                    <a:pt x="176" y="4"/>
                  </a:lnTo>
                  <a:lnTo>
                    <a:pt x="138" y="0"/>
                  </a:lnTo>
                  <a:lnTo>
                    <a:pt x="88" y="0"/>
                  </a:lnTo>
                  <a:lnTo>
                    <a:pt x="63" y="12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b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96880" y="5297400"/>
              <a:ext cx="317160" cy="76320"/>
            </a:xfrm>
            <a:custGeom>
              <a:avLst/>
              <a:gdLst/>
              <a:ahLst/>
              <a:rect l="l" t="t" r="r" b="b"/>
              <a:pathLst>
                <a:path w="398" h="97">
                  <a:moveTo>
                    <a:pt x="323" y="38"/>
                  </a:moveTo>
                  <a:lnTo>
                    <a:pt x="260" y="25"/>
                  </a:lnTo>
                  <a:lnTo>
                    <a:pt x="205" y="13"/>
                  </a:lnTo>
                  <a:lnTo>
                    <a:pt x="167" y="13"/>
                  </a:lnTo>
                  <a:lnTo>
                    <a:pt x="134" y="17"/>
                  </a:lnTo>
                  <a:lnTo>
                    <a:pt x="104" y="13"/>
                  </a:lnTo>
                  <a:lnTo>
                    <a:pt x="83" y="4"/>
                  </a:lnTo>
                  <a:lnTo>
                    <a:pt x="63" y="0"/>
                  </a:lnTo>
                  <a:lnTo>
                    <a:pt x="33" y="0"/>
                  </a:lnTo>
                  <a:lnTo>
                    <a:pt x="0" y="4"/>
                  </a:lnTo>
                  <a:lnTo>
                    <a:pt x="46" y="34"/>
                  </a:lnTo>
                  <a:lnTo>
                    <a:pt x="79" y="59"/>
                  </a:lnTo>
                  <a:lnTo>
                    <a:pt x="96" y="88"/>
                  </a:lnTo>
                  <a:lnTo>
                    <a:pt x="113" y="67"/>
                  </a:lnTo>
                  <a:lnTo>
                    <a:pt x="134" y="67"/>
                  </a:lnTo>
                  <a:lnTo>
                    <a:pt x="163" y="84"/>
                  </a:lnTo>
                  <a:lnTo>
                    <a:pt x="184" y="97"/>
                  </a:lnTo>
                  <a:lnTo>
                    <a:pt x="213" y="92"/>
                  </a:lnTo>
                  <a:lnTo>
                    <a:pt x="251" y="84"/>
                  </a:lnTo>
                  <a:lnTo>
                    <a:pt x="293" y="84"/>
                  </a:lnTo>
                  <a:lnTo>
                    <a:pt x="398" y="88"/>
                  </a:lnTo>
                  <a:lnTo>
                    <a:pt x="377" y="55"/>
                  </a:lnTo>
                  <a:lnTo>
                    <a:pt x="323" y="38"/>
                  </a:lnTo>
                  <a:close/>
                </a:path>
              </a:pathLst>
            </a:custGeom>
            <a:solidFill>
              <a:srgbClr val="b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620720" y="5330880"/>
              <a:ext cx="869400" cy="149040"/>
            </a:xfrm>
            <a:custGeom>
              <a:avLst/>
              <a:gdLst/>
              <a:ahLst/>
              <a:rect l="l" t="t" r="r" b="b"/>
              <a:pathLst>
                <a:path w="1096" h="189">
                  <a:moveTo>
                    <a:pt x="105" y="67"/>
                  </a:moveTo>
                  <a:lnTo>
                    <a:pt x="172" y="71"/>
                  </a:lnTo>
                  <a:lnTo>
                    <a:pt x="244" y="80"/>
                  </a:lnTo>
                  <a:lnTo>
                    <a:pt x="315" y="76"/>
                  </a:lnTo>
                  <a:lnTo>
                    <a:pt x="395" y="63"/>
                  </a:lnTo>
                  <a:lnTo>
                    <a:pt x="449" y="63"/>
                  </a:lnTo>
                  <a:lnTo>
                    <a:pt x="508" y="63"/>
                  </a:lnTo>
                  <a:lnTo>
                    <a:pt x="571" y="59"/>
                  </a:lnTo>
                  <a:lnTo>
                    <a:pt x="629" y="50"/>
                  </a:lnTo>
                  <a:lnTo>
                    <a:pt x="694" y="55"/>
                  </a:lnTo>
                  <a:lnTo>
                    <a:pt x="752" y="50"/>
                  </a:lnTo>
                  <a:lnTo>
                    <a:pt x="794" y="46"/>
                  </a:lnTo>
                  <a:lnTo>
                    <a:pt x="841" y="25"/>
                  </a:lnTo>
                  <a:lnTo>
                    <a:pt x="887" y="25"/>
                  </a:lnTo>
                  <a:lnTo>
                    <a:pt x="950" y="21"/>
                  </a:lnTo>
                  <a:lnTo>
                    <a:pt x="983" y="0"/>
                  </a:lnTo>
                  <a:lnTo>
                    <a:pt x="1012" y="17"/>
                  </a:lnTo>
                  <a:lnTo>
                    <a:pt x="1096" y="21"/>
                  </a:lnTo>
                  <a:lnTo>
                    <a:pt x="1029" y="42"/>
                  </a:lnTo>
                  <a:lnTo>
                    <a:pt x="1000" y="50"/>
                  </a:lnTo>
                  <a:lnTo>
                    <a:pt x="971" y="59"/>
                  </a:lnTo>
                  <a:lnTo>
                    <a:pt x="929" y="59"/>
                  </a:lnTo>
                  <a:lnTo>
                    <a:pt x="887" y="80"/>
                  </a:lnTo>
                  <a:lnTo>
                    <a:pt x="862" y="88"/>
                  </a:lnTo>
                  <a:lnTo>
                    <a:pt x="824" y="92"/>
                  </a:lnTo>
                  <a:lnTo>
                    <a:pt x="782" y="92"/>
                  </a:lnTo>
                  <a:lnTo>
                    <a:pt x="740" y="88"/>
                  </a:lnTo>
                  <a:lnTo>
                    <a:pt x="711" y="92"/>
                  </a:lnTo>
                  <a:lnTo>
                    <a:pt x="677" y="105"/>
                  </a:lnTo>
                  <a:lnTo>
                    <a:pt x="650" y="117"/>
                  </a:lnTo>
                  <a:lnTo>
                    <a:pt x="634" y="126"/>
                  </a:lnTo>
                  <a:lnTo>
                    <a:pt x="583" y="117"/>
                  </a:lnTo>
                  <a:lnTo>
                    <a:pt x="554" y="117"/>
                  </a:lnTo>
                  <a:lnTo>
                    <a:pt x="516" y="130"/>
                  </a:lnTo>
                  <a:lnTo>
                    <a:pt x="483" y="143"/>
                  </a:lnTo>
                  <a:lnTo>
                    <a:pt x="449" y="147"/>
                  </a:lnTo>
                  <a:lnTo>
                    <a:pt x="420" y="147"/>
                  </a:lnTo>
                  <a:lnTo>
                    <a:pt x="382" y="147"/>
                  </a:lnTo>
                  <a:lnTo>
                    <a:pt x="332" y="159"/>
                  </a:lnTo>
                  <a:lnTo>
                    <a:pt x="302" y="168"/>
                  </a:lnTo>
                  <a:lnTo>
                    <a:pt x="252" y="168"/>
                  </a:lnTo>
                  <a:lnTo>
                    <a:pt x="189" y="159"/>
                  </a:lnTo>
                  <a:lnTo>
                    <a:pt x="143" y="159"/>
                  </a:lnTo>
                  <a:lnTo>
                    <a:pt x="76" y="176"/>
                  </a:lnTo>
                  <a:lnTo>
                    <a:pt x="34" y="180"/>
                  </a:lnTo>
                  <a:lnTo>
                    <a:pt x="0" y="189"/>
                  </a:lnTo>
                  <a:lnTo>
                    <a:pt x="0" y="164"/>
                  </a:lnTo>
                  <a:lnTo>
                    <a:pt x="26" y="143"/>
                  </a:lnTo>
                  <a:lnTo>
                    <a:pt x="55" y="130"/>
                  </a:lnTo>
                  <a:lnTo>
                    <a:pt x="105" y="67"/>
                  </a:lnTo>
                  <a:close/>
                </a:path>
              </a:pathLst>
            </a:custGeom>
            <a:solidFill>
              <a:srgbClr val="b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80880" y="60948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d factors for 10 &amp; 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990720"/>
            <a:ext cx="17524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A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W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D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??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09880" y="5029200"/>
            <a:ext cx="1295640" cy="764280"/>
            <a:chOff x="3809880" y="5029200"/>
            <a:chExt cx="1295640" cy="764280"/>
          </a:xfrm>
        </p:grpSpPr>
        <p:sp>
          <p:nvSpPr>
            <p:cNvPr id="120" name=""/>
            <p:cNvSpPr/>
            <p:nvPr/>
          </p:nvSpPr>
          <p:spPr>
            <a:xfrm>
              <a:off x="3809880" y="5029200"/>
              <a:ext cx="457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cc99"/>
                  </a:solidFill>
                  <a:latin typeface="Times New Roman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648320" y="502920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cc99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5334120" y="4038480"/>
            <a:ext cx="457200" cy="1678680"/>
            <a:chOff x="5334120" y="4038480"/>
            <a:chExt cx="457200" cy="1678680"/>
          </a:xfrm>
        </p:grpSpPr>
        <p:sp>
          <p:nvSpPr>
            <p:cNvPr id="123" name=""/>
            <p:cNvSpPr/>
            <p:nvPr/>
          </p:nvSpPr>
          <p:spPr>
            <a:xfrm>
              <a:off x="5334120" y="4952880"/>
              <a:ext cx="457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cc99"/>
                  </a:solidFill>
                  <a:latin typeface="Times New Roman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62720" y="4038480"/>
              <a:ext cx="0" cy="914400"/>
            </a:xfrm>
            <a:prstGeom prst="line">
              <a:avLst/>
            </a:prstGeom>
            <a:ln w="93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209680" y="4038480"/>
            <a:ext cx="457200" cy="1755000"/>
            <a:chOff x="2209680" y="4038480"/>
            <a:chExt cx="457200" cy="1755000"/>
          </a:xfrm>
        </p:grpSpPr>
        <p:sp>
          <p:nvSpPr>
            <p:cNvPr id="126" name=""/>
            <p:cNvSpPr/>
            <p:nvPr/>
          </p:nvSpPr>
          <p:spPr>
            <a:xfrm>
              <a:off x="2209680" y="5029200"/>
              <a:ext cx="457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cc99"/>
                  </a:solidFill>
                  <a:latin typeface="Times New Roman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14600" y="4038480"/>
              <a:ext cx="0" cy="10670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3962520" y="3962520"/>
            <a:ext cx="838080" cy="914400"/>
            <a:chOff x="3962520" y="3962520"/>
            <a:chExt cx="838080" cy="914400"/>
          </a:xfrm>
        </p:grpSpPr>
        <p:sp>
          <p:nvSpPr>
            <p:cNvPr id="129" name=""/>
            <p:cNvSpPr/>
            <p:nvPr/>
          </p:nvSpPr>
          <p:spPr>
            <a:xfrm>
              <a:off x="4495680" y="3962520"/>
              <a:ext cx="304920" cy="914400"/>
            </a:xfrm>
            <a:prstGeom prst="line">
              <a:avLst/>
            </a:prstGeom>
            <a:ln w="93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3962520" y="3962520"/>
              <a:ext cx="304560" cy="914400"/>
            </a:xfrm>
            <a:prstGeom prst="line">
              <a:avLst/>
            </a:prstGeom>
            <a:ln w="93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362320" y="380880"/>
            <a:ext cx="3429000" cy="3736080"/>
            <a:chOff x="2362320" y="380880"/>
            <a:chExt cx="3429000" cy="3736080"/>
          </a:xfrm>
        </p:grpSpPr>
        <p:sp>
          <p:nvSpPr>
            <p:cNvPr id="132" name=""/>
            <p:cNvSpPr/>
            <p:nvPr/>
          </p:nvSpPr>
          <p:spPr>
            <a:xfrm>
              <a:off x="3276720" y="3276720"/>
              <a:ext cx="457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cc"/>
                  </a:solidFill>
                  <a:latin typeface="Times New Roman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4419720" y="2514600"/>
              <a:ext cx="304560" cy="9144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343400" y="990720"/>
              <a:ext cx="533520" cy="990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2666520" y="2514600"/>
              <a:ext cx="304920" cy="9144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819520" y="1905120"/>
              <a:ext cx="76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62320" y="327672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191120" y="333684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33cc"/>
                  </a:solidFill>
                  <a:latin typeface="Times New Roman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3352680" y="990720"/>
              <a:ext cx="533520" cy="914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81280" y="380880"/>
              <a:ext cx="1371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18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0" y="182880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Times New Roman"/>
                </a:rPr>
                <a:t>18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29200" y="2438280"/>
              <a:ext cx="533520" cy="10670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76720" y="2514600"/>
              <a:ext cx="304560" cy="9144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34120" y="3352680"/>
              <a:ext cx="457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124080" y="4038480"/>
            <a:ext cx="457200" cy="1755000"/>
            <a:chOff x="3124080" y="4038480"/>
            <a:chExt cx="457200" cy="1755000"/>
          </a:xfrm>
        </p:grpSpPr>
        <p:sp>
          <p:nvSpPr>
            <p:cNvPr id="146" name=""/>
            <p:cNvSpPr/>
            <p:nvPr/>
          </p:nvSpPr>
          <p:spPr>
            <a:xfrm>
              <a:off x="3429000" y="4038480"/>
              <a:ext cx="0" cy="10670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124080" y="5029200"/>
              <a:ext cx="457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cc99"/>
                  </a:solidFill>
                  <a:latin typeface="Times New Roman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304920" y="609480"/>
            <a:ext cx="1981080" cy="478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and 3 and 5 are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PRIME NUMB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y do not grow “new branches”. They just grow down al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24480" y="685800"/>
            <a:ext cx="243864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nce 6 is NOT a prime number - it is 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MPOSITE NUMB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 it still has factors. Since it is an  EVEN NUMBER we see tha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 = 2 x 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848720" y="4495680"/>
            <a:ext cx="457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2590920" y="838080"/>
            <a:ext cx="3581280" cy="5412240"/>
            <a:chOff x="2590920" y="838080"/>
            <a:chExt cx="3581280" cy="5412240"/>
          </a:xfrm>
        </p:grpSpPr>
        <p:sp>
          <p:nvSpPr>
            <p:cNvPr id="152" name=""/>
            <p:cNvSpPr/>
            <p:nvPr/>
          </p:nvSpPr>
          <p:spPr>
            <a:xfrm>
              <a:off x="4191120" y="838080"/>
              <a:ext cx="457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cc99"/>
                  </a:solidFill>
                  <a:latin typeface="Times New Roman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029200" y="89856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cc99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715000" y="914400"/>
              <a:ext cx="457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cc99"/>
                  </a:solidFill>
                  <a:latin typeface="Times New Roman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5943600" y="1676520"/>
              <a:ext cx="0" cy="914400"/>
            </a:xfrm>
            <a:prstGeom prst="line">
              <a:avLst/>
            </a:prstGeom>
            <a:ln w="93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590920" y="838080"/>
              <a:ext cx="457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cc99"/>
                  </a:solidFill>
                  <a:latin typeface="Times New Roman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2895480" y="1523880"/>
              <a:ext cx="0" cy="10670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4876920" y="1752480"/>
              <a:ext cx="304560" cy="914400"/>
            </a:xfrm>
            <a:prstGeom prst="line">
              <a:avLst/>
            </a:prstGeom>
            <a:ln w="93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4343040" y="1752480"/>
              <a:ext cx="304920" cy="914400"/>
            </a:xfrm>
            <a:prstGeom prst="line">
              <a:avLst/>
            </a:prstGeom>
            <a:ln w="93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657600" y="2590920"/>
              <a:ext cx="457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cc"/>
                  </a:solidFill>
                  <a:latin typeface="Times New Roman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 flipV="1">
              <a:off x="4800240" y="3200400"/>
              <a:ext cx="304920" cy="9144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724280" y="4647960"/>
              <a:ext cx="533520" cy="990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 flipV="1">
              <a:off x="3048120" y="3200400"/>
              <a:ext cx="304560" cy="9144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00400" y="402264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743200" y="265104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72000" y="259092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33cc"/>
                  </a:solidFill>
                  <a:latin typeface="Times New Roman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 flipV="1">
              <a:off x="3733560" y="4724280"/>
              <a:ext cx="533160" cy="914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962520" y="5546880"/>
              <a:ext cx="1371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18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52880" y="409896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Times New Roman"/>
                </a:rPr>
                <a:t>18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5410080" y="3124080"/>
              <a:ext cx="533520" cy="10670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657600" y="3200400"/>
              <a:ext cx="304920" cy="9144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715000" y="2514600"/>
              <a:ext cx="457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3809880" y="1523880"/>
              <a:ext cx="0" cy="10670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838080"/>
              <a:ext cx="457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cc99"/>
                  </a:solidFill>
                  <a:latin typeface="Times New Roman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6172200" y="838080"/>
            <a:ext cx="2459160" cy="5787000"/>
            <a:chOff x="6172200" y="838080"/>
            <a:chExt cx="2459160" cy="5787000"/>
          </a:xfrm>
        </p:grpSpPr>
        <p:grpSp>
          <p:nvGrpSpPr>
            <p:cNvPr id="176" name=""/>
            <p:cNvGrpSpPr/>
            <p:nvPr/>
          </p:nvGrpSpPr>
          <p:grpSpPr>
            <a:xfrm>
              <a:off x="6191280" y="838080"/>
              <a:ext cx="2440080" cy="5752080"/>
              <a:chOff x="6191280" y="838080"/>
              <a:chExt cx="2440080" cy="5752080"/>
            </a:xfrm>
          </p:grpSpPr>
          <p:sp>
            <p:nvSpPr>
              <p:cNvPr id="177" name=""/>
              <p:cNvSpPr/>
              <p:nvPr/>
            </p:nvSpPr>
            <p:spPr>
              <a:xfrm>
                <a:off x="6191280" y="838080"/>
                <a:ext cx="2440080" cy="5752080"/>
              </a:xfrm>
              <a:custGeom>
                <a:avLst/>
                <a:gdLst/>
                <a:ahLst/>
                <a:rect l="l" t="t" r="r" b="b"/>
                <a:pathLst>
                  <a:path w="3072" h="2953">
                    <a:moveTo>
                      <a:pt x="999" y="2928"/>
                    </a:moveTo>
                    <a:lnTo>
                      <a:pt x="1133" y="2844"/>
                    </a:lnTo>
                    <a:lnTo>
                      <a:pt x="1192" y="2769"/>
                    </a:lnTo>
                    <a:lnTo>
                      <a:pt x="1226" y="2693"/>
                    </a:lnTo>
                    <a:lnTo>
                      <a:pt x="1242" y="2601"/>
                    </a:lnTo>
                    <a:lnTo>
                      <a:pt x="1259" y="2509"/>
                    </a:lnTo>
                    <a:lnTo>
                      <a:pt x="1268" y="2408"/>
                    </a:lnTo>
                    <a:lnTo>
                      <a:pt x="1276" y="2299"/>
                    </a:lnTo>
                    <a:lnTo>
                      <a:pt x="1293" y="2097"/>
                    </a:lnTo>
                    <a:lnTo>
                      <a:pt x="1301" y="1929"/>
                    </a:lnTo>
                    <a:lnTo>
                      <a:pt x="1301" y="1812"/>
                    </a:lnTo>
                    <a:lnTo>
                      <a:pt x="1293" y="1736"/>
                    </a:lnTo>
                    <a:lnTo>
                      <a:pt x="1242" y="1661"/>
                    </a:lnTo>
                    <a:lnTo>
                      <a:pt x="1192" y="1644"/>
                    </a:lnTo>
                    <a:lnTo>
                      <a:pt x="1117" y="1611"/>
                    </a:lnTo>
                    <a:lnTo>
                      <a:pt x="1016" y="1611"/>
                    </a:lnTo>
                    <a:lnTo>
                      <a:pt x="865" y="1577"/>
                    </a:lnTo>
                    <a:lnTo>
                      <a:pt x="848" y="1577"/>
                    </a:lnTo>
                    <a:lnTo>
                      <a:pt x="756" y="1544"/>
                    </a:lnTo>
                    <a:lnTo>
                      <a:pt x="587" y="1519"/>
                    </a:lnTo>
                    <a:lnTo>
                      <a:pt x="461" y="1502"/>
                    </a:lnTo>
                    <a:lnTo>
                      <a:pt x="327" y="1460"/>
                    </a:lnTo>
                    <a:lnTo>
                      <a:pt x="176" y="1460"/>
                    </a:lnTo>
                    <a:lnTo>
                      <a:pt x="0" y="1477"/>
                    </a:lnTo>
                    <a:lnTo>
                      <a:pt x="251" y="1447"/>
                    </a:lnTo>
                    <a:lnTo>
                      <a:pt x="293" y="1426"/>
                    </a:lnTo>
                    <a:lnTo>
                      <a:pt x="314" y="1397"/>
                    </a:lnTo>
                    <a:lnTo>
                      <a:pt x="327" y="1326"/>
                    </a:lnTo>
                    <a:lnTo>
                      <a:pt x="293" y="1175"/>
                    </a:lnTo>
                    <a:lnTo>
                      <a:pt x="285" y="1066"/>
                    </a:lnTo>
                    <a:lnTo>
                      <a:pt x="344" y="1317"/>
                    </a:lnTo>
                    <a:lnTo>
                      <a:pt x="352" y="1384"/>
                    </a:lnTo>
                    <a:lnTo>
                      <a:pt x="381" y="1414"/>
                    </a:lnTo>
                    <a:lnTo>
                      <a:pt x="419" y="1435"/>
                    </a:lnTo>
                    <a:lnTo>
                      <a:pt x="461" y="1451"/>
                    </a:lnTo>
                    <a:lnTo>
                      <a:pt x="595" y="1468"/>
                    </a:lnTo>
                    <a:lnTo>
                      <a:pt x="713" y="1468"/>
                    </a:lnTo>
                    <a:lnTo>
                      <a:pt x="654" y="1414"/>
                    </a:lnTo>
                    <a:lnTo>
                      <a:pt x="587" y="1317"/>
                    </a:lnTo>
                    <a:lnTo>
                      <a:pt x="537" y="1217"/>
                    </a:lnTo>
                    <a:lnTo>
                      <a:pt x="461" y="1041"/>
                    </a:lnTo>
                    <a:lnTo>
                      <a:pt x="578" y="1242"/>
                    </a:lnTo>
                    <a:lnTo>
                      <a:pt x="641" y="1326"/>
                    </a:lnTo>
                    <a:lnTo>
                      <a:pt x="704" y="1389"/>
                    </a:lnTo>
                    <a:lnTo>
                      <a:pt x="773" y="1443"/>
                    </a:lnTo>
                    <a:lnTo>
                      <a:pt x="882" y="1493"/>
                    </a:lnTo>
                    <a:lnTo>
                      <a:pt x="982" y="1502"/>
                    </a:lnTo>
                    <a:lnTo>
                      <a:pt x="1091" y="1510"/>
                    </a:lnTo>
                    <a:lnTo>
                      <a:pt x="1209" y="1493"/>
                    </a:lnTo>
                    <a:lnTo>
                      <a:pt x="1110" y="1468"/>
                    </a:lnTo>
                    <a:lnTo>
                      <a:pt x="1065" y="1447"/>
                    </a:lnTo>
                    <a:lnTo>
                      <a:pt x="1016" y="1411"/>
                    </a:lnTo>
                    <a:lnTo>
                      <a:pt x="968" y="1362"/>
                    </a:lnTo>
                    <a:lnTo>
                      <a:pt x="851" y="1330"/>
                    </a:lnTo>
                    <a:lnTo>
                      <a:pt x="770" y="1299"/>
                    </a:lnTo>
                    <a:lnTo>
                      <a:pt x="711" y="1275"/>
                    </a:lnTo>
                    <a:lnTo>
                      <a:pt x="672" y="1257"/>
                    </a:lnTo>
                    <a:lnTo>
                      <a:pt x="644" y="1241"/>
                    </a:lnTo>
                    <a:lnTo>
                      <a:pt x="619" y="1221"/>
                    </a:lnTo>
                    <a:lnTo>
                      <a:pt x="601" y="1203"/>
                    </a:lnTo>
                    <a:lnTo>
                      <a:pt x="632" y="1224"/>
                    </a:lnTo>
                    <a:lnTo>
                      <a:pt x="660" y="1241"/>
                    </a:lnTo>
                    <a:lnTo>
                      <a:pt x="690" y="1253"/>
                    </a:lnTo>
                    <a:lnTo>
                      <a:pt x="739" y="1267"/>
                    </a:lnTo>
                    <a:lnTo>
                      <a:pt x="787" y="1282"/>
                    </a:lnTo>
                    <a:lnTo>
                      <a:pt x="838" y="1295"/>
                    </a:lnTo>
                    <a:lnTo>
                      <a:pt x="879" y="1303"/>
                    </a:lnTo>
                    <a:lnTo>
                      <a:pt x="906" y="1305"/>
                    </a:lnTo>
                    <a:lnTo>
                      <a:pt x="927" y="1308"/>
                    </a:lnTo>
                    <a:lnTo>
                      <a:pt x="890" y="1259"/>
                    </a:lnTo>
                    <a:lnTo>
                      <a:pt x="864" y="1215"/>
                    </a:lnTo>
                    <a:lnTo>
                      <a:pt x="822" y="1146"/>
                    </a:lnTo>
                    <a:lnTo>
                      <a:pt x="790" y="1087"/>
                    </a:lnTo>
                    <a:lnTo>
                      <a:pt x="764" y="1024"/>
                    </a:lnTo>
                    <a:lnTo>
                      <a:pt x="729" y="982"/>
                    </a:lnTo>
                    <a:lnTo>
                      <a:pt x="629" y="915"/>
                    </a:lnTo>
                    <a:lnTo>
                      <a:pt x="545" y="873"/>
                    </a:lnTo>
                    <a:lnTo>
                      <a:pt x="713" y="932"/>
                    </a:lnTo>
                    <a:lnTo>
                      <a:pt x="662" y="785"/>
                    </a:lnTo>
                    <a:lnTo>
                      <a:pt x="595" y="629"/>
                    </a:lnTo>
                    <a:lnTo>
                      <a:pt x="679" y="789"/>
                    </a:lnTo>
                    <a:lnTo>
                      <a:pt x="700" y="840"/>
                    </a:lnTo>
                    <a:lnTo>
                      <a:pt x="721" y="873"/>
                    </a:lnTo>
                    <a:lnTo>
                      <a:pt x="764" y="936"/>
                    </a:lnTo>
                    <a:lnTo>
                      <a:pt x="823" y="1024"/>
                    </a:lnTo>
                    <a:lnTo>
                      <a:pt x="868" y="1105"/>
                    </a:lnTo>
                    <a:lnTo>
                      <a:pt x="893" y="1150"/>
                    </a:lnTo>
                    <a:lnTo>
                      <a:pt x="974" y="1259"/>
                    </a:lnTo>
                    <a:lnTo>
                      <a:pt x="941" y="974"/>
                    </a:lnTo>
                    <a:lnTo>
                      <a:pt x="907" y="865"/>
                    </a:lnTo>
                    <a:lnTo>
                      <a:pt x="865" y="781"/>
                    </a:lnTo>
                    <a:lnTo>
                      <a:pt x="806" y="679"/>
                    </a:lnTo>
                    <a:lnTo>
                      <a:pt x="882" y="764"/>
                    </a:lnTo>
                    <a:lnTo>
                      <a:pt x="848" y="369"/>
                    </a:lnTo>
                    <a:lnTo>
                      <a:pt x="865" y="251"/>
                    </a:lnTo>
                    <a:lnTo>
                      <a:pt x="873" y="419"/>
                    </a:lnTo>
                    <a:lnTo>
                      <a:pt x="924" y="331"/>
                    </a:lnTo>
                    <a:lnTo>
                      <a:pt x="1058" y="226"/>
                    </a:lnTo>
                    <a:lnTo>
                      <a:pt x="932" y="348"/>
                    </a:lnTo>
                    <a:lnTo>
                      <a:pt x="882" y="444"/>
                    </a:lnTo>
                    <a:lnTo>
                      <a:pt x="907" y="679"/>
                    </a:lnTo>
                    <a:lnTo>
                      <a:pt x="932" y="806"/>
                    </a:lnTo>
                    <a:lnTo>
                      <a:pt x="974" y="940"/>
                    </a:lnTo>
                    <a:lnTo>
                      <a:pt x="1008" y="1141"/>
                    </a:lnTo>
                    <a:lnTo>
                      <a:pt x="1024" y="1259"/>
                    </a:lnTo>
                    <a:lnTo>
                      <a:pt x="1050" y="1309"/>
                    </a:lnTo>
                    <a:lnTo>
                      <a:pt x="1089" y="1342"/>
                    </a:lnTo>
                    <a:lnTo>
                      <a:pt x="1132" y="1365"/>
                    </a:lnTo>
                    <a:lnTo>
                      <a:pt x="1173" y="1375"/>
                    </a:lnTo>
                    <a:lnTo>
                      <a:pt x="1217" y="1368"/>
                    </a:lnTo>
                    <a:lnTo>
                      <a:pt x="1150" y="1200"/>
                    </a:lnTo>
                    <a:lnTo>
                      <a:pt x="1104" y="1112"/>
                    </a:lnTo>
                    <a:lnTo>
                      <a:pt x="1087" y="1049"/>
                    </a:lnTo>
                    <a:lnTo>
                      <a:pt x="1079" y="995"/>
                    </a:lnTo>
                    <a:lnTo>
                      <a:pt x="1075" y="932"/>
                    </a:lnTo>
                    <a:lnTo>
                      <a:pt x="1033" y="831"/>
                    </a:lnTo>
                    <a:lnTo>
                      <a:pt x="1104" y="932"/>
                    </a:lnTo>
                    <a:lnTo>
                      <a:pt x="1108" y="890"/>
                    </a:lnTo>
                    <a:lnTo>
                      <a:pt x="1066" y="671"/>
                    </a:lnTo>
                    <a:lnTo>
                      <a:pt x="1062" y="599"/>
                    </a:lnTo>
                    <a:lnTo>
                      <a:pt x="1066" y="541"/>
                    </a:lnTo>
                    <a:lnTo>
                      <a:pt x="1087" y="453"/>
                    </a:lnTo>
                    <a:lnTo>
                      <a:pt x="1138" y="314"/>
                    </a:lnTo>
                    <a:lnTo>
                      <a:pt x="1192" y="176"/>
                    </a:lnTo>
                    <a:lnTo>
                      <a:pt x="1100" y="478"/>
                    </a:lnTo>
                    <a:lnTo>
                      <a:pt x="1284" y="184"/>
                    </a:lnTo>
                    <a:lnTo>
                      <a:pt x="1146" y="440"/>
                    </a:lnTo>
                    <a:lnTo>
                      <a:pt x="1112" y="541"/>
                    </a:lnTo>
                    <a:lnTo>
                      <a:pt x="1104" y="608"/>
                    </a:lnTo>
                    <a:lnTo>
                      <a:pt x="1142" y="823"/>
                    </a:lnTo>
                    <a:lnTo>
                      <a:pt x="1146" y="949"/>
                    </a:lnTo>
                    <a:lnTo>
                      <a:pt x="1150" y="1024"/>
                    </a:lnTo>
                    <a:lnTo>
                      <a:pt x="1175" y="1104"/>
                    </a:lnTo>
                    <a:lnTo>
                      <a:pt x="1209" y="1166"/>
                    </a:lnTo>
                    <a:lnTo>
                      <a:pt x="1247" y="1242"/>
                    </a:lnTo>
                    <a:lnTo>
                      <a:pt x="1272" y="1305"/>
                    </a:lnTo>
                    <a:lnTo>
                      <a:pt x="1312" y="1389"/>
                    </a:lnTo>
                    <a:lnTo>
                      <a:pt x="1303" y="1338"/>
                    </a:lnTo>
                    <a:lnTo>
                      <a:pt x="1294" y="1282"/>
                    </a:lnTo>
                    <a:lnTo>
                      <a:pt x="1301" y="1007"/>
                    </a:lnTo>
                    <a:lnTo>
                      <a:pt x="1276" y="969"/>
                    </a:lnTo>
                    <a:lnTo>
                      <a:pt x="1263" y="932"/>
                    </a:lnTo>
                    <a:lnTo>
                      <a:pt x="1247" y="873"/>
                    </a:lnTo>
                    <a:lnTo>
                      <a:pt x="1221" y="777"/>
                    </a:lnTo>
                    <a:lnTo>
                      <a:pt x="1184" y="675"/>
                    </a:lnTo>
                    <a:lnTo>
                      <a:pt x="1255" y="819"/>
                    </a:lnTo>
                    <a:lnTo>
                      <a:pt x="1276" y="881"/>
                    </a:lnTo>
                    <a:lnTo>
                      <a:pt x="1305" y="923"/>
                    </a:lnTo>
                    <a:lnTo>
                      <a:pt x="1305" y="641"/>
                    </a:lnTo>
                    <a:lnTo>
                      <a:pt x="1301" y="461"/>
                    </a:lnTo>
                    <a:lnTo>
                      <a:pt x="1280" y="302"/>
                    </a:lnTo>
                    <a:lnTo>
                      <a:pt x="1314" y="411"/>
                    </a:lnTo>
                    <a:lnTo>
                      <a:pt x="1351" y="293"/>
                    </a:lnTo>
                    <a:lnTo>
                      <a:pt x="1377" y="222"/>
                    </a:lnTo>
                    <a:lnTo>
                      <a:pt x="1465" y="29"/>
                    </a:lnTo>
                    <a:lnTo>
                      <a:pt x="1410" y="180"/>
                    </a:lnTo>
                    <a:lnTo>
                      <a:pt x="1377" y="277"/>
                    </a:lnTo>
                    <a:lnTo>
                      <a:pt x="1356" y="356"/>
                    </a:lnTo>
                    <a:lnTo>
                      <a:pt x="1339" y="423"/>
                    </a:lnTo>
                    <a:lnTo>
                      <a:pt x="1343" y="578"/>
                    </a:lnTo>
                    <a:lnTo>
                      <a:pt x="1406" y="461"/>
                    </a:lnTo>
                    <a:lnTo>
                      <a:pt x="1431" y="390"/>
                    </a:lnTo>
                    <a:lnTo>
                      <a:pt x="1456" y="306"/>
                    </a:lnTo>
                    <a:lnTo>
                      <a:pt x="1481" y="222"/>
                    </a:lnTo>
                    <a:lnTo>
                      <a:pt x="1498" y="138"/>
                    </a:lnTo>
                    <a:lnTo>
                      <a:pt x="1528" y="0"/>
                    </a:lnTo>
                    <a:lnTo>
                      <a:pt x="1507" y="168"/>
                    </a:lnTo>
                    <a:lnTo>
                      <a:pt x="1498" y="230"/>
                    </a:lnTo>
                    <a:lnTo>
                      <a:pt x="1473" y="323"/>
                    </a:lnTo>
                    <a:lnTo>
                      <a:pt x="1444" y="423"/>
                    </a:lnTo>
                    <a:lnTo>
                      <a:pt x="1414" y="507"/>
                    </a:lnTo>
                    <a:lnTo>
                      <a:pt x="1377" y="595"/>
                    </a:lnTo>
                    <a:lnTo>
                      <a:pt x="1368" y="781"/>
                    </a:lnTo>
                    <a:lnTo>
                      <a:pt x="1385" y="999"/>
                    </a:lnTo>
                    <a:lnTo>
                      <a:pt x="1385" y="1301"/>
                    </a:lnTo>
                    <a:lnTo>
                      <a:pt x="1419" y="1443"/>
                    </a:lnTo>
                    <a:lnTo>
                      <a:pt x="1435" y="1295"/>
                    </a:lnTo>
                    <a:lnTo>
                      <a:pt x="1448" y="1194"/>
                    </a:lnTo>
                    <a:lnTo>
                      <a:pt x="1461" y="1112"/>
                    </a:lnTo>
                    <a:lnTo>
                      <a:pt x="1481" y="993"/>
                    </a:lnTo>
                    <a:lnTo>
                      <a:pt x="1507" y="907"/>
                    </a:lnTo>
                    <a:lnTo>
                      <a:pt x="1544" y="805"/>
                    </a:lnTo>
                    <a:lnTo>
                      <a:pt x="1477" y="598"/>
                    </a:lnTo>
                    <a:lnTo>
                      <a:pt x="1511" y="661"/>
                    </a:lnTo>
                    <a:lnTo>
                      <a:pt x="1536" y="719"/>
                    </a:lnTo>
                    <a:lnTo>
                      <a:pt x="1561" y="767"/>
                    </a:lnTo>
                    <a:lnTo>
                      <a:pt x="1645" y="633"/>
                    </a:lnTo>
                    <a:lnTo>
                      <a:pt x="1674" y="564"/>
                    </a:lnTo>
                    <a:lnTo>
                      <a:pt x="1662" y="386"/>
                    </a:lnTo>
                    <a:lnTo>
                      <a:pt x="1704" y="553"/>
                    </a:lnTo>
                    <a:lnTo>
                      <a:pt x="1922" y="210"/>
                    </a:lnTo>
                    <a:lnTo>
                      <a:pt x="1989" y="84"/>
                    </a:lnTo>
                    <a:lnTo>
                      <a:pt x="1913" y="285"/>
                    </a:lnTo>
                    <a:lnTo>
                      <a:pt x="1737" y="603"/>
                    </a:lnTo>
                    <a:lnTo>
                      <a:pt x="2152" y="331"/>
                    </a:lnTo>
                    <a:lnTo>
                      <a:pt x="1737" y="637"/>
                    </a:lnTo>
                    <a:lnTo>
                      <a:pt x="1662" y="773"/>
                    </a:lnTo>
                    <a:lnTo>
                      <a:pt x="1603" y="881"/>
                    </a:lnTo>
                    <a:lnTo>
                      <a:pt x="1570" y="1024"/>
                    </a:lnTo>
                    <a:lnTo>
                      <a:pt x="1536" y="1234"/>
                    </a:lnTo>
                    <a:lnTo>
                      <a:pt x="1515" y="1426"/>
                    </a:lnTo>
                    <a:lnTo>
                      <a:pt x="1557" y="1278"/>
                    </a:lnTo>
                    <a:lnTo>
                      <a:pt x="1591" y="1215"/>
                    </a:lnTo>
                    <a:lnTo>
                      <a:pt x="1637" y="1150"/>
                    </a:lnTo>
                    <a:lnTo>
                      <a:pt x="1700" y="1073"/>
                    </a:lnTo>
                    <a:lnTo>
                      <a:pt x="1737" y="1027"/>
                    </a:lnTo>
                    <a:lnTo>
                      <a:pt x="1771" y="978"/>
                    </a:lnTo>
                    <a:lnTo>
                      <a:pt x="1775" y="918"/>
                    </a:lnTo>
                    <a:lnTo>
                      <a:pt x="1779" y="729"/>
                    </a:lnTo>
                    <a:lnTo>
                      <a:pt x="1792" y="863"/>
                    </a:lnTo>
                    <a:lnTo>
                      <a:pt x="1804" y="914"/>
                    </a:lnTo>
                    <a:lnTo>
                      <a:pt x="1830" y="932"/>
                    </a:lnTo>
                    <a:lnTo>
                      <a:pt x="1884" y="838"/>
                    </a:lnTo>
                    <a:lnTo>
                      <a:pt x="1934" y="759"/>
                    </a:lnTo>
                    <a:lnTo>
                      <a:pt x="1972" y="696"/>
                    </a:lnTo>
                    <a:lnTo>
                      <a:pt x="2022" y="623"/>
                    </a:lnTo>
                    <a:lnTo>
                      <a:pt x="2106" y="536"/>
                    </a:lnTo>
                    <a:lnTo>
                      <a:pt x="2194" y="461"/>
                    </a:lnTo>
                    <a:lnTo>
                      <a:pt x="2190" y="212"/>
                    </a:lnTo>
                    <a:lnTo>
                      <a:pt x="2215" y="443"/>
                    </a:lnTo>
                    <a:lnTo>
                      <a:pt x="2372" y="369"/>
                    </a:lnTo>
                    <a:lnTo>
                      <a:pt x="2531" y="298"/>
                    </a:lnTo>
                    <a:lnTo>
                      <a:pt x="2317" y="426"/>
                    </a:lnTo>
                    <a:lnTo>
                      <a:pt x="2456" y="514"/>
                    </a:lnTo>
                    <a:lnTo>
                      <a:pt x="2291" y="439"/>
                    </a:lnTo>
                    <a:lnTo>
                      <a:pt x="2232" y="481"/>
                    </a:lnTo>
                    <a:lnTo>
                      <a:pt x="2165" y="549"/>
                    </a:lnTo>
                    <a:lnTo>
                      <a:pt x="2102" y="616"/>
                    </a:lnTo>
                    <a:lnTo>
                      <a:pt x="2056" y="678"/>
                    </a:lnTo>
                    <a:lnTo>
                      <a:pt x="2018" y="738"/>
                    </a:lnTo>
                    <a:lnTo>
                      <a:pt x="1985" y="813"/>
                    </a:lnTo>
                    <a:lnTo>
                      <a:pt x="1968" y="869"/>
                    </a:lnTo>
                    <a:lnTo>
                      <a:pt x="2027" y="859"/>
                    </a:lnTo>
                    <a:lnTo>
                      <a:pt x="2094" y="838"/>
                    </a:lnTo>
                    <a:lnTo>
                      <a:pt x="2169" y="814"/>
                    </a:lnTo>
                    <a:lnTo>
                      <a:pt x="2257" y="775"/>
                    </a:lnTo>
                    <a:lnTo>
                      <a:pt x="2334" y="747"/>
                    </a:lnTo>
                    <a:lnTo>
                      <a:pt x="2389" y="724"/>
                    </a:lnTo>
                    <a:lnTo>
                      <a:pt x="2447" y="690"/>
                    </a:lnTo>
                    <a:lnTo>
                      <a:pt x="2481" y="648"/>
                    </a:lnTo>
                    <a:lnTo>
                      <a:pt x="2506" y="602"/>
                    </a:lnTo>
                    <a:lnTo>
                      <a:pt x="2498" y="648"/>
                    </a:lnTo>
                    <a:lnTo>
                      <a:pt x="2477" y="687"/>
                    </a:lnTo>
                    <a:lnTo>
                      <a:pt x="2439" y="719"/>
                    </a:lnTo>
                    <a:lnTo>
                      <a:pt x="2347" y="775"/>
                    </a:lnTo>
                    <a:lnTo>
                      <a:pt x="2261" y="821"/>
                    </a:lnTo>
                    <a:lnTo>
                      <a:pt x="2182" y="856"/>
                    </a:lnTo>
                    <a:lnTo>
                      <a:pt x="2123" y="880"/>
                    </a:lnTo>
                    <a:lnTo>
                      <a:pt x="2060" y="907"/>
                    </a:lnTo>
                    <a:lnTo>
                      <a:pt x="1981" y="932"/>
                    </a:lnTo>
                    <a:lnTo>
                      <a:pt x="1913" y="974"/>
                    </a:lnTo>
                    <a:lnTo>
                      <a:pt x="1855" y="1024"/>
                    </a:lnTo>
                    <a:lnTo>
                      <a:pt x="1788" y="1108"/>
                    </a:lnTo>
                    <a:lnTo>
                      <a:pt x="1708" y="1211"/>
                    </a:lnTo>
                    <a:lnTo>
                      <a:pt x="1670" y="1280"/>
                    </a:lnTo>
                    <a:lnTo>
                      <a:pt x="1645" y="1324"/>
                    </a:lnTo>
                    <a:lnTo>
                      <a:pt x="1628" y="1379"/>
                    </a:lnTo>
                    <a:lnTo>
                      <a:pt x="1616" y="1456"/>
                    </a:lnTo>
                    <a:lnTo>
                      <a:pt x="1708" y="1389"/>
                    </a:lnTo>
                    <a:lnTo>
                      <a:pt x="1754" y="1354"/>
                    </a:lnTo>
                    <a:lnTo>
                      <a:pt x="1779" y="1324"/>
                    </a:lnTo>
                    <a:lnTo>
                      <a:pt x="1800" y="1278"/>
                    </a:lnTo>
                    <a:lnTo>
                      <a:pt x="1825" y="1194"/>
                    </a:lnTo>
                    <a:lnTo>
                      <a:pt x="1846" y="1106"/>
                    </a:lnTo>
                    <a:lnTo>
                      <a:pt x="1884" y="1048"/>
                    </a:lnTo>
                    <a:lnTo>
                      <a:pt x="1863" y="1102"/>
                    </a:lnTo>
                    <a:lnTo>
                      <a:pt x="1846" y="1165"/>
                    </a:lnTo>
                    <a:lnTo>
                      <a:pt x="1838" y="1224"/>
                    </a:lnTo>
                    <a:lnTo>
                      <a:pt x="1830" y="1282"/>
                    </a:lnTo>
                    <a:lnTo>
                      <a:pt x="1830" y="1308"/>
                    </a:lnTo>
                    <a:lnTo>
                      <a:pt x="1838" y="1333"/>
                    </a:lnTo>
                    <a:lnTo>
                      <a:pt x="1888" y="1338"/>
                    </a:lnTo>
                    <a:lnTo>
                      <a:pt x="1997" y="1296"/>
                    </a:lnTo>
                    <a:lnTo>
                      <a:pt x="2115" y="1254"/>
                    </a:lnTo>
                    <a:lnTo>
                      <a:pt x="2299" y="1192"/>
                    </a:lnTo>
                    <a:lnTo>
                      <a:pt x="2347" y="1169"/>
                    </a:lnTo>
                    <a:lnTo>
                      <a:pt x="2397" y="1140"/>
                    </a:lnTo>
                    <a:lnTo>
                      <a:pt x="2426" y="1074"/>
                    </a:lnTo>
                    <a:lnTo>
                      <a:pt x="2473" y="861"/>
                    </a:lnTo>
                    <a:lnTo>
                      <a:pt x="2443" y="1133"/>
                    </a:lnTo>
                    <a:lnTo>
                      <a:pt x="2464" y="1140"/>
                    </a:lnTo>
                    <a:lnTo>
                      <a:pt x="2494" y="1123"/>
                    </a:lnTo>
                    <a:lnTo>
                      <a:pt x="2556" y="981"/>
                    </a:lnTo>
                    <a:lnTo>
                      <a:pt x="2540" y="1056"/>
                    </a:lnTo>
                    <a:lnTo>
                      <a:pt x="2527" y="1098"/>
                    </a:lnTo>
                    <a:lnTo>
                      <a:pt x="2552" y="1106"/>
                    </a:lnTo>
                    <a:lnTo>
                      <a:pt x="2590" y="1090"/>
                    </a:lnTo>
                    <a:lnTo>
                      <a:pt x="2619" y="1048"/>
                    </a:lnTo>
                    <a:lnTo>
                      <a:pt x="2712" y="961"/>
                    </a:lnTo>
                    <a:lnTo>
                      <a:pt x="2644" y="1035"/>
                    </a:lnTo>
                    <a:lnTo>
                      <a:pt x="2624" y="1077"/>
                    </a:lnTo>
                    <a:lnTo>
                      <a:pt x="2615" y="1115"/>
                    </a:lnTo>
                    <a:lnTo>
                      <a:pt x="2661" y="1152"/>
                    </a:lnTo>
                    <a:lnTo>
                      <a:pt x="2598" y="1136"/>
                    </a:lnTo>
                    <a:lnTo>
                      <a:pt x="2561" y="1146"/>
                    </a:lnTo>
                    <a:lnTo>
                      <a:pt x="2494" y="1165"/>
                    </a:lnTo>
                    <a:lnTo>
                      <a:pt x="2514" y="1186"/>
                    </a:lnTo>
                    <a:lnTo>
                      <a:pt x="2544" y="1232"/>
                    </a:lnTo>
                    <a:lnTo>
                      <a:pt x="2582" y="1341"/>
                    </a:lnTo>
                    <a:lnTo>
                      <a:pt x="2523" y="1241"/>
                    </a:lnTo>
                    <a:lnTo>
                      <a:pt x="2494" y="1207"/>
                    </a:lnTo>
                    <a:lnTo>
                      <a:pt x="2464" y="1190"/>
                    </a:lnTo>
                    <a:lnTo>
                      <a:pt x="2426" y="1192"/>
                    </a:lnTo>
                    <a:lnTo>
                      <a:pt x="2303" y="1234"/>
                    </a:lnTo>
                    <a:lnTo>
                      <a:pt x="2190" y="1275"/>
                    </a:lnTo>
                    <a:lnTo>
                      <a:pt x="2085" y="1308"/>
                    </a:lnTo>
                    <a:lnTo>
                      <a:pt x="1997" y="1342"/>
                    </a:lnTo>
                    <a:lnTo>
                      <a:pt x="1926" y="1379"/>
                    </a:lnTo>
                    <a:lnTo>
                      <a:pt x="1846" y="1422"/>
                    </a:lnTo>
                    <a:lnTo>
                      <a:pt x="1771" y="1471"/>
                    </a:lnTo>
                    <a:lnTo>
                      <a:pt x="1725" y="1510"/>
                    </a:lnTo>
                    <a:lnTo>
                      <a:pt x="1683" y="1552"/>
                    </a:lnTo>
                    <a:lnTo>
                      <a:pt x="1863" y="1560"/>
                    </a:lnTo>
                    <a:lnTo>
                      <a:pt x="2018" y="1548"/>
                    </a:lnTo>
                    <a:lnTo>
                      <a:pt x="2245" y="1519"/>
                    </a:lnTo>
                    <a:lnTo>
                      <a:pt x="2414" y="1493"/>
                    </a:lnTo>
                    <a:lnTo>
                      <a:pt x="2498" y="1479"/>
                    </a:lnTo>
                    <a:lnTo>
                      <a:pt x="2544" y="1463"/>
                    </a:lnTo>
                    <a:lnTo>
                      <a:pt x="2594" y="1443"/>
                    </a:lnTo>
                    <a:lnTo>
                      <a:pt x="2644" y="1417"/>
                    </a:lnTo>
                    <a:lnTo>
                      <a:pt x="2728" y="1349"/>
                    </a:lnTo>
                    <a:lnTo>
                      <a:pt x="2833" y="1242"/>
                    </a:lnTo>
                    <a:lnTo>
                      <a:pt x="2737" y="1362"/>
                    </a:lnTo>
                    <a:lnTo>
                      <a:pt x="2678" y="1417"/>
                    </a:lnTo>
                    <a:lnTo>
                      <a:pt x="2624" y="1460"/>
                    </a:lnTo>
                    <a:lnTo>
                      <a:pt x="2733" y="1454"/>
                    </a:lnTo>
                    <a:lnTo>
                      <a:pt x="2808" y="1433"/>
                    </a:lnTo>
                    <a:lnTo>
                      <a:pt x="2867" y="1404"/>
                    </a:lnTo>
                    <a:lnTo>
                      <a:pt x="2925" y="1379"/>
                    </a:lnTo>
                    <a:lnTo>
                      <a:pt x="3001" y="1345"/>
                    </a:lnTo>
                    <a:lnTo>
                      <a:pt x="3072" y="1329"/>
                    </a:lnTo>
                    <a:lnTo>
                      <a:pt x="3001" y="1362"/>
                    </a:lnTo>
                    <a:lnTo>
                      <a:pt x="2942" y="1396"/>
                    </a:lnTo>
                    <a:lnTo>
                      <a:pt x="2884" y="1425"/>
                    </a:lnTo>
                    <a:lnTo>
                      <a:pt x="2837" y="1450"/>
                    </a:lnTo>
                    <a:lnTo>
                      <a:pt x="2783" y="1471"/>
                    </a:lnTo>
                    <a:lnTo>
                      <a:pt x="2863" y="1479"/>
                    </a:lnTo>
                    <a:lnTo>
                      <a:pt x="2913" y="1471"/>
                    </a:lnTo>
                    <a:lnTo>
                      <a:pt x="2972" y="1458"/>
                    </a:lnTo>
                    <a:lnTo>
                      <a:pt x="3030" y="1442"/>
                    </a:lnTo>
                    <a:lnTo>
                      <a:pt x="2963" y="1485"/>
                    </a:lnTo>
                    <a:lnTo>
                      <a:pt x="2892" y="1496"/>
                    </a:lnTo>
                    <a:lnTo>
                      <a:pt x="2812" y="1496"/>
                    </a:lnTo>
                    <a:lnTo>
                      <a:pt x="2678" y="1506"/>
                    </a:lnTo>
                    <a:lnTo>
                      <a:pt x="2636" y="1513"/>
                    </a:lnTo>
                    <a:lnTo>
                      <a:pt x="2686" y="1534"/>
                    </a:lnTo>
                    <a:lnTo>
                      <a:pt x="2766" y="1546"/>
                    </a:lnTo>
                    <a:lnTo>
                      <a:pt x="2833" y="1551"/>
                    </a:lnTo>
                    <a:lnTo>
                      <a:pt x="2976" y="1556"/>
                    </a:lnTo>
                    <a:lnTo>
                      <a:pt x="2816" y="1567"/>
                    </a:lnTo>
                    <a:lnTo>
                      <a:pt x="2745" y="1567"/>
                    </a:lnTo>
                    <a:lnTo>
                      <a:pt x="2682" y="1559"/>
                    </a:lnTo>
                    <a:lnTo>
                      <a:pt x="2636" y="1546"/>
                    </a:lnTo>
                    <a:lnTo>
                      <a:pt x="2569" y="1527"/>
                    </a:lnTo>
                    <a:lnTo>
                      <a:pt x="2405" y="1560"/>
                    </a:lnTo>
                    <a:lnTo>
                      <a:pt x="2157" y="1611"/>
                    </a:lnTo>
                    <a:lnTo>
                      <a:pt x="2194" y="1655"/>
                    </a:lnTo>
                    <a:lnTo>
                      <a:pt x="2266" y="1753"/>
                    </a:lnTo>
                    <a:lnTo>
                      <a:pt x="2119" y="1623"/>
                    </a:lnTo>
                    <a:lnTo>
                      <a:pt x="2131" y="1685"/>
                    </a:lnTo>
                    <a:lnTo>
                      <a:pt x="2123" y="1743"/>
                    </a:lnTo>
                    <a:lnTo>
                      <a:pt x="2115" y="1785"/>
                    </a:lnTo>
                    <a:lnTo>
                      <a:pt x="2098" y="1844"/>
                    </a:lnTo>
                    <a:lnTo>
                      <a:pt x="2060" y="1928"/>
                    </a:lnTo>
                    <a:lnTo>
                      <a:pt x="1964" y="2080"/>
                    </a:lnTo>
                    <a:lnTo>
                      <a:pt x="2027" y="1949"/>
                    </a:lnTo>
                    <a:lnTo>
                      <a:pt x="2060" y="1865"/>
                    </a:lnTo>
                    <a:lnTo>
                      <a:pt x="2085" y="1785"/>
                    </a:lnTo>
                    <a:lnTo>
                      <a:pt x="2081" y="1743"/>
                    </a:lnTo>
                    <a:lnTo>
                      <a:pt x="2077" y="1676"/>
                    </a:lnTo>
                    <a:lnTo>
                      <a:pt x="2064" y="1647"/>
                    </a:lnTo>
                    <a:lnTo>
                      <a:pt x="2043" y="1627"/>
                    </a:lnTo>
                    <a:lnTo>
                      <a:pt x="1930" y="1636"/>
                    </a:lnTo>
                    <a:lnTo>
                      <a:pt x="1825" y="1664"/>
                    </a:lnTo>
                    <a:lnTo>
                      <a:pt x="1767" y="1695"/>
                    </a:lnTo>
                    <a:lnTo>
                      <a:pt x="1725" y="1722"/>
                    </a:lnTo>
                    <a:lnTo>
                      <a:pt x="1695" y="1757"/>
                    </a:lnTo>
                    <a:lnTo>
                      <a:pt x="1670" y="1812"/>
                    </a:lnTo>
                    <a:lnTo>
                      <a:pt x="1670" y="1904"/>
                    </a:lnTo>
                    <a:lnTo>
                      <a:pt x="1670" y="2038"/>
                    </a:lnTo>
                    <a:lnTo>
                      <a:pt x="1662" y="2156"/>
                    </a:lnTo>
                    <a:lnTo>
                      <a:pt x="1662" y="2266"/>
                    </a:lnTo>
                    <a:lnTo>
                      <a:pt x="1662" y="2392"/>
                    </a:lnTo>
                    <a:lnTo>
                      <a:pt x="1662" y="2492"/>
                    </a:lnTo>
                    <a:lnTo>
                      <a:pt x="1687" y="2593"/>
                    </a:lnTo>
                    <a:lnTo>
                      <a:pt x="1721" y="2685"/>
                    </a:lnTo>
                    <a:lnTo>
                      <a:pt x="1779" y="2802"/>
                    </a:lnTo>
                    <a:lnTo>
                      <a:pt x="1838" y="2869"/>
                    </a:lnTo>
                    <a:lnTo>
                      <a:pt x="1897" y="2903"/>
                    </a:lnTo>
                    <a:lnTo>
                      <a:pt x="1997" y="2945"/>
                    </a:lnTo>
                    <a:lnTo>
                      <a:pt x="1863" y="2928"/>
                    </a:lnTo>
                    <a:lnTo>
                      <a:pt x="1737" y="2886"/>
                    </a:lnTo>
                    <a:lnTo>
                      <a:pt x="1662" y="2869"/>
                    </a:lnTo>
                    <a:lnTo>
                      <a:pt x="1603" y="2869"/>
                    </a:lnTo>
                    <a:lnTo>
                      <a:pt x="1561" y="2911"/>
                    </a:lnTo>
                    <a:lnTo>
                      <a:pt x="1528" y="2895"/>
                    </a:lnTo>
                    <a:lnTo>
                      <a:pt x="1461" y="2886"/>
                    </a:lnTo>
                    <a:lnTo>
                      <a:pt x="1402" y="2903"/>
                    </a:lnTo>
                    <a:lnTo>
                      <a:pt x="1343" y="2936"/>
                    </a:lnTo>
                    <a:lnTo>
                      <a:pt x="1301" y="2953"/>
                    </a:lnTo>
                    <a:lnTo>
                      <a:pt x="1301" y="2911"/>
                    </a:lnTo>
                    <a:lnTo>
                      <a:pt x="1276" y="2895"/>
                    </a:lnTo>
                    <a:lnTo>
                      <a:pt x="1217" y="2895"/>
                    </a:lnTo>
                    <a:lnTo>
                      <a:pt x="1167" y="2911"/>
                    </a:lnTo>
                    <a:lnTo>
                      <a:pt x="1150" y="2911"/>
                    </a:lnTo>
                    <a:lnTo>
                      <a:pt x="999" y="2928"/>
                    </a:lnTo>
                    <a:close/>
                  </a:path>
                </a:pathLst>
              </a:custGeom>
              <a:solidFill>
                <a:srgbClr val="7f5f3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145280" y="3466440"/>
                <a:ext cx="465120" cy="2975400"/>
              </a:xfrm>
              <a:custGeom>
                <a:avLst/>
                <a:gdLst/>
                <a:ahLst/>
                <a:rect l="l" t="t" r="r" b="b"/>
                <a:pathLst>
                  <a:path w="587" h="1527">
                    <a:moveTo>
                      <a:pt x="8" y="201"/>
                    </a:moveTo>
                    <a:lnTo>
                      <a:pt x="58" y="235"/>
                    </a:lnTo>
                    <a:lnTo>
                      <a:pt x="100" y="285"/>
                    </a:lnTo>
                    <a:lnTo>
                      <a:pt x="125" y="369"/>
                    </a:lnTo>
                    <a:lnTo>
                      <a:pt x="150" y="561"/>
                    </a:lnTo>
                    <a:lnTo>
                      <a:pt x="142" y="796"/>
                    </a:lnTo>
                    <a:lnTo>
                      <a:pt x="142" y="1015"/>
                    </a:lnTo>
                    <a:lnTo>
                      <a:pt x="142" y="1158"/>
                    </a:lnTo>
                    <a:lnTo>
                      <a:pt x="125" y="1275"/>
                    </a:lnTo>
                    <a:lnTo>
                      <a:pt x="83" y="1401"/>
                    </a:lnTo>
                    <a:lnTo>
                      <a:pt x="0" y="1510"/>
                    </a:lnTo>
                    <a:lnTo>
                      <a:pt x="100" y="1393"/>
                    </a:lnTo>
                    <a:lnTo>
                      <a:pt x="150" y="1275"/>
                    </a:lnTo>
                    <a:lnTo>
                      <a:pt x="167" y="1259"/>
                    </a:lnTo>
                    <a:lnTo>
                      <a:pt x="159" y="1393"/>
                    </a:lnTo>
                    <a:lnTo>
                      <a:pt x="142" y="1502"/>
                    </a:lnTo>
                    <a:lnTo>
                      <a:pt x="159" y="1443"/>
                    </a:lnTo>
                    <a:lnTo>
                      <a:pt x="184" y="1292"/>
                    </a:lnTo>
                    <a:lnTo>
                      <a:pt x="184" y="1183"/>
                    </a:lnTo>
                    <a:lnTo>
                      <a:pt x="184" y="1124"/>
                    </a:lnTo>
                    <a:lnTo>
                      <a:pt x="209" y="990"/>
                    </a:lnTo>
                    <a:lnTo>
                      <a:pt x="209" y="873"/>
                    </a:lnTo>
                    <a:lnTo>
                      <a:pt x="201" y="779"/>
                    </a:lnTo>
                    <a:lnTo>
                      <a:pt x="192" y="654"/>
                    </a:lnTo>
                    <a:lnTo>
                      <a:pt x="176" y="536"/>
                    </a:lnTo>
                    <a:lnTo>
                      <a:pt x="176" y="436"/>
                    </a:lnTo>
                    <a:lnTo>
                      <a:pt x="218" y="310"/>
                    </a:lnTo>
                    <a:lnTo>
                      <a:pt x="226" y="486"/>
                    </a:lnTo>
                    <a:lnTo>
                      <a:pt x="226" y="561"/>
                    </a:lnTo>
                    <a:lnTo>
                      <a:pt x="234" y="679"/>
                    </a:lnTo>
                    <a:lnTo>
                      <a:pt x="243" y="737"/>
                    </a:lnTo>
                    <a:lnTo>
                      <a:pt x="251" y="855"/>
                    </a:lnTo>
                    <a:lnTo>
                      <a:pt x="251" y="990"/>
                    </a:lnTo>
                    <a:lnTo>
                      <a:pt x="251" y="1116"/>
                    </a:lnTo>
                    <a:lnTo>
                      <a:pt x="243" y="1217"/>
                    </a:lnTo>
                    <a:lnTo>
                      <a:pt x="226" y="1326"/>
                    </a:lnTo>
                    <a:lnTo>
                      <a:pt x="226" y="1409"/>
                    </a:lnTo>
                    <a:lnTo>
                      <a:pt x="234" y="1477"/>
                    </a:lnTo>
                    <a:lnTo>
                      <a:pt x="251" y="1376"/>
                    </a:lnTo>
                    <a:lnTo>
                      <a:pt x="260" y="1443"/>
                    </a:lnTo>
                    <a:lnTo>
                      <a:pt x="293" y="1502"/>
                    </a:lnTo>
                    <a:lnTo>
                      <a:pt x="327" y="1527"/>
                    </a:lnTo>
                    <a:lnTo>
                      <a:pt x="318" y="1451"/>
                    </a:lnTo>
                    <a:lnTo>
                      <a:pt x="301" y="1317"/>
                    </a:lnTo>
                    <a:lnTo>
                      <a:pt x="293" y="1133"/>
                    </a:lnTo>
                    <a:lnTo>
                      <a:pt x="276" y="990"/>
                    </a:lnTo>
                    <a:lnTo>
                      <a:pt x="276" y="890"/>
                    </a:lnTo>
                    <a:lnTo>
                      <a:pt x="268" y="771"/>
                    </a:lnTo>
                    <a:lnTo>
                      <a:pt x="268" y="645"/>
                    </a:lnTo>
                    <a:lnTo>
                      <a:pt x="268" y="545"/>
                    </a:lnTo>
                    <a:lnTo>
                      <a:pt x="293" y="436"/>
                    </a:lnTo>
                    <a:lnTo>
                      <a:pt x="410" y="209"/>
                    </a:lnTo>
                    <a:lnTo>
                      <a:pt x="369" y="352"/>
                    </a:lnTo>
                    <a:lnTo>
                      <a:pt x="335" y="427"/>
                    </a:lnTo>
                    <a:lnTo>
                      <a:pt x="318" y="503"/>
                    </a:lnTo>
                    <a:lnTo>
                      <a:pt x="318" y="553"/>
                    </a:lnTo>
                    <a:lnTo>
                      <a:pt x="318" y="612"/>
                    </a:lnTo>
                    <a:lnTo>
                      <a:pt x="318" y="687"/>
                    </a:lnTo>
                    <a:lnTo>
                      <a:pt x="318" y="746"/>
                    </a:lnTo>
                    <a:lnTo>
                      <a:pt x="318" y="838"/>
                    </a:lnTo>
                    <a:lnTo>
                      <a:pt x="327" y="965"/>
                    </a:lnTo>
                    <a:lnTo>
                      <a:pt x="335" y="1057"/>
                    </a:lnTo>
                    <a:lnTo>
                      <a:pt x="352" y="1150"/>
                    </a:lnTo>
                    <a:lnTo>
                      <a:pt x="360" y="1242"/>
                    </a:lnTo>
                    <a:lnTo>
                      <a:pt x="369" y="1326"/>
                    </a:lnTo>
                    <a:lnTo>
                      <a:pt x="402" y="1384"/>
                    </a:lnTo>
                    <a:lnTo>
                      <a:pt x="444" y="1435"/>
                    </a:lnTo>
                    <a:lnTo>
                      <a:pt x="503" y="1468"/>
                    </a:lnTo>
                    <a:lnTo>
                      <a:pt x="587" y="1493"/>
                    </a:lnTo>
                    <a:lnTo>
                      <a:pt x="478" y="1418"/>
                    </a:lnTo>
                    <a:lnTo>
                      <a:pt x="427" y="1334"/>
                    </a:lnTo>
                    <a:lnTo>
                      <a:pt x="394" y="1259"/>
                    </a:lnTo>
                    <a:lnTo>
                      <a:pt x="385" y="1166"/>
                    </a:lnTo>
                    <a:lnTo>
                      <a:pt x="369" y="1032"/>
                    </a:lnTo>
                    <a:lnTo>
                      <a:pt x="360" y="907"/>
                    </a:lnTo>
                    <a:lnTo>
                      <a:pt x="352" y="779"/>
                    </a:lnTo>
                    <a:lnTo>
                      <a:pt x="369" y="654"/>
                    </a:lnTo>
                    <a:lnTo>
                      <a:pt x="369" y="561"/>
                    </a:lnTo>
                    <a:lnTo>
                      <a:pt x="394" y="478"/>
                    </a:lnTo>
                    <a:lnTo>
                      <a:pt x="427" y="385"/>
                    </a:lnTo>
                    <a:lnTo>
                      <a:pt x="452" y="302"/>
                    </a:lnTo>
                    <a:lnTo>
                      <a:pt x="528" y="243"/>
                    </a:lnTo>
                    <a:lnTo>
                      <a:pt x="419" y="293"/>
                    </a:lnTo>
                    <a:lnTo>
                      <a:pt x="478" y="134"/>
                    </a:lnTo>
                    <a:lnTo>
                      <a:pt x="385" y="201"/>
                    </a:lnTo>
                    <a:lnTo>
                      <a:pt x="327" y="268"/>
                    </a:lnTo>
                    <a:lnTo>
                      <a:pt x="293" y="360"/>
                    </a:lnTo>
                    <a:lnTo>
                      <a:pt x="268" y="402"/>
                    </a:lnTo>
                    <a:lnTo>
                      <a:pt x="251" y="293"/>
                    </a:lnTo>
                    <a:lnTo>
                      <a:pt x="285" y="159"/>
                    </a:lnTo>
                    <a:lnTo>
                      <a:pt x="285" y="75"/>
                    </a:lnTo>
                    <a:lnTo>
                      <a:pt x="285" y="0"/>
                    </a:lnTo>
                    <a:lnTo>
                      <a:pt x="251" y="176"/>
                    </a:lnTo>
                    <a:lnTo>
                      <a:pt x="234" y="251"/>
                    </a:lnTo>
                    <a:lnTo>
                      <a:pt x="209" y="293"/>
                    </a:lnTo>
                    <a:lnTo>
                      <a:pt x="167" y="327"/>
                    </a:lnTo>
                    <a:lnTo>
                      <a:pt x="142" y="268"/>
                    </a:lnTo>
                    <a:lnTo>
                      <a:pt x="8" y="201"/>
                    </a:lnTo>
                    <a:close/>
                  </a:path>
                </a:pathLst>
              </a:cu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>
              <a:off x="6172200" y="6033600"/>
              <a:ext cx="2459160" cy="591480"/>
            </a:xfrm>
            <a:custGeom>
              <a:avLst/>
              <a:gdLst/>
              <a:ahLst/>
              <a:rect l="l" t="t" r="r" b="b"/>
              <a:pathLst>
                <a:path w="3097" h="303">
                  <a:moveTo>
                    <a:pt x="167" y="252"/>
                  </a:moveTo>
                  <a:lnTo>
                    <a:pt x="318" y="227"/>
                  </a:lnTo>
                  <a:lnTo>
                    <a:pt x="452" y="227"/>
                  </a:lnTo>
                  <a:lnTo>
                    <a:pt x="603" y="227"/>
                  </a:lnTo>
                  <a:lnTo>
                    <a:pt x="721" y="193"/>
                  </a:lnTo>
                  <a:lnTo>
                    <a:pt x="798" y="185"/>
                  </a:lnTo>
                  <a:lnTo>
                    <a:pt x="890" y="168"/>
                  </a:lnTo>
                  <a:lnTo>
                    <a:pt x="957" y="126"/>
                  </a:lnTo>
                  <a:lnTo>
                    <a:pt x="1049" y="126"/>
                  </a:lnTo>
                  <a:lnTo>
                    <a:pt x="1111" y="122"/>
                  </a:lnTo>
                  <a:lnTo>
                    <a:pt x="1158" y="109"/>
                  </a:lnTo>
                  <a:lnTo>
                    <a:pt x="1185" y="108"/>
                  </a:lnTo>
                  <a:lnTo>
                    <a:pt x="1214" y="99"/>
                  </a:lnTo>
                  <a:lnTo>
                    <a:pt x="1244" y="88"/>
                  </a:lnTo>
                  <a:lnTo>
                    <a:pt x="1263" y="73"/>
                  </a:lnTo>
                  <a:lnTo>
                    <a:pt x="1301" y="34"/>
                  </a:lnTo>
                  <a:lnTo>
                    <a:pt x="1298" y="80"/>
                  </a:lnTo>
                  <a:lnTo>
                    <a:pt x="1309" y="109"/>
                  </a:lnTo>
                  <a:lnTo>
                    <a:pt x="1332" y="116"/>
                  </a:lnTo>
                  <a:lnTo>
                    <a:pt x="1349" y="97"/>
                  </a:lnTo>
                  <a:lnTo>
                    <a:pt x="1368" y="76"/>
                  </a:lnTo>
                  <a:lnTo>
                    <a:pt x="1396" y="99"/>
                  </a:lnTo>
                  <a:lnTo>
                    <a:pt x="1427" y="101"/>
                  </a:lnTo>
                  <a:lnTo>
                    <a:pt x="1451" y="92"/>
                  </a:lnTo>
                  <a:lnTo>
                    <a:pt x="1477" y="67"/>
                  </a:lnTo>
                  <a:lnTo>
                    <a:pt x="1488" y="38"/>
                  </a:lnTo>
                  <a:lnTo>
                    <a:pt x="1486" y="0"/>
                  </a:lnTo>
                  <a:lnTo>
                    <a:pt x="1544" y="42"/>
                  </a:lnTo>
                  <a:lnTo>
                    <a:pt x="1568" y="74"/>
                  </a:lnTo>
                  <a:lnTo>
                    <a:pt x="1592" y="92"/>
                  </a:lnTo>
                  <a:lnTo>
                    <a:pt x="1620" y="109"/>
                  </a:lnTo>
                  <a:lnTo>
                    <a:pt x="1656" y="122"/>
                  </a:lnTo>
                  <a:lnTo>
                    <a:pt x="1687" y="126"/>
                  </a:lnTo>
                  <a:lnTo>
                    <a:pt x="1694" y="105"/>
                  </a:lnTo>
                  <a:lnTo>
                    <a:pt x="1698" y="78"/>
                  </a:lnTo>
                  <a:lnTo>
                    <a:pt x="1697" y="46"/>
                  </a:lnTo>
                  <a:lnTo>
                    <a:pt x="1740" y="84"/>
                  </a:lnTo>
                  <a:lnTo>
                    <a:pt x="1748" y="63"/>
                  </a:lnTo>
                  <a:lnTo>
                    <a:pt x="1744" y="13"/>
                  </a:lnTo>
                  <a:lnTo>
                    <a:pt x="1782" y="53"/>
                  </a:lnTo>
                  <a:lnTo>
                    <a:pt x="1807" y="78"/>
                  </a:lnTo>
                  <a:lnTo>
                    <a:pt x="1832" y="95"/>
                  </a:lnTo>
                  <a:lnTo>
                    <a:pt x="1884" y="113"/>
                  </a:lnTo>
                  <a:lnTo>
                    <a:pt x="2022" y="151"/>
                  </a:lnTo>
                  <a:lnTo>
                    <a:pt x="2140" y="160"/>
                  </a:lnTo>
                  <a:lnTo>
                    <a:pt x="2274" y="185"/>
                  </a:lnTo>
                  <a:lnTo>
                    <a:pt x="2418" y="201"/>
                  </a:lnTo>
                  <a:lnTo>
                    <a:pt x="2535" y="210"/>
                  </a:lnTo>
                  <a:lnTo>
                    <a:pt x="2636" y="210"/>
                  </a:lnTo>
                  <a:lnTo>
                    <a:pt x="2795" y="227"/>
                  </a:lnTo>
                  <a:lnTo>
                    <a:pt x="2913" y="260"/>
                  </a:lnTo>
                  <a:lnTo>
                    <a:pt x="3022" y="268"/>
                  </a:lnTo>
                  <a:lnTo>
                    <a:pt x="3097" y="303"/>
                  </a:lnTo>
                  <a:lnTo>
                    <a:pt x="0" y="303"/>
                  </a:lnTo>
                  <a:lnTo>
                    <a:pt x="167" y="252"/>
                  </a:lnTo>
                  <a:close/>
                </a:path>
              </a:pathLst>
            </a:custGeom>
            <a:solidFill>
              <a:srgbClr val="b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821640" y="3626640"/>
              <a:ext cx="382680" cy="209880"/>
            </a:xfrm>
            <a:custGeom>
              <a:avLst/>
              <a:gdLst/>
              <a:ahLst/>
              <a:rect l="l" t="t" r="r" b="b"/>
              <a:pathLst>
                <a:path w="482" h="109">
                  <a:moveTo>
                    <a:pt x="0" y="21"/>
                  </a:moveTo>
                  <a:lnTo>
                    <a:pt x="37" y="50"/>
                  </a:lnTo>
                  <a:lnTo>
                    <a:pt x="71" y="80"/>
                  </a:lnTo>
                  <a:lnTo>
                    <a:pt x="79" y="100"/>
                  </a:lnTo>
                  <a:lnTo>
                    <a:pt x="105" y="105"/>
                  </a:lnTo>
                  <a:lnTo>
                    <a:pt x="147" y="92"/>
                  </a:lnTo>
                  <a:lnTo>
                    <a:pt x="163" y="96"/>
                  </a:lnTo>
                  <a:lnTo>
                    <a:pt x="188" y="105"/>
                  </a:lnTo>
                  <a:lnTo>
                    <a:pt x="214" y="109"/>
                  </a:lnTo>
                  <a:lnTo>
                    <a:pt x="239" y="105"/>
                  </a:lnTo>
                  <a:lnTo>
                    <a:pt x="264" y="105"/>
                  </a:lnTo>
                  <a:lnTo>
                    <a:pt x="293" y="92"/>
                  </a:lnTo>
                  <a:lnTo>
                    <a:pt x="327" y="92"/>
                  </a:lnTo>
                  <a:lnTo>
                    <a:pt x="369" y="92"/>
                  </a:lnTo>
                  <a:lnTo>
                    <a:pt x="411" y="88"/>
                  </a:lnTo>
                  <a:lnTo>
                    <a:pt x="436" y="84"/>
                  </a:lnTo>
                  <a:lnTo>
                    <a:pt x="482" y="92"/>
                  </a:lnTo>
                  <a:lnTo>
                    <a:pt x="432" y="67"/>
                  </a:lnTo>
                  <a:lnTo>
                    <a:pt x="381" y="54"/>
                  </a:lnTo>
                  <a:lnTo>
                    <a:pt x="335" y="46"/>
                  </a:lnTo>
                  <a:lnTo>
                    <a:pt x="289" y="29"/>
                  </a:lnTo>
                  <a:lnTo>
                    <a:pt x="251" y="29"/>
                  </a:lnTo>
                  <a:lnTo>
                    <a:pt x="226" y="21"/>
                  </a:lnTo>
                  <a:lnTo>
                    <a:pt x="218" y="21"/>
                  </a:lnTo>
                  <a:lnTo>
                    <a:pt x="176" y="4"/>
                  </a:lnTo>
                  <a:lnTo>
                    <a:pt x="138" y="0"/>
                  </a:lnTo>
                  <a:lnTo>
                    <a:pt x="88" y="0"/>
                  </a:lnTo>
                  <a:lnTo>
                    <a:pt x="63" y="12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b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464520" y="3552480"/>
              <a:ext cx="317520" cy="187200"/>
            </a:xfrm>
            <a:custGeom>
              <a:avLst/>
              <a:gdLst/>
              <a:ahLst/>
              <a:rect l="l" t="t" r="r" b="b"/>
              <a:pathLst>
                <a:path w="398" h="97">
                  <a:moveTo>
                    <a:pt x="323" y="38"/>
                  </a:moveTo>
                  <a:lnTo>
                    <a:pt x="260" y="25"/>
                  </a:lnTo>
                  <a:lnTo>
                    <a:pt x="205" y="13"/>
                  </a:lnTo>
                  <a:lnTo>
                    <a:pt x="167" y="13"/>
                  </a:lnTo>
                  <a:lnTo>
                    <a:pt x="134" y="17"/>
                  </a:lnTo>
                  <a:lnTo>
                    <a:pt x="104" y="13"/>
                  </a:lnTo>
                  <a:lnTo>
                    <a:pt x="83" y="4"/>
                  </a:lnTo>
                  <a:lnTo>
                    <a:pt x="63" y="0"/>
                  </a:lnTo>
                  <a:lnTo>
                    <a:pt x="33" y="0"/>
                  </a:lnTo>
                  <a:lnTo>
                    <a:pt x="0" y="4"/>
                  </a:lnTo>
                  <a:lnTo>
                    <a:pt x="46" y="34"/>
                  </a:lnTo>
                  <a:lnTo>
                    <a:pt x="79" y="59"/>
                  </a:lnTo>
                  <a:lnTo>
                    <a:pt x="96" y="88"/>
                  </a:lnTo>
                  <a:lnTo>
                    <a:pt x="113" y="67"/>
                  </a:lnTo>
                  <a:lnTo>
                    <a:pt x="134" y="67"/>
                  </a:lnTo>
                  <a:lnTo>
                    <a:pt x="163" y="84"/>
                  </a:lnTo>
                  <a:lnTo>
                    <a:pt x="184" y="97"/>
                  </a:lnTo>
                  <a:lnTo>
                    <a:pt x="213" y="92"/>
                  </a:lnTo>
                  <a:lnTo>
                    <a:pt x="251" y="84"/>
                  </a:lnTo>
                  <a:lnTo>
                    <a:pt x="293" y="84"/>
                  </a:lnTo>
                  <a:lnTo>
                    <a:pt x="398" y="88"/>
                  </a:lnTo>
                  <a:lnTo>
                    <a:pt x="377" y="55"/>
                  </a:lnTo>
                  <a:lnTo>
                    <a:pt x="323" y="38"/>
                  </a:lnTo>
                  <a:close/>
                </a:path>
              </a:pathLst>
            </a:custGeom>
            <a:solidFill>
              <a:srgbClr val="b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488360" y="3634560"/>
              <a:ext cx="869760" cy="365400"/>
            </a:xfrm>
            <a:custGeom>
              <a:avLst/>
              <a:gdLst/>
              <a:ahLst/>
              <a:rect l="l" t="t" r="r" b="b"/>
              <a:pathLst>
                <a:path w="1096" h="189">
                  <a:moveTo>
                    <a:pt x="105" y="67"/>
                  </a:moveTo>
                  <a:lnTo>
                    <a:pt x="172" y="71"/>
                  </a:lnTo>
                  <a:lnTo>
                    <a:pt x="244" y="80"/>
                  </a:lnTo>
                  <a:lnTo>
                    <a:pt x="315" y="76"/>
                  </a:lnTo>
                  <a:lnTo>
                    <a:pt x="395" y="63"/>
                  </a:lnTo>
                  <a:lnTo>
                    <a:pt x="449" y="63"/>
                  </a:lnTo>
                  <a:lnTo>
                    <a:pt x="508" y="63"/>
                  </a:lnTo>
                  <a:lnTo>
                    <a:pt x="571" y="59"/>
                  </a:lnTo>
                  <a:lnTo>
                    <a:pt x="629" y="50"/>
                  </a:lnTo>
                  <a:lnTo>
                    <a:pt x="694" y="55"/>
                  </a:lnTo>
                  <a:lnTo>
                    <a:pt x="752" y="50"/>
                  </a:lnTo>
                  <a:lnTo>
                    <a:pt x="794" y="46"/>
                  </a:lnTo>
                  <a:lnTo>
                    <a:pt x="841" y="25"/>
                  </a:lnTo>
                  <a:lnTo>
                    <a:pt x="887" y="25"/>
                  </a:lnTo>
                  <a:lnTo>
                    <a:pt x="950" y="21"/>
                  </a:lnTo>
                  <a:lnTo>
                    <a:pt x="983" y="0"/>
                  </a:lnTo>
                  <a:lnTo>
                    <a:pt x="1012" y="17"/>
                  </a:lnTo>
                  <a:lnTo>
                    <a:pt x="1096" y="21"/>
                  </a:lnTo>
                  <a:lnTo>
                    <a:pt x="1029" y="42"/>
                  </a:lnTo>
                  <a:lnTo>
                    <a:pt x="1000" y="50"/>
                  </a:lnTo>
                  <a:lnTo>
                    <a:pt x="971" y="59"/>
                  </a:lnTo>
                  <a:lnTo>
                    <a:pt x="929" y="59"/>
                  </a:lnTo>
                  <a:lnTo>
                    <a:pt x="887" y="80"/>
                  </a:lnTo>
                  <a:lnTo>
                    <a:pt x="862" y="88"/>
                  </a:lnTo>
                  <a:lnTo>
                    <a:pt x="824" y="92"/>
                  </a:lnTo>
                  <a:lnTo>
                    <a:pt x="782" y="92"/>
                  </a:lnTo>
                  <a:lnTo>
                    <a:pt x="740" y="88"/>
                  </a:lnTo>
                  <a:lnTo>
                    <a:pt x="711" y="92"/>
                  </a:lnTo>
                  <a:lnTo>
                    <a:pt x="677" y="105"/>
                  </a:lnTo>
                  <a:lnTo>
                    <a:pt x="650" y="117"/>
                  </a:lnTo>
                  <a:lnTo>
                    <a:pt x="634" y="126"/>
                  </a:lnTo>
                  <a:lnTo>
                    <a:pt x="583" y="117"/>
                  </a:lnTo>
                  <a:lnTo>
                    <a:pt x="554" y="117"/>
                  </a:lnTo>
                  <a:lnTo>
                    <a:pt x="516" y="130"/>
                  </a:lnTo>
                  <a:lnTo>
                    <a:pt x="483" y="143"/>
                  </a:lnTo>
                  <a:lnTo>
                    <a:pt x="449" y="147"/>
                  </a:lnTo>
                  <a:lnTo>
                    <a:pt x="420" y="147"/>
                  </a:lnTo>
                  <a:lnTo>
                    <a:pt x="382" y="147"/>
                  </a:lnTo>
                  <a:lnTo>
                    <a:pt x="332" y="159"/>
                  </a:lnTo>
                  <a:lnTo>
                    <a:pt x="302" y="168"/>
                  </a:lnTo>
                  <a:lnTo>
                    <a:pt x="252" y="168"/>
                  </a:lnTo>
                  <a:lnTo>
                    <a:pt x="189" y="159"/>
                  </a:lnTo>
                  <a:lnTo>
                    <a:pt x="143" y="159"/>
                  </a:lnTo>
                  <a:lnTo>
                    <a:pt x="76" y="176"/>
                  </a:lnTo>
                  <a:lnTo>
                    <a:pt x="34" y="180"/>
                  </a:lnTo>
                  <a:lnTo>
                    <a:pt x="0" y="189"/>
                  </a:lnTo>
                  <a:lnTo>
                    <a:pt x="0" y="164"/>
                  </a:lnTo>
                  <a:lnTo>
                    <a:pt x="26" y="143"/>
                  </a:lnTo>
                  <a:lnTo>
                    <a:pt x="55" y="130"/>
                  </a:lnTo>
                  <a:lnTo>
                    <a:pt x="105" y="67"/>
                  </a:lnTo>
                  <a:close/>
                </a:path>
              </a:pathLst>
            </a:custGeom>
            <a:solidFill>
              <a:srgbClr val="b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33520" y="4267080"/>
            <a:ext cx="2458800" cy="2358720"/>
            <a:chOff x="533520" y="4267080"/>
            <a:chExt cx="2458800" cy="2358720"/>
          </a:xfrm>
        </p:grpSpPr>
        <p:grpSp>
          <p:nvGrpSpPr>
            <p:cNvPr id="184" name=""/>
            <p:cNvGrpSpPr/>
            <p:nvPr/>
          </p:nvGrpSpPr>
          <p:grpSpPr>
            <a:xfrm>
              <a:off x="552240" y="4267080"/>
              <a:ext cx="2439720" cy="2344680"/>
              <a:chOff x="552240" y="4267080"/>
              <a:chExt cx="2439720" cy="2344680"/>
            </a:xfrm>
          </p:grpSpPr>
          <p:sp>
            <p:nvSpPr>
              <p:cNvPr id="185" name=""/>
              <p:cNvSpPr/>
              <p:nvPr/>
            </p:nvSpPr>
            <p:spPr>
              <a:xfrm>
                <a:off x="552240" y="4267080"/>
                <a:ext cx="2439720" cy="2344680"/>
              </a:xfrm>
              <a:custGeom>
                <a:avLst/>
                <a:gdLst/>
                <a:ahLst/>
                <a:rect l="l" t="t" r="r" b="b"/>
                <a:pathLst>
                  <a:path w="3072" h="2953">
                    <a:moveTo>
                      <a:pt x="999" y="2928"/>
                    </a:moveTo>
                    <a:lnTo>
                      <a:pt x="1133" y="2844"/>
                    </a:lnTo>
                    <a:lnTo>
                      <a:pt x="1192" y="2769"/>
                    </a:lnTo>
                    <a:lnTo>
                      <a:pt x="1226" y="2693"/>
                    </a:lnTo>
                    <a:lnTo>
                      <a:pt x="1242" y="2601"/>
                    </a:lnTo>
                    <a:lnTo>
                      <a:pt x="1259" y="2509"/>
                    </a:lnTo>
                    <a:lnTo>
                      <a:pt x="1268" y="2408"/>
                    </a:lnTo>
                    <a:lnTo>
                      <a:pt x="1276" y="2299"/>
                    </a:lnTo>
                    <a:lnTo>
                      <a:pt x="1293" y="2097"/>
                    </a:lnTo>
                    <a:lnTo>
                      <a:pt x="1301" y="1929"/>
                    </a:lnTo>
                    <a:lnTo>
                      <a:pt x="1301" y="1812"/>
                    </a:lnTo>
                    <a:lnTo>
                      <a:pt x="1293" y="1736"/>
                    </a:lnTo>
                    <a:lnTo>
                      <a:pt x="1242" y="1661"/>
                    </a:lnTo>
                    <a:lnTo>
                      <a:pt x="1192" y="1644"/>
                    </a:lnTo>
                    <a:lnTo>
                      <a:pt x="1117" y="1611"/>
                    </a:lnTo>
                    <a:lnTo>
                      <a:pt x="1016" y="1611"/>
                    </a:lnTo>
                    <a:lnTo>
                      <a:pt x="865" y="1577"/>
                    </a:lnTo>
                    <a:lnTo>
                      <a:pt x="848" y="1577"/>
                    </a:lnTo>
                    <a:lnTo>
                      <a:pt x="756" y="1544"/>
                    </a:lnTo>
                    <a:lnTo>
                      <a:pt x="587" y="1519"/>
                    </a:lnTo>
                    <a:lnTo>
                      <a:pt x="461" y="1502"/>
                    </a:lnTo>
                    <a:lnTo>
                      <a:pt x="327" y="1460"/>
                    </a:lnTo>
                    <a:lnTo>
                      <a:pt x="176" y="1460"/>
                    </a:lnTo>
                    <a:lnTo>
                      <a:pt x="0" y="1477"/>
                    </a:lnTo>
                    <a:lnTo>
                      <a:pt x="251" y="1447"/>
                    </a:lnTo>
                    <a:lnTo>
                      <a:pt x="293" y="1426"/>
                    </a:lnTo>
                    <a:lnTo>
                      <a:pt x="314" y="1397"/>
                    </a:lnTo>
                    <a:lnTo>
                      <a:pt x="327" y="1326"/>
                    </a:lnTo>
                    <a:lnTo>
                      <a:pt x="293" y="1175"/>
                    </a:lnTo>
                    <a:lnTo>
                      <a:pt x="285" y="1066"/>
                    </a:lnTo>
                    <a:lnTo>
                      <a:pt x="344" y="1317"/>
                    </a:lnTo>
                    <a:lnTo>
                      <a:pt x="352" y="1384"/>
                    </a:lnTo>
                    <a:lnTo>
                      <a:pt x="381" y="1414"/>
                    </a:lnTo>
                    <a:lnTo>
                      <a:pt x="419" y="1435"/>
                    </a:lnTo>
                    <a:lnTo>
                      <a:pt x="461" y="1451"/>
                    </a:lnTo>
                    <a:lnTo>
                      <a:pt x="595" y="1468"/>
                    </a:lnTo>
                    <a:lnTo>
                      <a:pt x="713" y="1468"/>
                    </a:lnTo>
                    <a:lnTo>
                      <a:pt x="654" y="1414"/>
                    </a:lnTo>
                    <a:lnTo>
                      <a:pt x="587" y="1317"/>
                    </a:lnTo>
                    <a:lnTo>
                      <a:pt x="537" y="1217"/>
                    </a:lnTo>
                    <a:lnTo>
                      <a:pt x="461" y="1041"/>
                    </a:lnTo>
                    <a:lnTo>
                      <a:pt x="578" y="1242"/>
                    </a:lnTo>
                    <a:lnTo>
                      <a:pt x="641" y="1326"/>
                    </a:lnTo>
                    <a:lnTo>
                      <a:pt x="704" y="1389"/>
                    </a:lnTo>
                    <a:lnTo>
                      <a:pt x="773" y="1443"/>
                    </a:lnTo>
                    <a:lnTo>
                      <a:pt x="882" y="1493"/>
                    </a:lnTo>
                    <a:lnTo>
                      <a:pt x="982" y="1502"/>
                    </a:lnTo>
                    <a:lnTo>
                      <a:pt x="1091" y="1510"/>
                    </a:lnTo>
                    <a:lnTo>
                      <a:pt x="1209" y="1493"/>
                    </a:lnTo>
                    <a:lnTo>
                      <a:pt x="1110" y="1468"/>
                    </a:lnTo>
                    <a:lnTo>
                      <a:pt x="1065" y="1447"/>
                    </a:lnTo>
                    <a:lnTo>
                      <a:pt x="1016" y="1411"/>
                    </a:lnTo>
                    <a:lnTo>
                      <a:pt x="968" y="1362"/>
                    </a:lnTo>
                    <a:lnTo>
                      <a:pt x="851" y="1330"/>
                    </a:lnTo>
                    <a:lnTo>
                      <a:pt x="770" y="1299"/>
                    </a:lnTo>
                    <a:lnTo>
                      <a:pt x="711" y="1275"/>
                    </a:lnTo>
                    <a:lnTo>
                      <a:pt x="672" y="1257"/>
                    </a:lnTo>
                    <a:lnTo>
                      <a:pt x="644" y="1241"/>
                    </a:lnTo>
                    <a:lnTo>
                      <a:pt x="619" y="1221"/>
                    </a:lnTo>
                    <a:lnTo>
                      <a:pt x="601" y="1203"/>
                    </a:lnTo>
                    <a:lnTo>
                      <a:pt x="632" y="1224"/>
                    </a:lnTo>
                    <a:lnTo>
                      <a:pt x="660" y="1241"/>
                    </a:lnTo>
                    <a:lnTo>
                      <a:pt x="690" y="1253"/>
                    </a:lnTo>
                    <a:lnTo>
                      <a:pt x="739" y="1267"/>
                    </a:lnTo>
                    <a:lnTo>
                      <a:pt x="787" y="1282"/>
                    </a:lnTo>
                    <a:lnTo>
                      <a:pt x="838" y="1295"/>
                    </a:lnTo>
                    <a:lnTo>
                      <a:pt x="879" y="1303"/>
                    </a:lnTo>
                    <a:lnTo>
                      <a:pt x="906" y="1305"/>
                    </a:lnTo>
                    <a:lnTo>
                      <a:pt x="927" y="1308"/>
                    </a:lnTo>
                    <a:lnTo>
                      <a:pt x="890" y="1259"/>
                    </a:lnTo>
                    <a:lnTo>
                      <a:pt x="864" y="1215"/>
                    </a:lnTo>
                    <a:lnTo>
                      <a:pt x="822" y="1146"/>
                    </a:lnTo>
                    <a:lnTo>
                      <a:pt x="790" y="1087"/>
                    </a:lnTo>
                    <a:lnTo>
                      <a:pt x="764" y="1024"/>
                    </a:lnTo>
                    <a:lnTo>
                      <a:pt x="729" y="982"/>
                    </a:lnTo>
                    <a:lnTo>
                      <a:pt x="629" y="915"/>
                    </a:lnTo>
                    <a:lnTo>
                      <a:pt x="545" y="873"/>
                    </a:lnTo>
                    <a:lnTo>
                      <a:pt x="713" y="932"/>
                    </a:lnTo>
                    <a:lnTo>
                      <a:pt x="662" y="785"/>
                    </a:lnTo>
                    <a:lnTo>
                      <a:pt x="595" y="629"/>
                    </a:lnTo>
                    <a:lnTo>
                      <a:pt x="679" y="789"/>
                    </a:lnTo>
                    <a:lnTo>
                      <a:pt x="700" y="840"/>
                    </a:lnTo>
                    <a:lnTo>
                      <a:pt x="721" y="873"/>
                    </a:lnTo>
                    <a:lnTo>
                      <a:pt x="764" y="936"/>
                    </a:lnTo>
                    <a:lnTo>
                      <a:pt x="823" y="1024"/>
                    </a:lnTo>
                    <a:lnTo>
                      <a:pt x="868" y="1105"/>
                    </a:lnTo>
                    <a:lnTo>
                      <a:pt x="893" y="1150"/>
                    </a:lnTo>
                    <a:lnTo>
                      <a:pt x="974" y="1259"/>
                    </a:lnTo>
                    <a:lnTo>
                      <a:pt x="941" y="974"/>
                    </a:lnTo>
                    <a:lnTo>
                      <a:pt x="907" y="865"/>
                    </a:lnTo>
                    <a:lnTo>
                      <a:pt x="865" y="781"/>
                    </a:lnTo>
                    <a:lnTo>
                      <a:pt x="806" y="679"/>
                    </a:lnTo>
                    <a:lnTo>
                      <a:pt x="882" y="764"/>
                    </a:lnTo>
                    <a:lnTo>
                      <a:pt x="848" y="369"/>
                    </a:lnTo>
                    <a:lnTo>
                      <a:pt x="865" y="251"/>
                    </a:lnTo>
                    <a:lnTo>
                      <a:pt x="873" y="419"/>
                    </a:lnTo>
                    <a:lnTo>
                      <a:pt x="924" y="331"/>
                    </a:lnTo>
                    <a:lnTo>
                      <a:pt x="1058" y="226"/>
                    </a:lnTo>
                    <a:lnTo>
                      <a:pt x="932" y="348"/>
                    </a:lnTo>
                    <a:lnTo>
                      <a:pt x="882" y="444"/>
                    </a:lnTo>
                    <a:lnTo>
                      <a:pt x="907" y="679"/>
                    </a:lnTo>
                    <a:lnTo>
                      <a:pt x="932" y="806"/>
                    </a:lnTo>
                    <a:lnTo>
                      <a:pt x="974" y="940"/>
                    </a:lnTo>
                    <a:lnTo>
                      <a:pt x="1008" y="1141"/>
                    </a:lnTo>
                    <a:lnTo>
                      <a:pt x="1024" y="1259"/>
                    </a:lnTo>
                    <a:lnTo>
                      <a:pt x="1050" y="1309"/>
                    </a:lnTo>
                    <a:lnTo>
                      <a:pt x="1089" y="1342"/>
                    </a:lnTo>
                    <a:lnTo>
                      <a:pt x="1132" y="1365"/>
                    </a:lnTo>
                    <a:lnTo>
                      <a:pt x="1173" y="1375"/>
                    </a:lnTo>
                    <a:lnTo>
                      <a:pt x="1217" y="1368"/>
                    </a:lnTo>
                    <a:lnTo>
                      <a:pt x="1150" y="1200"/>
                    </a:lnTo>
                    <a:lnTo>
                      <a:pt x="1104" y="1112"/>
                    </a:lnTo>
                    <a:lnTo>
                      <a:pt x="1087" y="1049"/>
                    </a:lnTo>
                    <a:lnTo>
                      <a:pt x="1079" y="995"/>
                    </a:lnTo>
                    <a:lnTo>
                      <a:pt x="1075" y="932"/>
                    </a:lnTo>
                    <a:lnTo>
                      <a:pt x="1033" y="831"/>
                    </a:lnTo>
                    <a:lnTo>
                      <a:pt x="1104" y="932"/>
                    </a:lnTo>
                    <a:lnTo>
                      <a:pt x="1108" y="890"/>
                    </a:lnTo>
                    <a:lnTo>
                      <a:pt x="1066" y="671"/>
                    </a:lnTo>
                    <a:lnTo>
                      <a:pt x="1062" y="599"/>
                    </a:lnTo>
                    <a:lnTo>
                      <a:pt x="1066" y="541"/>
                    </a:lnTo>
                    <a:lnTo>
                      <a:pt x="1087" y="453"/>
                    </a:lnTo>
                    <a:lnTo>
                      <a:pt x="1138" y="314"/>
                    </a:lnTo>
                    <a:lnTo>
                      <a:pt x="1192" y="176"/>
                    </a:lnTo>
                    <a:lnTo>
                      <a:pt x="1100" y="478"/>
                    </a:lnTo>
                    <a:lnTo>
                      <a:pt x="1284" y="184"/>
                    </a:lnTo>
                    <a:lnTo>
                      <a:pt x="1146" y="440"/>
                    </a:lnTo>
                    <a:lnTo>
                      <a:pt x="1112" y="541"/>
                    </a:lnTo>
                    <a:lnTo>
                      <a:pt x="1104" y="608"/>
                    </a:lnTo>
                    <a:lnTo>
                      <a:pt x="1142" y="823"/>
                    </a:lnTo>
                    <a:lnTo>
                      <a:pt x="1146" y="949"/>
                    </a:lnTo>
                    <a:lnTo>
                      <a:pt x="1150" y="1024"/>
                    </a:lnTo>
                    <a:lnTo>
                      <a:pt x="1175" y="1104"/>
                    </a:lnTo>
                    <a:lnTo>
                      <a:pt x="1209" y="1166"/>
                    </a:lnTo>
                    <a:lnTo>
                      <a:pt x="1247" y="1242"/>
                    </a:lnTo>
                    <a:lnTo>
                      <a:pt x="1272" y="1305"/>
                    </a:lnTo>
                    <a:lnTo>
                      <a:pt x="1312" y="1389"/>
                    </a:lnTo>
                    <a:lnTo>
                      <a:pt x="1303" y="1338"/>
                    </a:lnTo>
                    <a:lnTo>
                      <a:pt x="1294" y="1282"/>
                    </a:lnTo>
                    <a:lnTo>
                      <a:pt x="1301" y="1007"/>
                    </a:lnTo>
                    <a:lnTo>
                      <a:pt x="1276" y="969"/>
                    </a:lnTo>
                    <a:lnTo>
                      <a:pt x="1263" y="932"/>
                    </a:lnTo>
                    <a:lnTo>
                      <a:pt x="1247" y="873"/>
                    </a:lnTo>
                    <a:lnTo>
                      <a:pt x="1221" y="777"/>
                    </a:lnTo>
                    <a:lnTo>
                      <a:pt x="1184" y="675"/>
                    </a:lnTo>
                    <a:lnTo>
                      <a:pt x="1255" y="819"/>
                    </a:lnTo>
                    <a:lnTo>
                      <a:pt x="1276" y="881"/>
                    </a:lnTo>
                    <a:lnTo>
                      <a:pt x="1305" y="923"/>
                    </a:lnTo>
                    <a:lnTo>
                      <a:pt x="1305" y="641"/>
                    </a:lnTo>
                    <a:lnTo>
                      <a:pt x="1301" y="461"/>
                    </a:lnTo>
                    <a:lnTo>
                      <a:pt x="1280" y="302"/>
                    </a:lnTo>
                    <a:lnTo>
                      <a:pt x="1314" y="411"/>
                    </a:lnTo>
                    <a:lnTo>
                      <a:pt x="1351" y="293"/>
                    </a:lnTo>
                    <a:lnTo>
                      <a:pt x="1377" y="222"/>
                    </a:lnTo>
                    <a:lnTo>
                      <a:pt x="1465" y="29"/>
                    </a:lnTo>
                    <a:lnTo>
                      <a:pt x="1410" y="180"/>
                    </a:lnTo>
                    <a:lnTo>
                      <a:pt x="1377" y="277"/>
                    </a:lnTo>
                    <a:lnTo>
                      <a:pt x="1356" y="356"/>
                    </a:lnTo>
                    <a:lnTo>
                      <a:pt x="1339" y="423"/>
                    </a:lnTo>
                    <a:lnTo>
                      <a:pt x="1343" y="578"/>
                    </a:lnTo>
                    <a:lnTo>
                      <a:pt x="1406" y="461"/>
                    </a:lnTo>
                    <a:lnTo>
                      <a:pt x="1431" y="390"/>
                    </a:lnTo>
                    <a:lnTo>
                      <a:pt x="1456" y="306"/>
                    </a:lnTo>
                    <a:lnTo>
                      <a:pt x="1481" y="222"/>
                    </a:lnTo>
                    <a:lnTo>
                      <a:pt x="1498" y="138"/>
                    </a:lnTo>
                    <a:lnTo>
                      <a:pt x="1528" y="0"/>
                    </a:lnTo>
                    <a:lnTo>
                      <a:pt x="1507" y="168"/>
                    </a:lnTo>
                    <a:lnTo>
                      <a:pt x="1498" y="230"/>
                    </a:lnTo>
                    <a:lnTo>
                      <a:pt x="1473" y="323"/>
                    </a:lnTo>
                    <a:lnTo>
                      <a:pt x="1444" y="423"/>
                    </a:lnTo>
                    <a:lnTo>
                      <a:pt x="1414" y="507"/>
                    </a:lnTo>
                    <a:lnTo>
                      <a:pt x="1377" y="595"/>
                    </a:lnTo>
                    <a:lnTo>
                      <a:pt x="1368" y="781"/>
                    </a:lnTo>
                    <a:lnTo>
                      <a:pt x="1385" y="999"/>
                    </a:lnTo>
                    <a:lnTo>
                      <a:pt x="1385" y="1301"/>
                    </a:lnTo>
                    <a:lnTo>
                      <a:pt x="1419" y="1443"/>
                    </a:lnTo>
                    <a:lnTo>
                      <a:pt x="1435" y="1295"/>
                    </a:lnTo>
                    <a:lnTo>
                      <a:pt x="1448" y="1194"/>
                    </a:lnTo>
                    <a:lnTo>
                      <a:pt x="1461" y="1112"/>
                    </a:lnTo>
                    <a:lnTo>
                      <a:pt x="1481" y="993"/>
                    </a:lnTo>
                    <a:lnTo>
                      <a:pt x="1507" y="907"/>
                    </a:lnTo>
                    <a:lnTo>
                      <a:pt x="1544" y="805"/>
                    </a:lnTo>
                    <a:lnTo>
                      <a:pt x="1477" y="598"/>
                    </a:lnTo>
                    <a:lnTo>
                      <a:pt x="1511" y="661"/>
                    </a:lnTo>
                    <a:lnTo>
                      <a:pt x="1536" y="719"/>
                    </a:lnTo>
                    <a:lnTo>
                      <a:pt x="1561" y="767"/>
                    </a:lnTo>
                    <a:lnTo>
                      <a:pt x="1645" y="633"/>
                    </a:lnTo>
                    <a:lnTo>
                      <a:pt x="1674" y="564"/>
                    </a:lnTo>
                    <a:lnTo>
                      <a:pt x="1662" y="386"/>
                    </a:lnTo>
                    <a:lnTo>
                      <a:pt x="1704" y="553"/>
                    </a:lnTo>
                    <a:lnTo>
                      <a:pt x="1922" y="210"/>
                    </a:lnTo>
                    <a:lnTo>
                      <a:pt x="1989" y="84"/>
                    </a:lnTo>
                    <a:lnTo>
                      <a:pt x="1913" y="285"/>
                    </a:lnTo>
                    <a:lnTo>
                      <a:pt x="1737" y="603"/>
                    </a:lnTo>
                    <a:lnTo>
                      <a:pt x="2152" y="331"/>
                    </a:lnTo>
                    <a:lnTo>
                      <a:pt x="1737" y="637"/>
                    </a:lnTo>
                    <a:lnTo>
                      <a:pt x="1662" y="773"/>
                    </a:lnTo>
                    <a:lnTo>
                      <a:pt x="1603" y="881"/>
                    </a:lnTo>
                    <a:lnTo>
                      <a:pt x="1570" y="1024"/>
                    </a:lnTo>
                    <a:lnTo>
                      <a:pt x="1536" y="1234"/>
                    </a:lnTo>
                    <a:lnTo>
                      <a:pt x="1515" y="1426"/>
                    </a:lnTo>
                    <a:lnTo>
                      <a:pt x="1557" y="1278"/>
                    </a:lnTo>
                    <a:lnTo>
                      <a:pt x="1591" y="1215"/>
                    </a:lnTo>
                    <a:lnTo>
                      <a:pt x="1637" y="1150"/>
                    </a:lnTo>
                    <a:lnTo>
                      <a:pt x="1700" y="1073"/>
                    </a:lnTo>
                    <a:lnTo>
                      <a:pt x="1737" y="1027"/>
                    </a:lnTo>
                    <a:lnTo>
                      <a:pt x="1771" y="978"/>
                    </a:lnTo>
                    <a:lnTo>
                      <a:pt x="1775" y="918"/>
                    </a:lnTo>
                    <a:lnTo>
                      <a:pt x="1779" y="729"/>
                    </a:lnTo>
                    <a:lnTo>
                      <a:pt x="1792" y="863"/>
                    </a:lnTo>
                    <a:lnTo>
                      <a:pt x="1804" y="914"/>
                    </a:lnTo>
                    <a:lnTo>
                      <a:pt x="1830" y="932"/>
                    </a:lnTo>
                    <a:lnTo>
                      <a:pt x="1884" y="838"/>
                    </a:lnTo>
                    <a:lnTo>
                      <a:pt x="1934" y="759"/>
                    </a:lnTo>
                    <a:lnTo>
                      <a:pt x="1972" y="696"/>
                    </a:lnTo>
                    <a:lnTo>
                      <a:pt x="2022" y="623"/>
                    </a:lnTo>
                    <a:lnTo>
                      <a:pt x="2106" y="536"/>
                    </a:lnTo>
                    <a:lnTo>
                      <a:pt x="2194" y="461"/>
                    </a:lnTo>
                    <a:lnTo>
                      <a:pt x="2190" y="212"/>
                    </a:lnTo>
                    <a:lnTo>
                      <a:pt x="2215" y="443"/>
                    </a:lnTo>
                    <a:lnTo>
                      <a:pt x="2372" y="369"/>
                    </a:lnTo>
                    <a:lnTo>
                      <a:pt x="2531" y="298"/>
                    </a:lnTo>
                    <a:lnTo>
                      <a:pt x="2317" y="426"/>
                    </a:lnTo>
                    <a:lnTo>
                      <a:pt x="2456" y="514"/>
                    </a:lnTo>
                    <a:lnTo>
                      <a:pt x="2291" y="439"/>
                    </a:lnTo>
                    <a:lnTo>
                      <a:pt x="2232" y="481"/>
                    </a:lnTo>
                    <a:lnTo>
                      <a:pt x="2165" y="549"/>
                    </a:lnTo>
                    <a:lnTo>
                      <a:pt x="2102" y="616"/>
                    </a:lnTo>
                    <a:lnTo>
                      <a:pt x="2056" y="678"/>
                    </a:lnTo>
                    <a:lnTo>
                      <a:pt x="2018" y="738"/>
                    </a:lnTo>
                    <a:lnTo>
                      <a:pt x="1985" y="813"/>
                    </a:lnTo>
                    <a:lnTo>
                      <a:pt x="1968" y="869"/>
                    </a:lnTo>
                    <a:lnTo>
                      <a:pt x="2027" y="859"/>
                    </a:lnTo>
                    <a:lnTo>
                      <a:pt x="2094" y="838"/>
                    </a:lnTo>
                    <a:lnTo>
                      <a:pt x="2169" y="814"/>
                    </a:lnTo>
                    <a:lnTo>
                      <a:pt x="2257" y="775"/>
                    </a:lnTo>
                    <a:lnTo>
                      <a:pt x="2334" y="747"/>
                    </a:lnTo>
                    <a:lnTo>
                      <a:pt x="2389" y="724"/>
                    </a:lnTo>
                    <a:lnTo>
                      <a:pt x="2447" y="690"/>
                    </a:lnTo>
                    <a:lnTo>
                      <a:pt x="2481" y="648"/>
                    </a:lnTo>
                    <a:lnTo>
                      <a:pt x="2506" y="602"/>
                    </a:lnTo>
                    <a:lnTo>
                      <a:pt x="2498" y="648"/>
                    </a:lnTo>
                    <a:lnTo>
                      <a:pt x="2477" y="687"/>
                    </a:lnTo>
                    <a:lnTo>
                      <a:pt x="2439" y="719"/>
                    </a:lnTo>
                    <a:lnTo>
                      <a:pt x="2347" y="775"/>
                    </a:lnTo>
                    <a:lnTo>
                      <a:pt x="2261" y="821"/>
                    </a:lnTo>
                    <a:lnTo>
                      <a:pt x="2182" y="856"/>
                    </a:lnTo>
                    <a:lnTo>
                      <a:pt x="2123" y="880"/>
                    </a:lnTo>
                    <a:lnTo>
                      <a:pt x="2060" y="907"/>
                    </a:lnTo>
                    <a:lnTo>
                      <a:pt x="1981" y="932"/>
                    </a:lnTo>
                    <a:lnTo>
                      <a:pt x="1913" y="974"/>
                    </a:lnTo>
                    <a:lnTo>
                      <a:pt x="1855" y="1024"/>
                    </a:lnTo>
                    <a:lnTo>
                      <a:pt x="1788" y="1108"/>
                    </a:lnTo>
                    <a:lnTo>
                      <a:pt x="1708" y="1211"/>
                    </a:lnTo>
                    <a:lnTo>
                      <a:pt x="1670" y="1280"/>
                    </a:lnTo>
                    <a:lnTo>
                      <a:pt x="1645" y="1324"/>
                    </a:lnTo>
                    <a:lnTo>
                      <a:pt x="1628" y="1379"/>
                    </a:lnTo>
                    <a:lnTo>
                      <a:pt x="1616" y="1456"/>
                    </a:lnTo>
                    <a:lnTo>
                      <a:pt x="1708" y="1389"/>
                    </a:lnTo>
                    <a:lnTo>
                      <a:pt x="1754" y="1354"/>
                    </a:lnTo>
                    <a:lnTo>
                      <a:pt x="1779" y="1324"/>
                    </a:lnTo>
                    <a:lnTo>
                      <a:pt x="1800" y="1278"/>
                    </a:lnTo>
                    <a:lnTo>
                      <a:pt x="1825" y="1194"/>
                    </a:lnTo>
                    <a:lnTo>
                      <a:pt x="1846" y="1106"/>
                    </a:lnTo>
                    <a:lnTo>
                      <a:pt x="1884" y="1048"/>
                    </a:lnTo>
                    <a:lnTo>
                      <a:pt x="1863" y="1102"/>
                    </a:lnTo>
                    <a:lnTo>
                      <a:pt x="1846" y="1165"/>
                    </a:lnTo>
                    <a:lnTo>
                      <a:pt x="1838" y="1224"/>
                    </a:lnTo>
                    <a:lnTo>
                      <a:pt x="1830" y="1282"/>
                    </a:lnTo>
                    <a:lnTo>
                      <a:pt x="1830" y="1308"/>
                    </a:lnTo>
                    <a:lnTo>
                      <a:pt x="1838" y="1333"/>
                    </a:lnTo>
                    <a:lnTo>
                      <a:pt x="1888" y="1338"/>
                    </a:lnTo>
                    <a:lnTo>
                      <a:pt x="1997" y="1296"/>
                    </a:lnTo>
                    <a:lnTo>
                      <a:pt x="2115" y="1254"/>
                    </a:lnTo>
                    <a:lnTo>
                      <a:pt x="2299" y="1192"/>
                    </a:lnTo>
                    <a:lnTo>
                      <a:pt x="2347" y="1169"/>
                    </a:lnTo>
                    <a:lnTo>
                      <a:pt x="2397" y="1140"/>
                    </a:lnTo>
                    <a:lnTo>
                      <a:pt x="2426" y="1074"/>
                    </a:lnTo>
                    <a:lnTo>
                      <a:pt x="2473" y="861"/>
                    </a:lnTo>
                    <a:lnTo>
                      <a:pt x="2443" y="1133"/>
                    </a:lnTo>
                    <a:lnTo>
                      <a:pt x="2464" y="1140"/>
                    </a:lnTo>
                    <a:lnTo>
                      <a:pt x="2494" y="1123"/>
                    </a:lnTo>
                    <a:lnTo>
                      <a:pt x="2556" y="981"/>
                    </a:lnTo>
                    <a:lnTo>
                      <a:pt x="2540" y="1056"/>
                    </a:lnTo>
                    <a:lnTo>
                      <a:pt x="2527" y="1098"/>
                    </a:lnTo>
                    <a:lnTo>
                      <a:pt x="2552" y="1106"/>
                    </a:lnTo>
                    <a:lnTo>
                      <a:pt x="2590" y="1090"/>
                    </a:lnTo>
                    <a:lnTo>
                      <a:pt x="2619" y="1048"/>
                    </a:lnTo>
                    <a:lnTo>
                      <a:pt x="2712" y="961"/>
                    </a:lnTo>
                    <a:lnTo>
                      <a:pt x="2644" y="1035"/>
                    </a:lnTo>
                    <a:lnTo>
                      <a:pt x="2624" y="1077"/>
                    </a:lnTo>
                    <a:lnTo>
                      <a:pt x="2615" y="1115"/>
                    </a:lnTo>
                    <a:lnTo>
                      <a:pt x="2661" y="1152"/>
                    </a:lnTo>
                    <a:lnTo>
                      <a:pt x="2598" y="1136"/>
                    </a:lnTo>
                    <a:lnTo>
                      <a:pt x="2561" y="1146"/>
                    </a:lnTo>
                    <a:lnTo>
                      <a:pt x="2494" y="1165"/>
                    </a:lnTo>
                    <a:lnTo>
                      <a:pt x="2514" y="1186"/>
                    </a:lnTo>
                    <a:lnTo>
                      <a:pt x="2544" y="1232"/>
                    </a:lnTo>
                    <a:lnTo>
                      <a:pt x="2582" y="1341"/>
                    </a:lnTo>
                    <a:lnTo>
                      <a:pt x="2523" y="1241"/>
                    </a:lnTo>
                    <a:lnTo>
                      <a:pt x="2494" y="1207"/>
                    </a:lnTo>
                    <a:lnTo>
                      <a:pt x="2464" y="1190"/>
                    </a:lnTo>
                    <a:lnTo>
                      <a:pt x="2426" y="1192"/>
                    </a:lnTo>
                    <a:lnTo>
                      <a:pt x="2303" y="1234"/>
                    </a:lnTo>
                    <a:lnTo>
                      <a:pt x="2190" y="1275"/>
                    </a:lnTo>
                    <a:lnTo>
                      <a:pt x="2085" y="1308"/>
                    </a:lnTo>
                    <a:lnTo>
                      <a:pt x="1997" y="1342"/>
                    </a:lnTo>
                    <a:lnTo>
                      <a:pt x="1926" y="1379"/>
                    </a:lnTo>
                    <a:lnTo>
                      <a:pt x="1846" y="1422"/>
                    </a:lnTo>
                    <a:lnTo>
                      <a:pt x="1771" y="1471"/>
                    </a:lnTo>
                    <a:lnTo>
                      <a:pt x="1725" y="1510"/>
                    </a:lnTo>
                    <a:lnTo>
                      <a:pt x="1683" y="1552"/>
                    </a:lnTo>
                    <a:lnTo>
                      <a:pt x="1863" y="1560"/>
                    </a:lnTo>
                    <a:lnTo>
                      <a:pt x="2018" y="1548"/>
                    </a:lnTo>
                    <a:lnTo>
                      <a:pt x="2245" y="1519"/>
                    </a:lnTo>
                    <a:lnTo>
                      <a:pt x="2414" y="1493"/>
                    </a:lnTo>
                    <a:lnTo>
                      <a:pt x="2498" y="1479"/>
                    </a:lnTo>
                    <a:lnTo>
                      <a:pt x="2544" y="1463"/>
                    </a:lnTo>
                    <a:lnTo>
                      <a:pt x="2594" y="1443"/>
                    </a:lnTo>
                    <a:lnTo>
                      <a:pt x="2644" y="1417"/>
                    </a:lnTo>
                    <a:lnTo>
                      <a:pt x="2728" y="1349"/>
                    </a:lnTo>
                    <a:lnTo>
                      <a:pt x="2833" y="1242"/>
                    </a:lnTo>
                    <a:lnTo>
                      <a:pt x="2737" y="1362"/>
                    </a:lnTo>
                    <a:lnTo>
                      <a:pt x="2678" y="1417"/>
                    </a:lnTo>
                    <a:lnTo>
                      <a:pt x="2624" y="1460"/>
                    </a:lnTo>
                    <a:lnTo>
                      <a:pt x="2733" y="1454"/>
                    </a:lnTo>
                    <a:lnTo>
                      <a:pt x="2808" y="1433"/>
                    </a:lnTo>
                    <a:lnTo>
                      <a:pt x="2867" y="1404"/>
                    </a:lnTo>
                    <a:lnTo>
                      <a:pt x="2925" y="1379"/>
                    </a:lnTo>
                    <a:lnTo>
                      <a:pt x="3001" y="1345"/>
                    </a:lnTo>
                    <a:lnTo>
                      <a:pt x="3072" y="1329"/>
                    </a:lnTo>
                    <a:lnTo>
                      <a:pt x="3001" y="1362"/>
                    </a:lnTo>
                    <a:lnTo>
                      <a:pt x="2942" y="1396"/>
                    </a:lnTo>
                    <a:lnTo>
                      <a:pt x="2884" y="1425"/>
                    </a:lnTo>
                    <a:lnTo>
                      <a:pt x="2837" y="1450"/>
                    </a:lnTo>
                    <a:lnTo>
                      <a:pt x="2783" y="1471"/>
                    </a:lnTo>
                    <a:lnTo>
                      <a:pt x="2863" y="1479"/>
                    </a:lnTo>
                    <a:lnTo>
                      <a:pt x="2913" y="1471"/>
                    </a:lnTo>
                    <a:lnTo>
                      <a:pt x="2972" y="1458"/>
                    </a:lnTo>
                    <a:lnTo>
                      <a:pt x="3030" y="1442"/>
                    </a:lnTo>
                    <a:lnTo>
                      <a:pt x="2963" y="1485"/>
                    </a:lnTo>
                    <a:lnTo>
                      <a:pt x="2892" y="1496"/>
                    </a:lnTo>
                    <a:lnTo>
                      <a:pt x="2812" y="1496"/>
                    </a:lnTo>
                    <a:lnTo>
                      <a:pt x="2678" y="1506"/>
                    </a:lnTo>
                    <a:lnTo>
                      <a:pt x="2636" y="1513"/>
                    </a:lnTo>
                    <a:lnTo>
                      <a:pt x="2686" y="1534"/>
                    </a:lnTo>
                    <a:lnTo>
                      <a:pt x="2766" y="1546"/>
                    </a:lnTo>
                    <a:lnTo>
                      <a:pt x="2833" y="1551"/>
                    </a:lnTo>
                    <a:lnTo>
                      <a:pt x="2976" y="1556"/>
                    </a:lnTo>
                    <a:lnTo>
                      <a:pt x="2816" y="1567"/>
                    </a:lnTo>
                    <a:lnTo>
                      <a:pt x="2745" y="1567"/>
                    </a:lnTo>
                    <a:lnTo>
                      <a:pt x="2682" y="1559"/>
                    </a:lnTo>
                    <a:lnTo>
                      <a:pt x="2636" y="1546"/>
                    </a:lnTo>
                    <a:lnTo>
                      <a:pt x="2569" y="1527"/>
                    </a:lnTo>
                    <a:lnTo>
                      <a:pt x="2405" y="1560"/>
                    </a:lnTo>
                    <a:lnTo>
                      <a:pt x="2157" y="1611"/>
                    </a:lnTo>
                    <a:lnTo>
                      <a:pt x="2194" y="1655"/>
                    </a:lnTo>
                    <a:lnTo>
                      <a:pt x="2266" y="1753"/>
                    </a:lnTo>
                    <a:lnTo>
                      <a:pt x="2119" y="1623"/>
                    </a:lnTo>
                    <a:lnTo>
                      <a:pt x="2131" y="1685"/>
                    </a:lnTo>
                    <a:lnTo>
                      <a:pt x="2123" y="1743"/>
                    </a:lnTo>
                    <a:lnTo>
                      <a:pt x="2115" y="1785"/>
                    </a:lnTo>
                    <a:lnTo>
                      <a:pt x="2098" y="1844"/>
                    </a:lnTo>
                    <a:lnTo>
                      <a:pt x="2060" y="1928"/>
                    </a:lnTo>
                    <a:lnTo>
                      <a:pt x="1964" y="2080"/>
                    </a:lnTo>
                    <a:lnTo>
                      <a:pt x="2027" y="1949"/>
                    </a:lnTo>
                    <a:lnTo>
                      <a:pt x="2060" y="1865"/>
                    </a:lnTo>
                    <a:lnTo>
                      <a:pt x="2085" y="1785"/>
                    </a:lnTo>
                    <a:lnTo>
                      <a:pt x="2081" y="1743"/>
                    </a:lnTo>
                    <a:lnTo>
                      <a:pt x="2077" y="1676"/>
                    </a:lnTo>
                    <a:lnTo>
                      <a:pt x="2064" y="1647"/>
                    </a:lnTo>
                    <a:lnTo>
                      <a:pt x="2043" y="1627"/>
                    </a:lnTo>
                    <a:lnTo>
                      <a:pt x="1930" y="1636"/>
                    </a:lnTo>
                    <a:lnTo>
                      <a:pt x="1825" y="1664"/>
                    </a:lnTo>
                    <a:lnTo>
                      <a:pt x="1767" y="1695"/>
                    </a:lnTo>
                    <a:lnTo>
                      <a:pt x="1725" y="1722"/>
                    </a:lnTo>
                    <a:lnTo>
                      <a:pt x="1695" y="1757"/>
                    </a:lnTo>
                    <a:lnTo>
                      <a:pt x="1670" y="1812"/>
                    </a:lnTo>
                    <a:lnTo>
                      <a:pt x="1670" y="1904"/>
                    </a:lnTo>
                    <a:lnTo>
                      <a:pt x="1670" y="2038"/>
                    </a:lnTo>
                    <a:lnTo>
                      <a:pt x="1662" y="2156"/>
                    </a:lnTo>
                    <a:lnTo>
                      <a:pt x="1662" y="2266"/>
                    </a:lnTo>
                    <a:lnTo>
                      <a:pt x="1662" y="2392"/>
                    </a:lnTo>
                    <a:lnTo>
                      <a:pt x="1662" y="2492"/>
                    </a:lnTo>
                    <a:lnTo>
                      <a:pt x="1687" y="2593"/>
                    </a:lnTo>
                    <a:lnTo>
                      <a:pt x="1721" y="2685"/>
                    </a:lnTo>
                    <a:lnTo>
                      <a:pt x="1779" y="2802"/>
                    </a:lnTo>
                    <a:lnTo>
                      <a:pt x="1838" y="2869"/>
                    </a:lnTo>
                    <a:lnTo>
                      <a:pt x="1897" y="2903"/>
                    </a:lnTo>
                    <a:lnTo>
                      <a:pt x="1997" y="2945"/>
                    </a:lnTo>
                    <a:lnTo>
                      <a:pt x="1863" y="2928"/>
                    </a:lnTo>
                    <a:lnTo>
                      <a:pt x="1737" y="2886"/>
                    </a:lnTo>
                    <a:lnTo>
                      <a:pt x="1662" y="2869"/>
                    </a:lnTo>
                    <a:lnTo>
                      <a:pt x="1603" y="2869"/>
                    </a:lnTo>
                    <a:lnTo>
                      <a:pt x="1561" y="2911"/>
                    </a:lnTo>
                    <a:lnTo>
                      <a:pt x="1528" y="2895"/>
                    </a:lnTo>
                    <a:lnTo>
                      <a:pt x="1461" y="2886"/>
                    </a:lnTo>
                    <a:lnTo>
                      <a:pt x="1402" y="2903"/>
                    </a:lnTo>
                    <a:lnTo>
                      <a:pt x="1343" y="2936"/>
                    </a:lnTo>
                    <a:lnTo>
                      <a:pt x="1301" y="2953"/>
                    </a:lnTo>
                    <a:lnTo>
                      <a:pt x="1301" y="2911"/>
                    </a:lnTo>
                    <a:lnTo>
                      <a:pt x="1276" y="2895"/>
                    </a:lnTo>
                    <a:lnTo>
                      <a:pt x="1217" y="2895"/>
                    </a:lnTo>
                    <a:lnTo>
                      <a:pt x="1167" y="2911"/>
                    </a:lnTo>
                    <a:lnTo>
                      <a:pt x="1150" y="2911"/>
                    </a:lnTo>
                    <a:lnTo>
                      <a:pt x="999" y="2928"/>
                    </a:lnTo>
                    <a:close/>
                  </a:path>
                </a:pathLst>
              </a:custGeom>
              <a:solidFill>
                <a:srgbClr val="7f5f3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505880" y="5338440"/>
                <a:ext cx="464760" cy="1212840"/>
              </a:xfrm>
              <a:custGeom>
                <a:avLst/>
                <a:gdLst/>
                <a:ahLst/>
                <a:rect l="l" t="t" r="r" b="b"/>
                <a:pathLst>
                  <a:path w="587" h="1527">
                    <a:moveTo>
                      <a:pt x="8" y="201"/>
                    </a:moveTo>
                    <a:lnTo>
                      <a:pt x="58" y="235"/>
                    </a:lnTo>
                    <a:lnTo>
                      <a:pt x="100" y="285"/>
                    </a:lnTo>
                    <a:lnTo>
                      <a:pt x="125" y="369"/>
                    </a:lnTo>
                    <a:lnTo>
                      <a:pt x="150" y="561"/>
                    </a:lnTo>
                    <a:lnTo>
                      <a:pt x="142" y="796"/>
                    </a:lnTo>
                    <a:lnTo>
                      <a:pt x="142" y="1015"/>
                    </a:lnTo>
                    <a:lnTo>
                      <a:pt x="142" y="1158"/>
                    </a:lnTo>
                    <a:lnTo>
                      <a:pt x="125" y="1275"/>
                    </a:lnTo>
                    <a:lnTo>
                      <a:pt x="83" y="1401"/>
                    </a:lnTo>
                    <a:lnTo>
                      <a:pt x="0" y="1510"/>
                    </a:lnTo>
                    <a:lnTo>
                      <a:pt x="100" y="1393"/>
                    </a:lnTo>
                    <a:lnTo>
                      <a:pt x="150" y="1275"/>
                    </a:lnTo>
                    <a:lnTo>
                      <a:pt x="167" y="1259"/>
                    </a:lnTo>
                    <a:lnTo>
                      <a:pt x="159" y="1393"/>
                    </a:lnTo>
                    <a:lnTo>
                      <a:pt x="142" y="1502"/>
                    </a:lnTo>
                    <a:lnTo>
                      <a:pt x="159" y="1443"/>
                    </a:lnTo>
                    <a:lnTo>
                      <a:pt x="184" y="1292"/>
                    </a:lnTo>
                    <a:lnTo>
                      <a:pt x="184" y="1183"/>
                    </a:lnTo>
                    <a:lnTo>
                      <a:pt x="184" y="1124"/>
                    </a:lnTo>
                    <a:lnTo>
                      <a:pt x="209" y="990"/>
                    </a:lnTo>
                    <a:lnTo>
                      <a:pt x="209" y="873"/>
                    </a:lnTo>
                    <a:lnTo>
                      <a:pt x="201" y="779"/>
                    </a:lnTo>
                    <a:lnTo>
                      <a:pt x="192" y="654"/>
                    </a:lnTo>
                    <a:lnTo>
                      <a:pt x="176" y="536"/>
                    </a:lnTo>
                    <a:lnTo>
                      <a:pt x="176" y="436"/>
                    </a:lnTo>
                    <a:lnTo>
                      <a:pt x="218" y="310"/>
                    </a:lnTo>
                    <a:lnTo>
                      <a:pt x="226" y="486"/>
                    </a:lnTo>
                    <a:lnTo>
                      <a:pt x="226" y="561"/>
                    </a:lnTo>
                    <a:lnTo>
                      <a:pt x="234" y="679"/>
                    </a:lnTo>
                    <a:lnTo>
                      <a:pt x="243" y="737"/>
                    </a:lnTo>
                    <a:lnTo>
                      <a:pt x="251" y="855"/>
                    </a:lnTo>
                    <a:lnTo>
                      <a:pt x="251" y="990"/>
                    </a:lnTo>
                    <a:lnTo>
                      <a:pt x="251" y="1116"/>
                    </a:lnTo>
                    <a:lnTo>
                      <a:pt x="243" y="1217"/>
                    </a:lnTo>
                    <a:lnTo>
                      <a:pt x="226" y="1326"/>
                    </a:lnTo>
                    <a:lnTo>
                      <a:pt x="226" y="1409"/>
                    </a:lnTo>
                    <a:lnTo>
                      <a:pt x="234" y="1477"/>
                    </a:lnTo>
                    <a:lnTo>
                      <a:pt x="251" y="1376"/>
                    </a:lnTo>
                    <a:lnTo>
                      <a:pt x="260" y="1443"/>
                    </a:lnTo>
                    <a:lnTo>
                      <a:pt x="293" y="1502"/>
                    </a:lnTo>
                    <a:lnTo>
                      <a:pt x="327" y="1527"/>
                    </a:lnTo>
                    <a:lnTo>
                      <a:pt x="318" y="1451"/>
                    </a:lnTo>
                    <a:lnTo>
                      <a:pt x="301" y="1317"/>
                    </a:lnTo>
                    <a:lnTo>
                      <a:pt x="293" y="1133"/>
                    </a:lnTo>
                    <a:lnTo>
                      <a:pt x="276" y="990"/>
                    </a:lnTo>
                    <a:lnTo>
                      <a:pt x="276" y="890"/>
                    </a:lnTo>
                    <a:lnTo>
                      <a:pt x="268" y="771"/>
                    </a:lnTo>
                    <a:lnTo>
                      <a:pt x="268" y="645"/>
                    </a:lnTo>
                    <a:lnTo>
                      <a:pt x="268" y="545"/>
                    </a:lnTo>
                    <a:lnTo>
                      <a:pt x="293" y="436"/>
                    </a:lnTo>
                    <a:lnTo>
                      <a:pt x="410" y="209"/>
                    </a:lnTo>
                    <a:lnTo>
                      <a:pt x="369" y="352"/>
                    </a:lnTo>
                    <a:lnTo>
                      <a:pt x="335" y="427"/>
                    </a:lnTo>
                    <a:lnTo>
                      <a:pt x="318" y="503"/>
                    </a:lnTo>
                    <a:lnTo>
                      <a:pt x="318" y="553"/>
                    </a:lnTo>
                    <a:lnTo>
                      <a:pt x="318" y="612"/>
                    </a:lnTo>
                    <a:lnTo>
                      <a:pt x="318" y="687"/>
                    </a:lnTo>
                    <a:lnTo>
                      <a:pt x="318" y="746"/>
                    </a:lnTo>
                    <a:lnTo>
                      <a:pt x="318" y="838"/>
                    </a:lnTo>
                    <a:lnTo>
                      <a:pt x="327" y="965"/>
                    </a:lnTo>
                    <a:lnTo>
                      <a:pt x="335" y="1057"/>
                    </a:lnTo>
                    <a:lnTo>
                      <a:pt x="352" y="1150"/>
                    </a:lnTo>
                    <a:lnTo>
                      <a:pt x="360" y="1242"/>
                    </a:lnTo>
                    <a:lnTo>
                      <a:pt x="369" y="1326"/>
                    </a:lnTo>
                    <a:lnTo>
                      <a:pt x="402" y="1384"/>
                    </a:lnTo>
                    <a:lnTo>
                      <a:pt x="444" y="1435"/>
                    </a:lnTo>
                    <a:lnTo>
                      <a:pt x="503" y="1468"/>
                    </a:lnTo>
                    <a:lnTo>
                      <a:pt x="587" y="1493"/>
                    </a:lnTo>
                    <a:lnTo>
                      <a:pt x="478" y="1418"/>
                    </a:lnTo>
                    <a:lnTo>
                      <a:pt x="427" y="1334"/>
                    </a:lnTo>
                    <a:lnTo>
                      <a:pt x="394" y="1259"/>
                    </a:lnTo>
                    <a:lnTo>
                      <a:pt x="385" y="1166"/>
                    </a:lnTo>
                    <a:lnTo>
                      <a:pt x="369" y="1032"/>
                    </a:lnTo>
                    <a:lnTo>
                      <a:pt x="360" y="907"/>
                    </a:lnTo>
                    <a:lnTo>
                      <a:pt x="352" y="779"/>
                    </a:lnTo>
                    <a:lnTo>
                      <a:pt x="369" y="654"/>
                    </a:lnTo>
                    <a:lnTo>
                      <a:pt x="369" y="561"/>
                    </a:lnTo>
                    <a:lnTo>
                      <a:pt x="394" y="478"/>
                    </a:lnTo>
                    <a:lnTo>
                      <a:pt x="427" y="385"/>
                    </a:lnTo>
                    <a:lnTo>
                      <a:pt x="452" y="302"/>
                    </a:lnTo>
                    <a:lnTo>
                      <a:pt x="528" y="243"/>
                    </a:lnTo>
                    <a:lnTo>
                      <a:pt x="419" y="293"/>
                    </a:lnTo>
                    <a:lnTo>
                      <a:pt x="478" y="134"/>
                    </a:lnTo>
                    <a:lnTo>
                      <a:pt x="385" y="201"/>
                    </a:lnTo>
                    <a:lnTo>
                      <a:pt x="327" y="268"/>
                    </a:lnTo>
                    <a:lnTo>
                      <a:pt x="293" y="360"/>
                    </a:lnTo>
                    <a:lnTo>
                      <a:pt x="268" y="402"/>
                    </a:lnTo>
                    <a:lnTo>
                      <a:pt x="251" y="293"/>
                    </a:lnTo>
                    <a:lnTo>
                      <a:pt x="285" y="159"/>
                    </a:lnTo>
                    <a:lnTo>
                      <a:pt x="285" y="75"/>
                    </a:lnTo>
                    <a:lnTo>
                      <a:pt x="285" y="0"/>
                    </a:lnTo>
                    <a:lnTo>
                      <a:pt x="251" y="176"/>
                    </a:lnTo>
                    <a:lnTo>
                      <a:pt x="234" y="251"/>
                    </a:lnTo>
                    <a:lnTo>
                      <a:pt x="209" y="293"/>
                    </a:lnTo>
                    <a:lnTo>
                      <a:pt x="167" y="327"/>
                    </a:lnTo>
                    <a:lnTo>
                      <a:pt x="142" y="268"/>
                    </a:lnTo>
                    <a:lnTo>
                      <a:pt x="8" y="201"/>
                    </a:lnTo>
                    <a:close/>
                  </a:path>
                </a:pathLst>
              </a:cu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533520" y="6384600"/>
              <a:ext cx="2458800" cy="241200"/>
            </a:xfrm>
            <a:custGeom>
              <a:avLst/>
              <a:gdLst/>
              <a:ahLst/>
              <a:rect l="l" t="t" r="r" b="b"/>
              <a:pathLst>
                <a:path w="3097" h="303">
                  <a:moveTo>
                    <a:pt x="167" y="252"/>
                  </a:moveTo>
                  <a:lnTo>
                    <a:pt x="318" y="227"/>
                  </a:lnTo>
                  <a:lnTo>
                    <a:pt x="452" y="227"/>
                  </a:lnTo>
                  <a:lnTo>
                    <a:pt x="603" y="227"/>
                  </a:lnTo>
                  <a:lnTo>
                    <a:pt x="721" y="193"/>
                  </a:lnTo>
                  <a:lnTo>
                    <a:pt x="798" y="185"/>
                  </a:lnTo>
                  <a:lnTo>
                    <a:pt x="890" y="168"/>
                  </a:lnTo>
                  <a:lnTo>
                    <a:pt x="957" y="126"/>
                  </a:lnTo>
                  <a:lnTo>
                    <a:pt x="1049" y="126"/>
                  </a:lnTo>
                  <a:lnTo>
                    <a:pt x="1111" y="122"/>
                  </a:lnTo>
                  <a:lnTo>
                    <a:pt x="1158" y="109"/>
                  </a:lnTo>
                  <a:lnTo>
                    <a:pt x="1185" y="108"/>
                  </a:lnTo>
                  <a:lnTo>
                    <a:pt x="1214" y="99"/>
                  </a:lnTo>
                  <a:lnTo>
                    <a:pt x="1244" y="88"/>
                  </a:lnTo>
                  <a:lnTo>
                    <a:pt x="1263" y="73"/>
                  </a:lnTo>
                  <a:lnTo>
                    <a:pt x="1301" y="34"/>
                  </a:lnTo>
                  <a:lnTo>
                    <a:pt x="1298" y="80"/>
                  </a:lnTo>
                  <a:lnTo>
                    <a:pt x="1309" y="109"/>
                  </a:lnTo>
                  <a:lnTo>
                    <a:pt x="1332" y="116"/>
                  </a:lnTo>
                  <a:lnTo>
                    <a:pt x="1349" y="97"/>
                  </a:lnTo>
                  <a:lnTo>
                    <a:pt x="1368" y="76"/>
                  </a:lnTo>
                  <a:lnTo>
                    <a:pt x="1396" y="99"/>
                  </a:lnTo>
                  <a:lnTo>
                    <a:pt x="1427" y="101"/>
                  </a:lnTo>
                  <a:lnTo>
                    <a:pt x="1451" y="92"/>
                  </a:lnTo>
                  <a:lnTo>
                    <a:pt x="1477" y="67"/>
                  </a:lnTo>
                  <a:lnTo>
                    <a:pt x="1488" y="38"/>
                  </a:lnTo>
                  <a:lnTo>
                    <a:pt x="1486" y="0"/>
                  </a:lnTo>
                  <a:lnTo>
                    <a:pt x="1544" y="42"/>
                  </a:lnTo>
                  <a:lnTo>
                    <a:pt x="1568" y="74"/>
                  </a:lnTo>
                  <a:lnTo>
                    <a:pt x="1592" y="92"/>
                  </a:lnTo>
                  <a:lnTo>
                    <a:pt x="1620" y="109"/>
                  </a:lnTo>
                  <a:lnTo>
                    <a:pt x="1656" y="122"/>
                  </a:lnTo>
                  <a:lnTo>
                    <a:pt x="1687" y="126"/>
                  </a:lnTo>
                  <a:lnTo>
                    <a:pt x="1694" y="105"/>
                  </a:lnTo>
                  <a:lnTo>
                    <a:pt x="1698" y="78"/>
                  </a:lnTo>
                  <a:lnTo>
                    <a:pt x="1697" y="46"/>
                  </a:lnTo>
                  <a:lnTo>
                    <a:pt x="1740" y="84"/>
                  </a:lnTo>
                  <a:lnTo>
                    <a:pt x="1748" y="63"/>
                  </a:lnTo>
                  <a:lnTo>
                    <a:pt x="1744" y="13"/>
                  </a:lnTo>
                  <a:lnTo>
                    <a:pt x="1782" y="53"/>
                  </a:lnTo>
                  <a:lnTo>
                    <a:pt x="1807" y="78"/>
                  </a:lnTo>
                  <a:lnTo>
                    <a:pt x="1832" y="95"/>
                  </a:lnTo>
                  <a:lnTo>
                    <a:pt x="1884" y="113"/>
                  </a:lnTo>
                  <a:lnTo>
                    <a:pt x="2022" y="151"/>
                  </a:lnTo>
                  <a:lnTo>
                    <a:pt x="2140" y="160"/>
                  </a:lnTo>
                  <a:lnTo>
                    <a:pt x="2274" y="185"/>
                  </a:lnTo>
                  <a:lnTo>
                    <a:pt x="2418" y="201"/>
                  </a:lnTo>
                  <a:lnTo>
                    <a:pt x="2535" y="210"/>
                  </a:lnTo>
                  <a:lnTo>
                    <a:pt x="2636" y="210"/>
                  </a:lnTo>
                  <a:lnTo>
                    <a:pt x="2795" y="227"/>
                  </a:lnTo>
                  <a:lnTo>
                    <a:pt x="2913" y="260"/>
                  </a:lnTo>
                  <a:lnTo>
                    <a:pt x="3022" y="268"/>
                  </a:lnTo>
                  <a:lnTo>
                    <a:pt x="3097" y="303"/>
                  </a:lnTo>
                  <a:lnTo>
                    <a:pt x="0" y="303"/>
                  </a:lnTo>
                  <a:lnTo>
                    <a:pt x="167" y="252"/>
                  </a:lnTo>
                  <a:close/>
                </a:path>
              </a:pathLst>
            </a:custGeom>
            <a:solidFill>
              <a:srgbClr val="b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82600" y="5403600"/>
              <a:ext cx="382320" cy="85680"/>
            </a:xfrm>
            <a:custGeom>
              <a:avLst/>
              <a:gdLst/>
              <a:ahLst/>
              <a:rect l="l" t="t" r="r" b="b"/>
              <a:pathLst>
                <a:path w="482" h="109">
                  <a:moveTo>
                    <a:pt x="0" y="21"/>
                  </a:moveTo>
                  <a:lnTo>
                    <a:pt x="37" y="50"/>
                  </a:lnTo>
                  <a:lnTo>
                    <a:pt x="71" y="80"/>
                  </a:lnTo>
                  <a:lnTo>
                    <a:pt x="79" y="100"/>
                  </a:lnTo>
                  <a:lnTo>
                    <a:pt x="105" y="105"/>
                  </a:lnTo>
                  <a:lnTo>
                    <a:pt x="147" y="92"/>
                  </a:lnTo>
                  <a:lnTo>
                    <a:pt x="163" y="96"/>
                  </a:lnTo>
                  <a:lnTo>
                    <a:pt x="188" y="105"/>
                  </a:lnTo>
                  <a:lnTo>
                    <a:pt x="214" y="109"/>
                  </a:lnTo>
                  <a:lnTo>
                    <a:pt x="239" y="105"/>
                  </a:lnTo>
                  <a:lnTo>
                    <a:pt x="264" y="105"/>
                  </a:lnTo>
                  <a:lnTo>
                    <a:pt x="293" y="92"/>
                  </a:lnTo>
                  <a:lnTo>
                    <a:pt x="327" y="92"/>
                  </a:lnTo>
                  <a:lnTo>
                    <a:pt x="369" y="92"/>
                  </a:lnTo>
                  <a:lnTo>
                    <a:pt x="411" y="88"/>
                  </a:lnTo>
                  <a:lnTo>
                    <a:pt x="436" y="84"/>
                  </a:lnTo>
                  <a:lnTo>
                    <a:pt x="482" y="92"/>
                  </a:lnTo>
                  <a:lnTo>
                    <a:pt x="432" y="67"/>
                  </a:lnTo>
                  <a:lnTo>
                    <a:pt x="381" y="54"/>
                  </a:lnTo>
                  <a:lnTo>
                    <a:pt x="335" y="46"/>
                  </a:lnTo>
                  <a:lnTo>
                    <a:pt x="289" y="29"/>
                  </a:lnTo>
                  <a:lnTo>
                    <a:pt x="251" y="29"/>
                  </a:lnTo>
                  <a:lnTo>
                    <a:pt x="226" y="21"/>
                  </a:lnTo>
                  <a:lnTo>
                    <a:pt x="218" y="21"/>
                  </a:lnTo>
                  <a:lnTo>
                    <a:pt x="176" y="4"/>
                  </a:lnTo>
                  <a:lnTo>
                    <a:pt x="138" y="0"/>
                  </a:lnTo>
                  <a:lnTo>
                    <a:pt x="88" y="0"/>
                  </a:lnTo>
                  <a:lnTo>
                    <a:pt x="63" y="12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b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25480" y="5373360"/>
              <a:ext cx="317160" cy="76320"/>
            </a:xfrm>
            <a:custGeom>
              <a:avLst/>
              <a:gdLst/>
              <a:ahLst/>
              <a:rect l="l" t="t" r="r" b="b"/>
              <a:pathLst>
                <a:path w="398" h="97">
                  <a:moveTo>
                    <a:pt x="323" y="38"/>
                  </a:moveTo>
                  <a:lnTo>
                    <a:pt x="260" y="25"/>
                  </a:lnTo>
                  <a:lnTo>
                    <a:pt x="205" y="13"/>
                  </a:lnTo>
                  <a:lnTo>
                    <a:pt x="167" y="13"/>
                  </a:lnTo>
                  <a:lnTo>
                    <a:pt x="134" y="17"/>
                  </a:lnTo>
                  <a:lnTo>
                    <a:pt x="104" y="13"/>
                  </a:lnTo>
                  <a:lnTo>
                    <a:pt x="83" y="4"/>
                  </a:lnTo>
                  <a:lnTo>
                    <a:pt x="63" y="0"/>
                  </a:lnTo>
                  <a:lnTo>
                    <a:pt x="33" y="0"/>
                  </a:lnTo>
                  <a:lnTo>
                    <a:pt x="0" y="4"/>
                  </a:lnTo>
                  <a:lnTo>
                    <a:pt x="46" y="34"/>
                  </a:lnTo>
                  <a:lnTo>
                    <a:pt x="79" y="59"/>
                  </a:lnTo>
                  <a:lnTo>
                    <a:pt x="96" y="88"/>
                  </a:lnTo>
                  <a:lnTo>
                    <a:pt x="113" y="67"/>
                  </a:lnTo>
                  <a:lnTo>
                    <a:pt x="134" y="67"/>
                  </a:lnTo>
                  <a:lnTo>
                    <a:pt x="163" y="84"/>
                  </a:lnTo>
                  <a:lnTo>
                    <a:pt x="184" y="97"/>
                  </a:lnTo>
                  <a:lnTo>
                    <a:pt x="213" y="92"/>
                  </a:lnTo>
                  <a:lnTo>
                    <a:pt x="251" y="84"/>
                  </a:lnTo>
                  <a:lnTo>
                    <a:pt x="293" y="84"/>
                  </a:lnTo>
                  <a:lnTo>
                    <a:pt x="398" y="88"/>
                  </a:lnTo>
                  <a:lnTo>
                    <a:pt x="377" y="55"/>
                  </a:lnTo>
                  <a:lnTo>
                    <a:pt x="323" y="38"/>
                  </a:lnTo>
                  <a:close/>
                </a:path>
              </a:pathLst>
            </a:custGeom>
            <a:solidFill>
              <a:srgbClr val="b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849320" y="5406840"/>
              <a:ext cx="869400" cy="149040"/>
            </a:xfrm>
            <a:custGeom>
              <a:avLst/>
              <a:gdLst/>
              <a:ahLst/>
              <a:rect l="l" t="t" r="r" b="b"/>
              <a:pathLst>
                <a:path w="1096" h="189">
                  <a:moveTo>
                    <a:pt x="105" y="67"/>
                  </a:moveTo>
                  <a:lnTo>
                    <a:pt x="172" y="71"/>
                  </a:lnTo>
                  <a:lnTo>
                    <a:pt x="244" y="80"/>
                  </a:lnTo>
                  <a:lnTo>
                    <a:pt x="315" y="76"/>
                  </a:lnTo>
                  <a:lnTo>
                    <a:pt x="395" y="63"/>
                  </a:lnTo>
                  <a:lnTo>
                    <a:pt x="449" y="63"/>
                  </a:lnTo>
                  <a:lnTo>
                    <a:pt x="508" y="63"/>
                  </a:lnTo>
                  <a:lnTo>
                    <a:pt x="571" y="59"/>
                  </a:lnTo>
                  <a:lnTo>
                    <a:pt x="629" y="50"/>
                  </a:lnTo>
                  <a:lnTo>
                    <a:pt x="694" y="55"/>
                  </a:lnTo>
                  <a:lnTo>
                    <a:pt x="752" y="50"/>
                  </a:lnTo>
                  <a:lnTo>
                    <a:pt x="794" y="46"/>
                  </a:lnTo>
                  <a:lnTo>
                    <a:pt x="841" y="25"/>
                  </a:lnTo>
                  <a:lnTo>
                    <a:pt x="887" y="25"/>
                  </a:lnTo>
                  <a:lnTo>
                    <a:pt x="950" y="21"/>
                  </a:lnTo>
                  <a:lnTo>
                    <a:pt x="983" y="0"/>
                  </a:lnTo>
                  <a:lnTo>
                    <a:pt x="1012" y="17"/>
                  </a:lnTo>
                  <a:lnTo>
                    <a:pt x="1096" y="21"/>
                  </a:lnTo>
                  <a:lnTo>
                    <a:pt x="1029" y="42"/>
                  </a:lnTo>
                  <a:lnTo>
                    <a:pt x="1000" y="50"/>
                  </a:lnTo>
                  <a:lnTo>
                    <a:pt x="971" y="59"/>
                  </a:lnTo>
                  <a:lnTo>
                    <a:pt x="929" y="59"/>
                  </a:lnTo>
                  <a:lnTo>
                    <a:pt x="887" y="80"/>
                  </a:lnTo>
                  <a:lnTo>
                    <a:pt x="862" y="88"/>
                  </a:lnTo>
                  <a:lnTo>
                    <a:pt x="824" y="92"/>
                  </a:lnTo>
                  <a:lnTo>
                    <a:pt x="782" y="92"/>
                  </a:lnTo>
                  <a:lnTo>
                    <a:pt x="740" y="88"/>
                  </a:lnTo>
                  <a:lnTo>
                    <a:pt x="711" y="92"/>
                  </a:lnTo>
                  <a:lnTo>
                    <a:pt x="677" y="105"/>
                  </a:lnTo>
                  <a:lnTo>
                    <a:pt x="650" y="117"/>
                  </a:lnTo>
                  <a:lnTo>
                    <a:pt x="634" y="126"/>
                  </a:lnTo>
                  <a:lnTo>
                    <a:pt x="583" y="117"/>
                  </a:lnTo>
                  <a:lnTo>
                    <a:pt x="554" y="117"/>
                  </a:lnTo>
                  <a:lnTo>
                    <a:pt x="516" y="130"/>
                  </a:lnTo>
                  <a:lnTo>
                    <a:pt x="483" y="143"/>
                  </a:lnTo>
                  <a:lnTo>
                    <a:pt x="449" y="147"/>
                  </a:lnTo>
                  <a:lnTo>
                    <a:pt x="420" y="147"/>
                  </a:lnTo>
                  <a:lnTo>
                    <a:pt x="382" y="147"/>
                  </a:lnTo>
                  <a:lnTo>
                    <a:pt x="332" y="159"/>
                  </a:lnTo>
                  <a:lnTo>
                    <a:pt x="302" y="168"/>
                  </a:lnTo>
                  <a:lnTo>
                    <a:pt x="252" y="168"/>
                  </a:lnTo>
                  <a:lnTo>
                    <a:pt x="189" y="159"/>
                  </a:lnTo>
                  <a:lnTo>
                    <a:pt x="143" y="159"/>
                  </a:lnTo>
                  <a:lnTo>
                    <a:pt x="76" y="176"/>
                  </a:lnTo>
                  <a:lnTo>
                    <a:pt x="34" y="180"/>
                  </a:lnTo>
                  <a:lnTo>
                    <a:pt x="0" y="189"/>
                  </a:lnTo>
                  <a:lnTo>
                    <a:pt x="0" y="164"/>
                  </a:lnTo>
                  <a:lnTo>
                    <a:pt x="26" y="143"/>
                  </a:lnTo>
                  <a:lnTo>
                    <a:pt x="55" y="130"/>
                  </a:lnTo>
                  <a:lnTo>
                    <a:pt x="105" y="67"/>
                  </a:lnTo>
                  <a:close/>
                </a:path>
              </a:pathLst>
            </a:custGeom>
            <a:solidFill>
              <a:srgbClr val="b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9480" y="1066680"/>
            <a:ext cx="1600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if we flip it over we can see why it is called a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6T14:08:59Z</dcterms:created>
  <dc:creator>dj</dc:creator>
  <dc:description/>
  <dc:language>en-US</dc:language>
  <cp:lastModifiedBy>ASD</cp:lastModifiedBy>
  <dcterms:modified xsi:type="dcterms:W3CDTF">2008-10-01T19:59:35Z</dcterms:modified>
  <cp:revision>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HTML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